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952A-BFB1-43C7-9E9C-E497B160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2576-E0AA-4A68-BEF2-82DFB4B4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5B4-3C94-40E4-ABCD-A7344F55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FAC-90AF-45A1-A78E-0E5026BA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24F9-AB78-4961-849D-A97F306E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0918-3489-41A6-8EEB-321339E0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F00C-ECCD-4B54-9227-F5F06783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B2E1-954C-4A47-AD05-84B39B6A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C397-71C6-45B9-A224-801EF33E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5AA2-A325-422D-9863-70459724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E7D8-C3E6-4F29-91F3-BC23A5A7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B3D-209B-464B-8824-7C69A679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D7A1-56C5-4A93-9551-33F319BB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7F31-6D7E-4C29-ABB9-6EA45C5B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16DD-2933-41D8-B31E-274A4DCB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5D7C-81C7-4ACC-A2C2-3EBB0072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B301-EE38-4A58-98AF-B9A6AE2D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E2B-BA02-4579-8268-5FB389C1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9001-C5CB-4968-BF56-773F9308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B99-62AA-40E7-A55F-7E9F001B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0ED6-2675-45EC-A783-A866ACC8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1236-2932-4993-A330-148E4B64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5C7B-7A22-42C8-AEB9-97137CF8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5786-A7EB-4092-A9C8-C1AF6330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192D-E842-475F-AD58-4D49A1EC411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69B1-1AD8-4716-8BB9-E67235AE42D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spa.net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dx.edu/careers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OB SEARCH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YOU’LL NE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ver letter*/Letter of interest (*These may occasionally be “optional” but it’s to your advantage to do them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ing Sample (Teaching Philosophy Statement, Vision Statement, Autobiograph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letters of recommendation*(on letterhead if from a distric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cripts (unofficial/offici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VD of sample lesson (mayb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ume Con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cus on results and accomplishments - q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uantify your accomplishments where possible (it’s not always possible)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Describe your experience: class size, hours per day, # of months, make-up of student bod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t an email address that you check regularly (make sure it is professional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lude both home and cell phones (expect a call at any time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lude dates you expect to complete your GTEP/MA degr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lude dates you expect to receive your license and any endors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lude scholarships and hon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sible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947600"/>
            <a:ext cx="41990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iv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nors/Scholarsh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censure/Endors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ing Exper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tional Exper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ty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67320" y="2012760"/>
            <a:ext cx="352584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r Ski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ngu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sional Membersh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e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ed Proj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sional Tr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n’t mention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ital stat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igh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nic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itical affili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xual orien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pho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efootprint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that you don’t have any electronic images or communications that you wouldn’t want your mother, father, grandfather, son, daughter, priest, rabbi, minister to see or read…anywher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your voicemail is appropriate, to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mployer’s Top Pet Peev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me and Cover lett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lling errors, typos and poor gramma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accurate dates or no dates at all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accurate or missing contact 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 organized we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nts that are too sm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ng resum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ng paragraphs (“I simply don’t have time to read them.”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ob Search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qualified candidates (only apply for jobs you are genuinely qualified fo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solicited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 following direc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 letters, letters of interest, letters of in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ver Letter/Letter of Intere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086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and where you found the 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you are interested in that school or district (review website thoroughl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cribe the fit between your background (skills, knowledge, experience, goals, philosophy) and that school/district/student popul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 let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res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thusiasm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ss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teaching and lear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ntion interest in relevan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tracurricular assign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ndard business letter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be absolutely error fre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ing S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demonstrate your philosophy of teaching and learning and include a description of how you teach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provide justification for your choice of teaching method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monstrates that you are reflective and purposeful about your teach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communicate your goals as an instructor and your corresponding actions in the classroo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st demonstrate mastery of spelling, grammar and organiz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u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ncipals, cooperating teachers, facul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district/university letterhe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uld have observed you tea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uld describe your strengths as an educa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be uploaded into EdZap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ducator Job Search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1066320"/>
            <a:ext cx="6781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ach Oregon (EdZap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rict websites (check once a wee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SD, NWRES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 teaching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acher job fai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SU Career Center CareerConnect jobs datab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SU Career Center website “Job Search Resources for Educator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tional data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e departments of educa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ducator Job Search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twork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47560" y="1447560"/>
            <a:ext cx="69339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alk to cooperating teacher, principal, school secretary…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alk to classmates, family, friends, faculty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Join professional associations; talk to member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roactively identify and contact principals of schools where you’d like to teach (caution!)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Do informational interviews with teachers, principals, etc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ell everyone you know that you’re looking for a teaching job (you need to know what you’re looking for)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4" descr="MCj04347500000[1]"/>
          <p:cNvPicPr/>
          <p:nvPr/>
        </p:nvPicPr>
        <p:blipFill>
          <a:blip r:embed="rId1"/>
          <a:stretch/>
        </p:blipFill>
        <p:spPr>
          <a:xfrm>
            <a:off x="4952880" y="441972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ducator Job Fairs 201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52280" y="277560"/>
            <a:ext cx="7848720" cy="70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U Graduate School of Education Job Fair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ues., May 11, 2010, 10-3, SMSU Ballroom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egon Professional Educator Fair (www.teachoregon.com)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uesday and Wednesday, April 6, 7, 20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ote: 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ril 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for pre-arranged interviews only.) Tuesday: 9:00 a.m. to 4:00 p.m.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shington Educator Career Fairs, </a:t>
            </a:r>
            <a:r>
              <a:rPr b="1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wspa.net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okane Convention Center, March 16, 9-2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coma Dome, Tacoma, April 15, 9-3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ice from the experts:  What to do to stay competitiv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involved with education and k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on sub lists: district and ESD (helps to develop relationships with administrators and teache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hired as an educational or instructional assist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y to districts that are a little farther ou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endorsements that you’re interested in teach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e to gain life and work experience that will make you a better teac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reer Center website</a:t>
            </a:r>
            <a:br>
              <a:rPr sz="48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JOB SEARCH RESOURCES FOR EDUCATOR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ww.pdx.edu/careers/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SU Career Cen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02 US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-5 M-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Ins 10-11 and 1-2 every da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ppointments: 503-725-46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pdx.edu/care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ume critiques, interview training, job search strategies, job postin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foli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72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ment of Philosop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son Pl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otographs of class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erials from lessons you have taugh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09800" y="1218960"/>
            <a:ext cx="377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Eval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lections, quotations, poet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biograp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of refere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ters of recommend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icial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crip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rtific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xis sc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t the job fairs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ect lots of peo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ess professionall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 list of districts ahead of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ng multiple copies of your resume and have resumes ready for distrib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ready for possible on-site interview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 what you’re looking for (position, age &amp; type of student), why you’re interested in that school or district and what your strengths a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able to articulate your fit for t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ition/school/district in 10 second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1892520" indent="-210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 thank you notes to district representativ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chool district employer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 generally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a hurry and reading resumes in less than a minu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ing for a specific set of skills, knowledge and experie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ing for someone who can get along with the existing t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the resume only to determine who they want to interview (not necessarily hir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many cases, your resume is being read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 a principal – not Human Resources (applicant pool vs. school specific job)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9280" y="461880"/>
            <a:ext cx="57387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 district employers say the outstanding candidate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657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ssion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bout knowledge, teaching and k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husia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bout teach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assion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ward k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lieves all children can be successfu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tively involved with ki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side and outside the classro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felong learn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m p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lues divers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has experience working with a diverse stud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a resume, school employers say they look for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evant exper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unity/Volunteer 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ety of experi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rience working with students  from diverse backgrou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rience with students with special nee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ledge of state stand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ganizing Your Resu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ce most relevant information in top 1/2 o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ge: education, licensure and endorsements, and teaching exper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uster teaching and teaching related experience (place other experience in a separate categor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lect only the most relevant of your prior experience if not directly related to teaching (but account for gaps, if possible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 a “Summary of Qualifications” category to highligh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pecific related qualifi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sume Layout and Appeara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6868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resumes should be one page (can be front and bac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mes should be visually appea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ve plenty of white sp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nt: attractive, consistent, 10-11 for body, 12 for hea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ive for 1” margins (may go down to .7 on top, bottom and left, .5 on righ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bold for highlighting (avoid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emphasis of bold+underlining+italic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 many administrators and HR staff wil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reading your resume onlin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sume Layout and Appeara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8487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light using bullets (not asterisks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gn dates on the righ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t be error free (have 2-3 people check it for typos after you spell-check it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a combined chronological/functional resume format to best highlight how your background matches the posi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print resumes, use black ink and a quality printer. (Many will be submitted electronically and viewed online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heavy paper in a neutral colo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ume Con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stomize resume to job – read job description thoroughly and use verbs and buzz words from advertisem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orporate your knowledge of district initiatives and program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action verbs in appropriate tense. (no personal pronouns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sure to include both teaching and nonteaching experie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lude extracurricular interests and activities that might be of interest to a school princip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21:51:49Z</dcterms:created>
  <dc:creator>Mary Vance</dc:creator>
  <dc:description/>
  <dc:language>en-US</dc:language>
  <cp:lastModifiedBy>Gayle Thieman</cp:lastModifiedBy>
  <dcterms:modified xsi:type="dcterms:W3CDTF">2010-02-24T01:14:14Z</dcterms:modified>
  <cp:revision>141</cp:revision>
  <dc:subject/>
  <dc:title>Teacher Job Fairs 2004</dc:title>
</cp:coreProperties>
</file>