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466-693F-4E62-B845-EFA5C812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0A0-4951-4A6A-AC58-57595C87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D6D-EBB4-42D1-8F7A-E41EAE8F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042-4809-4A9A-8AF3-7BC7D809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1B86-1192-4BEB-9085-0FAA9BE9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0D64-B308-4089-8E8A-3B6ACF8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9040-519B-4937-B397-BA817E21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302-8207-45F3-830A-84354F5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8575-E274-40AB-83C4-E3FE9BA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CB70-D3C0-4FDC-B34C-D7F82E7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969-0C52-4EBC-AFEA-31D1C2C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27D-0D3B-4C59-9307-2E7696F0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275-312A-46E8-AB33-318B10E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6C2-83A2-40F9-A253-149B34F3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FB66-EA39-4F7B-92C6-EFD1EB94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AD0-D165-4871-BD3A-7916C1DC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153E-AEBA-4C92-869A-4C8EAF5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897-62D5-4AA7-A7AC-235B703A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7B4-A51B-45F4-B73A-65974C1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3F2-CFF5-4932-9D3B-DA3B1AEE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435-A8AC-48CC-BDF8-D4B0B5A3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404-82B2-495F-AF87-69959AE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D46-71B5-4D72-9F3E-647C5051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E35-85EA-47D9-9440-417CECA2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8CF-7F08-408D-BF42-3B47217E4B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87F-8235-4B29-9F8E-CFAD73A692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spa.net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dx.edu/careers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B SEARCH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YOU’LL N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 letter*/Letter of interest (*These may occasionally be “optional” but it’s to your advantage to do them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ample (Teaching Philosophy Statement, Vision Statement, Autobiograp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letters of recommendation*(on letterhead if from a distri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 (unofficial/offi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VD of sample lesson (mayb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results and accomplishments - q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antify your accomplishments where possible (it’s not always possible)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scribe your experience: class size, hours per day, # of months, make-up of student bod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an email address that you check regularly (make sure it is professional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both home and cell phones (expect a call at any time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complete your GTEP/MA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receive your license and any endors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cholarships and hon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47600"/>
            <a:ext cx="41990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nors/Schola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ure/Endor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ty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7320" y="2012760"/>
            <a:ext cx="3525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Membe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mentio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tical affil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xual ori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ho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efootprin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you don’t have any electronic images or communications that you wouldn’t want your mother, father, grandfather, son, daughter, priest, rabbi, minister to see or read…anywhe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voicemail is appropriate, to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mployer’s Top Pet Peev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me and Cover lett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lling errors, typos and poor gramma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dates or no dates at al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or missing contac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organized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ts that are too sm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resum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paragraphs (“I simply don’t have time to read them.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b Searc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qualified candidates (only apply for jobs you are genuinely qualified f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solici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following dire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, letters of interest, letters of i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ver Letter/Letter of Intere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nd where you found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you are interested in that school or district (review website thorough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 fit between your background (skills, knowledge, experience, goals, philosophy) and that school/district/student popu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husiasm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ss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eaching and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ion interest in relevan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tracurricular assign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business letter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solutely error fre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S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demonstrate your philosophy of teaching and learning and include a description of how you tea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provide justification for your choice of teaching meth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s that you are reflective and purposeful about your tea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communicate your goals as an instructor and your corresponding actions in the classro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demonstrate mastery of spelling, grammar and organiz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als, cooperating teachers, facul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district/university letter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observed you t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describe your strengths as an educ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uploaded into EdZap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0663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 Oregon (EdZap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ct websites (check once a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D, NWRES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teaching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job fa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CareerConnect job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website “Job Search Resources for Educato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departments of edu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ooperating teacher, principal, school secretary…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lassmates, family, friends, facult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Join professional associations; talk to memb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actively identify and contact principals of schools where you’d like to teach (caution!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o informational interviews with teachers, principals, etc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ll everyone you know that you’re looking for a teaching job (you need to know what you’re looking for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MCj04347500000[1]"/>
          <p:cNvPicPr/>
          <p:nvPr/>
        </p:nvPicPr>
        <p:blipFill>
          <a:blip r:embed="rId1"/>
          <a:stretch/>
        </p:blipFill>
        <p:spPr>
          <a:xfrm>
            <a:off x="495288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Fairs 20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277560"/>
            <a:ext cx="784872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U Graduate School of Education Job Fair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., May 11, 2010, 10-3, SMSU Ballroom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egon Professional Educator Fair (www.teachoregon.com)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day and Wednesday, April 6, 7, 20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e: 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ril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r pre-arranged interviews only.) Tuesday: 9:00 a.m. to 4:00 p.m.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ington Educator Career Fairs, </a:t>
            </a:r>
            <a:r>
              <a:rPr b="1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wspa.net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ane Convention Center, March 16, 9-2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coma Dome, Tacoma, April 15, 9-3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 from the experts:  What to do to stay compet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involved with education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on sub lists: district and ESD (helps to develop relationships with administrators and teach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hired as an educational or instructional assi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to districts that are a little farther o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endorsements that you’re interested in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 to gain life and work experience that will make you a bette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reer Center website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OB SEARCH RESOURCES FOR EDUCATO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w.pdx.edu/careers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SU Career Ce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2 US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 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ns 10-11 and 1-2 every da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ppointments: 503-725-46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dx.edu/care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me critiques, interview training, job search strategies, job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fol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Philoso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 of clas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 from lessons you have ta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Eval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ions, quotations, po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ers of recommend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icial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ific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xis sc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job fair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lots of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ess professional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list of districts ahead of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multiple copies of your resume and have resumes ready for dis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y for possible on-site intervie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what you’re looking for (position, age &amp; type of student), why you’re interested in that school or district and what your strength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ble to articulate your fit for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on/school/district in 10 secon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89252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thank you notes to district representativ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 district employ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 generally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hurry and reading resumes in less than a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a specific set of skills, knowledge and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someone who can get along with the existing t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resume only to determine who they want to interview (not necessarily hi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cases, your resume is being read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 principal – not Human Resources (applicant pool vs. school specific job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9280" y="461880"/>
            <a:ext cx="5738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district employers say the outstanding candidat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57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knowledge, teaching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husia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war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ves all children can be success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ely involved with ki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ide and outside the class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elong lear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m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ues divers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has experience working with a diverse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 resume, school employers say they look fo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evant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/Volunteer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ety of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orking with students  from diverse backg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ith students with speci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stat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ganizing Your Resu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most relevant information in top 1/2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ge: education, licensure and endorsements, and 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uster teaching and teaching related experience (place other experience in a separate categ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only the most relevant of your prior experience if not directly related to teaching (but account for gaps, if possible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a “Summary of Qualifications” category to highligh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ecific related qualifi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resumes should be one page (can be front and b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mes should be visually appea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 plenty of whi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t: attractive, consistent, 10-11 for body, 12 for h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ve for 1” margins (may go down to .7 on top, bottom and left, .5 on rig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bold for highlighting (avo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emphasis of bold+underlining+itali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many administrators and HR staff w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ing your resume onli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848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ight using bullets (not asterisk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gn dates on the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be error free (have 2-3 people check it for typos after you spell-check i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combined chronological/functional resume format to best highlight how your background matches the posi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int resumes, use black ink and a quality printer. (Many will be submitted electronically and viewed onlin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eavy paper in a neutral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ize resume to job – read job description thoroughly and use verbs and buzz words from advertise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your knowledge of district initiatives and progr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ction verbs in appropriate tense. (no personal pronoun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include both teaching and nonteaching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extracurricular interests and activities that might be of interest to a school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1:49Z</dcterms:created>
  <dc:creator>Mary Vance</dc:creator>
  <dc:description/>
  <dc:language>en-US</dc:language>
  <cp:lastModifiedBy>Gayle Thieman</cp:lastModifiedBy>
  <dcterms:modified xsi:type="dcterms:W3CDTF">2010-02-24T01:14:14Z</dcterms:modified>
  <cp:revision>141</cp:revision>
  <dc:subject/>
  <dc:title>Teacher Job Fairs 2004</dc:title>
</cp:coreProperties>
</file>