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6625A-A9FA-4C3A-9021-F04960E00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Tim Eagan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5FA5C-221A-4ED9-B6A3-B4FC0F6DE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Bill Day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787B6-81A9-400C-9EA4-85AE24223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Randy Bish.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D61EC-816F-406C-A1AB-1019BF352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Petar Pismestrovic - All Rights Reserved. (Printed in Kleine Zeitung, Austria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1E7BF-A5BA-44F5-9183-3A3195F98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Riber Hansson - All Rights Reserved. (Printed in Sydsvenskan, Swede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B056E-CE71-4CB5-A2B9-640935BEB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BEST AND WITTIEST-KEVIN SIERS- © 2014 NORTH AMERICA SYNDIC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C8512-3B77-4A1F-8E74-E7F15D1A1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Jeff Danziger 20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toonArts International / NYT Syndiwww.nytsyn.com/cartoonsc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toonArts International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201B2-BA89-474D-8360-E1E4F567E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52C-5E21-4809-A0D6-AB61598C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FCD-020A-44F3-9864-AF4C0DD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6AD-DC0A-4CD1-8D61-78482AB7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046-97A7-4795-AC29-936D58F0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AF2-0B4D-4B7D-9FFF-EBEB7517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D97-DCEB-4CE5-B5F0-E604FDB2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E13-97F9-4D45-BF63-E459A4E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6F6-4284-4E87-9C73-2EA4CFFC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506-88C4-41F6-A7C1-70A7572A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271-D4FC-4353-9559-D26EA636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67D-6855-4289-8BDB-A2195B0E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A17-1346-47DF-AA39-30106D95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80B39-51C6-4F80-A513-ADD296FC5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108_153239.jpg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1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4" descr="Hammer.psd"/>
          <p:cNvPicPr/>
          <p:nvPr/>
        </p:nvPicPr>
        <p:blipFill>
          <a:blip r:embed="rId1"/>
          <a:srcRect l="0" t="0" r="-1266" b="292"/>
          <a:stretch/>
        </p:blipFill>
        <p:spPr>
          <a:xfrm>
            <a:off x="457200" y="115920"/>
            <a:ext cx="8334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LazySherrif.psd"/>
          <p:cNvPicPr/>
          <p:nvPr/>
        </p:nvPicPr>
        <p:blipFill>
          <a:blip r:embed="rId1"/>
          <a:srcRect l="387" t="0" r="387" b="0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823413F1-1918-46FC-BE24-8AB08D196B5C.jpg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D23469F8-80CB-4126-AB59-8D0516E30632.jpg"/>
          <p:cNvPicPr/>
          <p:nvPr/>
        </p:nvPicPr>
        <p:blipFill>
          <a:blip r:embed="rId1"/>
          <a:stretch/>
        </p:blipFill>
        <p:spPr>
          <a:xfrm>
            <a:off x="2154240" y="274680"/>
            <a:ext cx="4835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Soccer.psd"/>
          <p:cNvPicPr/>
          <p:nvPr/>
        </p:nvPicPr>
        <p:blipFill>
          <a:blip r:embed="rId1"/>
          <a:srcRect l="0" t="-775" r="0" b="-1139"/>
          <a:stretch/>
        </p:blipFill>
        <p:spPr>
          <a:xfrm>
            <a:off x="457200" y="181080"/>
            <a:ext cx="82296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Rebels.psd"/>
          <p:cNvPicPr/>
          <p:nvPr/>
        </p:nvPicPr>
        <p:blipFill>
          <a:blip r:embed="rId1"/>
          <a:srcRect l="1011" t="0" r="1011" b="0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3:38:22Z</dcterms:created>
  <dc:creator>Andy Blackadar</dc:creator>
  <dc:description/>
  <dc:language>en-US</dc:language>
  <cp:lastModifiedBy>Gayle Thieman</cp:lastModifiedBy>
  <dcterms:modified xsi:type="dcterms:W3CDTF">2015-02-04T21:01:39Z</dcterms:modified>
  <cp:revision>5</cp:revision>
  <dc:subject/>
  <dc:title>PowerPoint Presentation</dc:title>
</cp:coreProperties>
</file>