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2DBAA-BF51-4479-869C-F30CE795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Tim Eagan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E2613-FF09-425F-91A2-5A2C384C9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Bill Day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C4447-89BF-4B8D-8C95-FA1920A03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andy Bish.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670B2-DE80-40F8-904F-B752FA37C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Petar Pismestrovic - All Rights Reserved. (Printed in Kleine Zeitung, Austria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63A0F-AEEC-4E39-817C-F13E9E3D8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iber Hansson - All Rights Reserved. (Printed in Sydsvenskan, Swede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408EF-C4E7-4E42-BAA2-E1997508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BEST AND WITTIEST-KEVIN SIERS- © 2014 NORTH AMERICA SYNDIC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548E-942B-4A24-B4BB-DCA4B9FBB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Jeff Danziger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 / NYT Syndiwww.nytsyn.com/cartoonsc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8ADB2-F31D-4100-90A1-D9C3C0E3B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BF8-67B8-42F1-A1C5-AAD67D8C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6FA-D58C-4298-8583-1578FFB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BB5-6E65-41BB-B349-1A87EDFF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9BF-6F38-4F26-AF66-D41BBC0E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836-868E-41BC-AC59-97740B6E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C24-801B-4D4E-A040-A5757B92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870-18EF-43E3-894F-550E26E4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359-3FC5-444C-A05E-2146178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1D-56A0-487A-BABC-D8BB481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259-7231-44C8-9123-6DAF351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3F0-07DE-486E-928C-563B527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A7-C9F2-4F25-9A45-367B820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1A71F-7EB2-4128-9D79-8AC3002EB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08_153239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1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4" descr="Hammer.psd"/>
          <p:cNvPicPr/>
          <p:nvPr/>
        </p:nvPicPr>
        <p:blipFill>
          <a:blip r:embed="rId1"/>
          <a:srcRect l="0" t="0" r="-1266" b="292"/>
          <a:stretch/>
        </p:blipFill>
        <p:spPr>
          <a:xfrm>
            <a:off x="457200" y="115920"/>
            <a:ext cx="833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LazySherrif.psd"/>
          <p:cNvPicPr/>
          <p:nvPr/>
        </p:nvPicPr>
        <p:blipFill>
          <a:blip r:embed="rId1"/>
          <a:srcRect l="387" t="0" r="387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823413F1-1918-46FC-BE24-8AB08D196B5C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D23469F8-80CB-4126-AB59-8D0516E30632.jpg"/>
          <p:cNvPicPr/>
          <p:nvPr/>
        </p:nvPicPr>
        <p:blipFill>
          <a:blip r:embed="rId1"/>
          <a:stretch/>
        </p:blipFill>
        <p:spPr>
          <a:xfrm>
            <a:off x="2154240" y="274680"/>
            <a:ext cx="4835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Soccer.psd"/>
          <p:cNvPicPr/>
          <p:nvPr/>
        </p:nvPicPr>
        <p:blipFill>
          <a:blip r:embed="rId1"/>
          <a:srcRect l="0" t="-775" r="0" b="-1139"/>
          <a:stretch/>
        </p:blipFill>
        <p:spPr>
          <a:xfrm>
            <a:off x="457200" y="181080"/>
            <a:ext cx="82296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Rebels.psd"/>
          <p:cNvPicPr/>
          <p:nvPr/>
        </p:nvPicPr>
        <p:blipFill>
          <a:blip r:embed="rId1"/>
          <a:srcRect l="1011" t="0" r="1011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3:38:22Z</dcterms:created>
  <dc:creator>Andy Blackadar</dc:creator>
  <dc:description/>
  <dc:language>en-US</dc:language>
  <cp:lastModifiedBy>Gayle Thieman</cp:lastModifiedBy>
  <dcterms:modified xsi:type="dcterms:W3CDTF">2015-02-04T21:01:39Z</dcterms:modified>
  <cp:revision>5</cp:revision>
  <dc:subject/>
  <dc:title>PowerPoint Presentation</dc:title>
</cp:coreProperties>
</file>