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52907-1B04-4894-8A5A-B5A8ABDCD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Tim Eagan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E046D-818A-45B1-AE52-B3BFEA337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Bill Day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F3ED2-C9A0-4E52-8CEE-C4BB86F36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andy Bish.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94624-872B-4A11-8483-4A2D26B65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Petar Pismestrovic - All Rights Reserved. (Printed in Kleine Zeitung, Austria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FEA38-56F9-45A6-8641-E70590BD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4 Riber Hansson - All Rights Reserved. (Printed in Sydsvenskan, Swede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337F3-1472-4F80-8CCC-2C664AB58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BEST AND WITTIEST-KEVIN SIERS- © 2014 NORTH AMERICA SYNDIC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92512-F0FE-43F8-8965-6DF118803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Jeff Danziger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 / NYT Syndiwww.nytsyn.com/cartoonsc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toonArts International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C5A90-9849-4FE7-BA40-5A935ABA4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4D9-BB6E-4B20-8296-DE2FA89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E07-0D20-49D2-A08B-F2EED9A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9F5-F0BD-4BE2-A7A6-63C95BB1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652-B989-45CF-9969-947C0CED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298-528A-4FA2-A0E9-16A21090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FD1-4CB4-4424-9DF2-A996958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4F7-0DB5-4C7A-AD3D-7059371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CC2-6481-4F9E-A4FC-FB7F0793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F1B-04E2-49C0-BB79-CB64D532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5FB-2E75-4CDD-BAF5-D42CE7E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D93-6C97-4CDE-8568-F35FEB0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1E3-297A-4BAF-96B8-A2D2C92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D9CD0-B666-4675-BC16-09117E5CC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108_153239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1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4" descr="Hammer.psd"/>
          <p:cNvPicPr/>
          <p:nvPr/>
        </p:nvPicPr>
        <p:blipFill>
          <a:blip r:embed="rId1"/>
          <a:srcRect l="0" t="0" r="-1266" b="292"/>
          <a:stretch/>
        </p:blipFill>
        <p:spPr>
          <a:xfrm>
            <a:off x="457200" y="115920"/>
            <a:ext cx="833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LazySherrif.psd"/>
          <p:cNvPicPr/>
          <p:nvPr/>
        </p:nvPicPr>
        <p:blipFill>
          <a:blip r:embed="rId1"/>
          <a:srcRect l="387" t="0" r="387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823413F1-1918-46FC-BE24-8AB08D196B5C.jpg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D23469F8-80CB-4126-AB59-8D0516E30632.jpg"/>
          <p:cNvPicPr/>
          <p:nvPr/>
        </p:nvPicPr>
        <p:blipFill>
          <a:blip r:embed="rId1"/>
          <a:stretch/>
        </p:blipFill>
        <p:spPr>
          <a:xfrm>
            <a:off x="2154240" y="274680"/>
            <a:ext cx="4835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Soccer.psd"/>
          <p:cNvPicPr/>
          <p:nvPr/>
        </p:nvPicPr>
        <p:blipFill>
          <a:blip r:embed="rId1"/>
          <a:srcRect l="0" t="-775" r="0" b="-1139"/>
          <a:stretch/>
        </p:blipFill>
        <p:spPr>
          <a:xfrm>
            <a:off x="457200" y="181080"/>
            <a:ext cx="82296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Rebels.psd"/>
          <p:cNvPicPr/>
          <p:nvPr/>
        </p:nvPicPr>
        <p:blipFill>
          <a:blip r:embed="rId1"/>
          <a:srcRect l="1011" t="0" r="1011" b="0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13:38:22Z</dcterms:created>
  <dc:creator>Andy Blackadar</dc:creator>
  <dc:description/>
  <dc:language>en-US</dc:language>
  <cp:lastModifiedBy>Gayle Thieman</cp:lastModifiedBy>
  <dcterms:modified xsi:type="dcterms:W3CDTF">2015-02-04T21:01:39Z</dcterms:modified>
  <cp:revision>5</cp:revision>
  <dc:subject/>
  <dc:title>PowerPoint Presentation</dc:title>
</cp:coreProperties>
</file>