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E14E41-6938-453E-ADC3-83F1978D8F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Copyright 2014 Tim Eagan - All Rights Reserv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7106D0-4A6B-4A2C-8CAA-385C0CAD55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Copyright 2014 Bill Day - All Rights Reserv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ABF3A2-7314-4B82-A26C-8700E4F6BB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Copyright 2014 Randy Bish. All Rights Reserv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99D7C0-12AD-4AB9-8F25-D1EC58EE25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Copyright 2014 Petar Pismestrovic - All Rights Reserved. (Printed in Kleine Zeitung, Austria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C14E75-578E-4723-8150-5D48A94BCD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Copyright 2014 Riber Hansson - All Rights Reserved. (Printed in Sydsvenskan, Sweden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42642E-4F1C-4007-9DB0-9F8F95FE32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BEST AND WITTIEST-KEVIN SIERS- © 2014 NORTH AMERICA SYNDICA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794E9E-029C-4C72-A106-19915446E2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Jeff Danziger 2014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toonArts International / NYT Syndiwww.nytsyn.com/cartoonsca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toonArts International: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F08153-02AF-4F7D-A7FA-9B7E2601F3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BDAB-811F-4E51-BCFD-AAAC819BD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D2D3-2C7A-4636-9140-19700CCD7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6D2C-D644-4EE4-BEAD-6EA03AE9B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7A8D-A609-4FE3-83F6-2D46CE954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620E-05AA-4F68-A881-EC03EE116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0AFB-ACB6-4F75-BE13-2BF2DD6EF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1044-7AA2-4366-99BF-3A342B5FB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7245-A885-4DB9-8758-5E9668F0E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B651-BF94-497C-A123-D2FD315EF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767E-EFEC-420C-B375-938A2A34C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8FEE-A1E0-4319-884A-A6A951896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9F17-0846-45B0-801E-43657C461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88D584-5354-473C-A09C-E2403ED20B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108_153239.jpg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717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ontent Placeholder 4" descr="Hammer.psd"/>
          <p:cNvPicPr/>
          <p:nvPr/>
        </p:nvPicPr>
        <p:blipFill>
          <a:blip r:embed="rId1"/>
          <a:srcRect l="0" t="0" r="-1266" b="292"/>
          <a:stretch/>
        </p:blipFill>
        <p:spPr>
          <a:xfrm>
            <a:off x="457200" y="115920"/>
            <a:ext cx="8334360" cy="61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Content Placeholder 2" descr="LazySherrif.psd"/>
          <p:cNvPicPr/>
          <p:nvPr/>
        </p:nvPicPr>
        <p:blipFill>
          <a:blip r:embed="rId1"/>
          <a:srcRect l="387" t="0" r="387" b="0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823413F1-1918-46FC-BE24-8AB08D196B5C.jpg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D23469F8-80CB-4126-AB59-8D0516E30632.jpg"/>
          <p:cNvPicPr/>
          <p:nvPr/>
        </p:nvPicPr>
        <p:blipFill>
          <a:blip r:embed="rId1"/>
          <a:stretch/>
        </p:blipFill>
        <p:spPr>
          <a:xfrm>
            <a:off x="2154240" y="274680"/>
            <a:ext cx="483552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Content Placeholder 2" descr="Soccer.psd"/>
          <p:cNvPicPr/>
          <p:nvPr/>
        </p:nvPicPr>
        <p:blipFill>
          <a:blip r:embed="rId1"/>
          <a:srcRect l="0" t="-775" r="0" b="-1139"/>
          <a:stretch/>
        </p:blipFill>
        <p:spPr>
          <a:xfrm>
            <a:off x="457200" y="181080"/>
            <a:ext cx="8229600" cy="65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Content Placeholder 2" descr="Rebels.psd"/>
          <p:cNvPicPr/>
          <p:nvPr/>
        </p:nvPicPr>
        <p:blipFill>
          <a:blip r:embed="rId1"/>
          <a:srcRect l="1011" t="0" r="1011" b="0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08T13:38:22Z</dcterms:created>
  <dc:creator>Andy Blackadar</dc:creator>
  <dc:description/>
  <dc:language>en-US</dc:language>
  <cp:lastModifiedBy>Gayle Thieman</cp:lastModifiedBy>
  <dcterms:modified xsi:type="dcterms:W3CDTF">2015-02-04T21:01:39Z</dcterms:modified>
  <cp:revision>5</cp:revision>
  <dc:subject/>
  <dc:title>PowerPoint Presentation</dc:title>
</cp:coreProperties>
</file>