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160880" y="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60880" y="8717040"/>
            <a:ext cx="3198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71704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3198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64800" y="4357440"/>
            <a:ext cx="50785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1486080" cy="6856560"/>
              <a:chOff x="0" y="0"/>
              <a:chExt cx="14860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00" y="50760"/>
                <a:ext cx="147348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7" name="Group 14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7600" y="181764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7600" y="177948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7600" y="173196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7600" y="167796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52388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8" name="Group 10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1531800" y="3102120"/>
                <a:ext cx="7561440" cy="1681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60" name="Line 5"/>
              <p:cNvSpPr/>
              <p:nvPr/>
            </p:nvSpPr>
            <p:spPr>
              <a:xfrm>
                <a:off x="1538280" y="327672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>
                <a:off x="1538280" y="323856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62" name="Line 7"/>
              <p:cNvSpPr/>
              <p:nvPr/>
            </p:nvSpPr>
            <p:spPr>
              <a:xfrm>
                <a:off x="1538280" y="319104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>
                <a:off x="1538280" y="3137040"/>
                <a:ext cx="75549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65" name="Group 17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6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67" name="Group 16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8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612800"/>
                  <a:ext cx="1473120" cy="15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Freeform 13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70" name="Freeform 14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71" name="Freeform 15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harcoal"/>
              </a:rPr>
              <a:t>What Is a Work Sample, Anyway?</a:t>
            </a:r>
            <a:br>
              <a:rPr sz="5400"/>
            </a:br>
            <a:r>
              <a:rPr b="1" lang="en-US" sz="3600" spc="-1" strike="noStrike">
                <a:solidFill>
                  <a:srgbClr val="cc0000"/>
                </a:solidFill>
                <a:latin typeface="Charcoal"/>
              </a:rPr>
              <a:t>--- Useful Tips to Create an  Excellent Work  Sample 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743200" y="4114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Gayle Y. Thieman, Ed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Useful Tips (4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9600" y="1294920"/>
            <a:ext cx="7626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harcoal"/>
              </a:rPr>
              <a:t>Lesson Plan Format in Works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1) Lesson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2) Lesson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3) Standards ref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4) Material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5) Introduction/anticipatory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6) Body: Procedures, activities, and steps with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7) Closure/assessment (Informal or f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rcoal"/>
              </a:rPr>
              <a:t>8) Accommodations or adaptations for exceptional lea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8) Reflections (It is very useful to write down reflections after each lesson when your memory is still fresh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harcoal"/>
              </a:rPr>
              <a:t>NOTE:  Make changes to your next day’s lesson  to reflect your experience in this lesson! Principals especially like this kind of responsive teaching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Useful Tips (5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7760" y="1219320"/>
            <a:ext cx="7626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Assessment analysis should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1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rcoal"/>
              </a:rPr>
              <a:t>Comparison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of pre- and post-assessment data making explicit who has made what level of progress in relation to unit goals and objectiv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2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rcoal"/>
              </a:rPr>
              <a:t>Disaggregation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rcoal"/>
              </a:rPr>
              <a:t>comparison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of learning data for specific students, e.g. TAG, IEP, ESL, SPE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3) Summary of data to provide evidence of individual students’ learning gains and whole clas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4) REMOVE STUDENTS NAMES from samples and tests you include in your work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Useful Tips (6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218960"/>
            <a:ext cx="7664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harcoal"/>
              </a:rPr>
              <a:t>Interpretation, Analysis, and Use of student learning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Times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rcoal"/>
              </a:rPr>
              <a:t>Analysis and reflection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on why the data shows what trends, especially in connection to unit goals and objectives, but  also to standards and benchma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Times"/>
              <a:buChar char="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Explain student learning in relation to the learning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escribe how you could use data on learning gains in subsequent instruction and in reporting progress to students,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iteracy/Technology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ful attention to literacy instruction based on content requirements, authorization level, and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 integrates appropriate technology that makes a noticeable contribution to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harcoal"/>
              </a:rPr>
              <a:t>Finally, ……………….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s on the whole unit exper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ghts into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understandings for teaching this unit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your strengths and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harcoal"/>
              </a:rPr>
              <a:t>A Work Sample is NO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 case of total perfection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 state of “stability” where lesson plans are iron-clad and no changes ar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 compilation of perfectly written lesson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JUST a requirement for TSPC and the GTEP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harcoal"/>
              </a:rPr>
              <a:t>A Work Sample IS: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Challenging: How come some students just don’t ge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Unpredictable: Not everything goes  the way  I h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Time Consuming:  Don’t procrast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ifficult: What should I include and exclude in this work s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562720" y="594360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63760" y="4878360"/>
            <a:ext cx="6168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harcoal"/>
              </a:rPr>
              <a:t>BUT: A well-thought out work sample can be pivotal in career development.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79680" y="3805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harcoal"/>
              </a:rPr>
              <a:t>A Good Work Sample Documents 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Your students’ achiev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Your skill in working with students of variou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Your constant reflection and modification to meet the needs of different students, such as LEP, IEP, ADHD, TA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Your skills in curriculum design, instructional delivery, and appropriate and relevant assess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harcoal"/>
              </a:rPr>
              <a:t>AND WORK  SAMPLES HELP A GREAT DEAL IN JOB INTERVIEW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657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6560" indent="-447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monstration of your learning and students’ learning gains in thi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47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Integrated, theme-based unit plan and lessons that tie to state and district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47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ppropriate and relevant pre- and post-assessment, and insightful analysis/interpretation of stud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47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Reflections, and possible ways of using student learn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Focus of the Work Sample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2) </a:t>
            </a: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Format of the worksample: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7760" y="1447560"/>
            <a:ext cx="76262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Learning Context: community, school, and cla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Unit Goals and ration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Pre-Instruction Assessment &amp;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Instructional Plans (Lesson objectiv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Post-Instruction Assessment: Tool and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Interpretation, use and reflection on student learning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Personal reflection on unit experi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rcoal"/>
              </a:rPr>
              <a:t>Attention to literacy stand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Useful Tips (1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240" y="1219320"/>
            <a:ext cx="7359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harcoal"/>
              </a:rPr>
              <a:t>The Learning Con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All learning is situated. Therefore, community, school, and class characteristics are important in designing any curricul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Things to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1) Demographic, linguistic, cultural, economic, and academic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2) Tie this data to your rationale and goals of the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3) Reflect on how your unit serves your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4) Reflect on how the learning data can serve the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Useful Tips (2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9600" y="1143000"/>
            <a:ext cx="7626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harcoal"/>
              </a:rPr>
              <a:t>Unit goals, rationale, and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Unit goals and rationale need to be connected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1) Your big idea (Essential Ques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2) State and district standards and benchma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3) Unit goals and objectives need to be able to encompass the goals and objectives of ALL lesson plans in the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harcoal"/>
              </a:rPr>
              <a:t>Useful Tips (3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79600" y="1143000"/>
            <a:ext cx="7626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harcoal"/>
              </a:rPr>
              <a:t>Pre-Instruction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esign Pre-Instruction Assessment tool to refl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rcoal"/>
              </a:rPr>
              <a:t>accurately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ALL UNIT 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Include both closed, and open ques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Include a scoring rubric so that students’ data can be consistently analyz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Make sure that you include information about how you are going to score/ grade open-ended questions and drawings (if an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Address similar questions/skills on pre-post assessment. Use a variety of assessment forma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9:53:45Z</dcterms:created>
  <dc:creator>Gayle Thieman</dc:creator>
  <dc:description/>
  <dc:language>en-US</dc:language>
  <cp:lastModifiedBy>Gayle Thieman</cp:lastModifiedBy>
  <cp:lastPrinted>2008-09-03T21:49:52Z</cp:lastPrinted>
  <dcterms:modified xsi:type="dcterms:W3CDTF">2010-12-05T04:33:51Z</dcterms:modified>
  <cp:revision>6</cp:revision>
  <dc:subject/>
  <dc:title>What Is a Work Sample, Anyway? --- Useful Tips to Create an  Excellent Work  Sample </dc:title>
</cp:coreProperties>
</file>