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8686-3639-4783-B506-8E47D915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D6DA-01B9-4416-8C27-FF66F4BC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FA94-3D79-4A5F-9C77-5B891807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CAA2-F3D1-45DA-991E-0FE2C223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495B-E36B-4BAC-8F46-A7B91884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9052-F66E-47FC-BF1E-94A7A3D1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C566-804B-4618-9E45-AF62B055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5379-35CB-4759-AC7E-B6E15588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B8FB-2C45-4AAF-B70B-E4CF4A22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BF98-A09C-44B2-8F82-12CBB306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87BB-7129-4401-A661-21C020BD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144-AA52-4ADF-A9D4-F311997F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D5F5-050D-4E18-A5C8-39A7F101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4D3E-DE9E-4C41-828E-E7A5ECA7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7449-245F-4020-BC34-E433CE75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A7AC-D185-4D82-A09B-CE17A442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C138-CB7D-4FFA-9591-62CC6992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572E-59AE-47B0-A6F3-735B8DEE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8C06-66F0-4B25-86C9-AD1DBAB3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202-70F9-4307-B99D-5B7895B9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858D-1CDD-4AA9-B106-D28D30AE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C1C4-817A-4D05-8D74-1E0A5E90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283C-C23C-41C9-BC73-C0F9BBAF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F895-A615-4FD7-83B0-891798D2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3b3b57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3b3b57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0335-758E-48F4-9FA9-7EF6224006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3b3b57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3b3b57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C75E-3625-47B9-AEB3-31E809654E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Work Sample Evaluation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on Learning G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retation of Learning Gain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of Learning Gain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j0397504"/>
          <p:cNvPicPr/>
          <p:nvPr/>
        </p:nvPicPr>
        <p:blipFill>
          <a:blip r:embed="rId1"/>
          <a:stretch/>
        </p:blipFill>
        <p:spPr>
          <a:xfrm>
            <a:off x="6629400" y="2133720"/>
            <a:ext cx="1825560" cy="141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ocuments to Include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rative analysis based on guide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on students achieving or not achieving goals and objectives and the reason(s) if they have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tion/examples of reporting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j0398157"/>
          <p:cNvPicPr/>
          <p:nvPr/>
        </p:nvPicPr>
        <p:blipFill>
          <a:blip r:embed="rId1"/>
          <a:stretch/>
        </p:blipFill>
        <p:spPr>
          <a:xfrm>
            <a:off x="6248520" y="4724280"/>
            <a:ext cx="136188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riteria for Scoring Section IV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ments measure all unit goals and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ments measure a range of cognitive/performance 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e assessment formats are provided that measure the same goals &amp;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ring guides/rubrics &amp; examples are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is included and analyzed for individual students, whole group and sub-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riteria for Scoring Section V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em analysis of assessment tools is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s presented to support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/Unmet status of goals &amp; objectives is included along with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of groups to determine why they were more or less successful is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s are reported vis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riteria for Scoring Section VI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ptions of the effectiveness of the unit are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aneous and context factors are identified and discu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cations for future teaching are discu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cations for modification of this or other instruction is discu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ing methods and examples are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ata on Learning Gain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r assessments measure the goals and objectives for the un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lternate forms of assessment have you used based on the contex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ssessments have you done during lesson activit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riteria are you using for your assessments (scoring guides, rubrics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Guideline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 and post- assessments are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s measure progress toward unit &amp; lesson goals &amp; 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s displayed &amp; analyzed for each student’s progress/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s summarized for the whole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s summarized for sub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confidentiality is mainta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ocuments to Include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 and Post- assessments/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assessment tools/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brics, scoring guides, check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student work that illustrate your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s presented in a visual format (especially for whole or sub-grou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Interpretation of Learning Gains Data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you explain student performance (item by item) on your pre- and post-assessm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think students performed the way they did (context, outside influenc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have you determined whether goals &amp; objectives were m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you modify your assessment plans/tools based on this interpret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Guideline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learning gains are explained relative to goals, objectives &amp;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learning gains are explained in relation to the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ifications to assessment tools/plans are suggested based on interpretation of learning gains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ocuments to Include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analysis of why some students or groups of students were more successful than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analysis of the assessment instruments themsel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ts and graphs that help illustrate your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Use of Data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interpretation of what happened as you taught the un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think some students learned more than oth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s your analysis of the data shown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you use this analys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have you reported progress to students and par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j0408982"/>
          <p:cNvPicPr/>
          <p:nvPr/>
        </p:nvPicPr>
        <p:blipFill>
          <a:blip r:embed="rId1"/>
          <a:stretch/>
        </p:blipFill>
        <p:spPr>
          <a:xfrm>
            <a:off x="5638680" y="2286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Guideline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goals, materials, activities, assessments for their effectiv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 possible mod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implication for further instruction based on the outcomes of this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how you have reported progress to students, parents,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23:29:48Z</dcterms:created>
  <dc:creator>David Bullock</dc:creator>
  <dc:description/>
  <dc:language>en-US</dc:language>
  <cp:lastModifiedBy>Gayle Thieman</cp:lastModifiedBy>
  <dcterms:modified xsi:type="dcterms:W3CDTF">2012-08-26T00:16:37Z</dcterms:modified>
  <cp:revision>5</cp:revision>
  <dc:subject/>
  <dc:title>Work Sample Evaluation</dc:title>
</cp:coreProperties>
</file>