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553-3FD2-4168-81A6-7D8BE2C8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E51-08D5-4B06-BE10-D8D013C3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3CE-B54F-46E2-9384-6AE99A5A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B99-AE53-4463-87E5-9FE7AF52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59D4-8B27-42E8-BB45-987025E7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0F1D-7BEC-40A1-AE92-9FA2FBA5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A882-AAD6-493F-8111-02DAF532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0F76-B643-4155-B888-8618C14F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DA7A-9E91-41DA-86C0-264602BE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34C2-6134-4C94-A0BC-918EB38C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38B6-A61B-4865-BAD7-D3D519B1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C56-43BB-4B2D-A922-5D238F9B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5FA6-868D-41DF-9EE9-114BFCAE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FFC0-46E0-4AB7-A248-1BEF1111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9429-9AA7-4597-B816-3E713AFE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38A5-1357-447E-87AA-D4F1BAE1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ED2F-008F-4546-A038-EB71B99C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2E9-D0DE-4612-9D11-10087128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545-8857-443D-85A0-9C9C3082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0AE-6ABB-4455-99F5-BE49795C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9FD-CFE5-4AF0-9E8D-7A50B4C9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DF1-3819-4EDE-A7F3-096263BD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346-B713-42E6-9FBE-B08FE2EA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47D-3E8E-41B5-82A6-50489A6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C8E0-06FC-495F-9E59-CD5F43702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47C1-23B0-4940-8A89-CAC085DC5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Work Sample Evaluation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on Learning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 of Learning Gain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rning Gain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j0397504"/>
          <p:cNvPicPr/>
          <p:nvPr/>
        </p:nvPicPr>
        <p:blipFill>
          <a:blip r:embed="rId1"/>
          <a:stretch/>
        </p:blipFill>
        <p:spPr>
          <a:xfrm>
            <a:off x="6629400" y="2133720"/>
            <a:ext cx="1825560" cy="14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analysis based on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on students achieving or not achieving goals and objectives and the reason(s) if they have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/examples of report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j0398157"/>
          <p:cNvPicPr/>
          <p:nvPr/>
        </p:nvPicPr>
        <p:blipFill>
          <a:blip r:embed="rId1"/>
          <a:stretch/>
        </p:blipFill>
        <p:spPr>
          <a:xfrm>
            <a:off x="6248520" y="4724280"/>
            <a:ext cx="13618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IV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 measure all unit goals and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 measure a range of cognitive/performance 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 assessment formats are provided that measure the same goals &amp;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ing guides/rubrics &amp; examples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is included and analyzed for individual students, whole group and sub-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V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 analysis of assessment tools is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presented to suppor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/Unmet status of goals &amp; objectives is included along with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of groups to determine why they were more or less successful is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s are reported vis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VI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s of the effectiveness of the unit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neous and context factors are identified and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for future teaching are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for modification of this or other instruction is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ing methods and examples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ata on Learning Gain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r assessments measure the goals and objectives for the un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lternate forms of assessment have you used based on the cont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ssessments have you done during lesson activ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riteria are you using for your assessments (scoring guides, rubric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and post- assessments ar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s measure progress toward unit &amp; lesson goals &amp;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displayed &amp; analyzed for each student’s progress/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summarized for the whole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summarized for sub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confidentiality is maint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and Post- assessments/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essment tools/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brics, scoring guides, check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student work that illustrate you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 presented in a visual format (especially for whole or sub-gro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Interpretation of Learning Gains Da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explain student performance (item by item) on your pre- and post-assess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students performed the way they did (context, outside influenc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you determined whether goals &amp; objectives were m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you modify your assessment plans/tools based on this interpre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learning gains are explained relative to goals, objectives &amp;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learning gains are explained in relation to the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cations to assessment tools/plans are suggested based on interpretation of learning gain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nalysis of why some students or groups of students were more successful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nalysis of the assessment instruments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s and graphs that help illustrate you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Use of Da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interpretation of what happened as you taught the un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some students learned more than 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s your analysis of the data shown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use this analys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you reported progress to students and par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408982"/>
          <p:cNvPicPr/>
          <p:nvPr/>
        </p:nvPicPr>
        <p:blipFill>
          <a:blip r:embed="rId1"/>
          <a:stretch/>
        </p:blipFill>
        <p:spPr>
          <a:xfrm>
            <a:off x="5638680" y="2286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goals, materials, activities, assessments for their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 possible mod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mplication for further instruction based on the outcomes of this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how you have reported progress to students, parents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23:29:48Z</dcterms:created>
  <dc:creator>David Bullock</dc:creator>
  <dc:description/>
  <dc:language>en-US</dc:language>
  <cp:lastModifiedBy>Gayle Thieman</cp:lastModifiedBy>
  <dcterms:modified xsi:type="dcterms:W3CDTF">2012-08-26T00:16:37Z</dcterms:modified>
  <cp:revision>5</cp:revision>
  <dc:subject/>
  <dc:title>Work Sample Evaluation</dc:title>
</cp:coreProperties>
</file>