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26A-7343-42B6-B753-96B7F7BE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50B-B702-415E-913B-9893E3FB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710-A1DC-4A77-868B-615AE0F5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213-42BB-42A3-8621-56EC4D87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6D0A-F18E-4392-8F68-F5E5275F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EB91-C5CF-4EC3-BCB7-B9EFC43C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7036-9391-4159-A9A2-85B03D58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61EA-EE90-4CD8-B969-A7BFE479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F621-DD66-4816-A608-5991830B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3EA-79CE-484C-84B8-EDF2DF24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0145-4137-46F0-AED9-3EEF11C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455-96E6-4D74-8A9C-8DC098C1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D140-30B7-4D96-A517-38CD78D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8444-A13F-47A8-98F5-68876408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0F60-64F1-4809-B545-D25B4D0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2FDE-A652-4A68-9DF1-03F809C3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6546-03CB-4CDE-AFAB-B23B52F3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23A-73E4-41ED-99B5-292FDBB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3F9-8877-45D1-A392-A72536F9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B9E-A13A-4D87-B449-701BC205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45A-13B7-4843-AB47-3BFCAAE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FE6-5EE4-417A-968B-77BACC3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705-D8A7-409F-B214-CF79EF9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CBC-4758-4974-8E34-FF680FA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50E-5908-4AAA-A71A-AADF8C723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F53-6247-4E78-9997-DC948FAEA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Work Sample Evaluation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on Learning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397504"/>
          <p:cNvPicPr/>
          <p:nvPr/>
        </p:nvPicPr>
        <p:blipFill>
          <a:blip r:embed="rId1"/>
          <a:stretch/>
        </p:blipFill>
        <p:spPr>
          <a:xfrm>
            <a:off x="6629400" y="2133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analysis based on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n students achieving or not achieving goals and objectives and the reason(s) if they have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/examples of report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0398157"/>
          <p:cNvPicPr/>
          <p:nvPr/>
        </p:nvPicPr>
        <p:blipFill>
          <a:blip r:embed="rId1"/>
          <a:stretch/>
        </p:blipFill>
        <p:spPr>
          <a:xfrm>
            <a:off x="6248520" y="4724280"/>
            <a:ext cx="13618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I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ll unit goals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 range of cognitive/performance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assessment formats are provided that measure the same goals &amp;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guides/rubrics &amp;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included and analyzed for individual students, whole group and sub-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analysis of assessment tools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presented to suppor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/Unmet status of goals &amp; objectives is included along with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of groups to determine why they were more or less successful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are reported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of the effectiveness of the unit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and context factors are identified and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future teaching are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modification of this or other instruction is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methods and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ata on Learning Gain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r assessments measure the goals and objectives for the un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lternate forms of assessment have you used based on the con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ssessments have you done during lesson activ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riteria are you using for your assessments (scoring guides, rubric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 measure progress toward unit &amp; lesson goals &amp;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displayed &amp; analyzed for each student’s progress/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the who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sub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confidentiality is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/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essment tools/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s, scoring guides,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student work that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presented in a visual format (especially for whole or sub-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Interpretation of Learning Gains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xplain student performance (item by item) on your pre- and post-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tudents performed the way they did (context, outside influenc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determined whether goals &amp; objectives were m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modify your assessment plans/tools based on this interpre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relative to goals, objectives &amp;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in relation to the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s to assessment tools/plans are suggested based on interpretation of learning gai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why some students or groups of students were more successful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the assessment instruments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and graphs that help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Use of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interpretation of what happened as you taught the un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ome students learned more than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your analysis of the data shown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use this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reported progress to students and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408982"/>
          <p:cNvPicPr/>
          <p:nvPr/>
        </p:nvPicPr>
        <p:blipFill>
          <a:blip r:embed="rId1"/>
          <a:stretch/>
        </p:blipFill>
        <p:spPr>
          <a:xfrm>
            <a:off x="5638680" y="228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goals, materials, activities, assessments for their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possible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mplication for further instruction based on the outcomes of thi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you have reported progress to students, parents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3:29:48Z</dcterms:created>
  <dc:creator>David Bullock</dc:creator>
  <dc:description/>
  <dc:language>en-US</dc:language>
  <cp:lastModifiedBy>Gayle Thieman</cp:lastModifiedBy>
  <dcterms:modified xsi:type="dcterms:W3CDTF">2012-08-26T00:16:37Z</dcterms:modified>
  <cp:revision>5</cp:revision>
  <dc:subject/>
  <dc:title>Work Sample Evaluation</dc:title>
</cp:coreProperties>
</file>