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9D4-ED7D-43CC-89C1-26DFCC7B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ACE-B06C-4504-AEDD-6F9A7EFF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489-015F-42D9-98E9-3321C13F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85C-957A-415B-8702-390F8897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45E2-B30D-4F08-9663-283B1F78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C416-499F-4E7C-9885-12EB3B79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41B1-5423-405F-8F27-1EE83422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2C17-2E1A-4F87-9424-C3CA08FA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39D6-CF6C-4778-AD96-4262F785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BD9A-B1DE-487A-9E56-FEC6191B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D16C-A302-4BCF-A155-953550A3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8174-9D5C-4E5E-A9B0-AFAB94B4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1FF7-E8C4-4DCB-8039-3BC5E9C8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3FF5-864D-46B2-ACA2-6244C629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942F-0D2D-4D37-9A34-804BC437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75F0-4288-4823-B20B-BED07F53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ADD4-4A9C-489D-B3EB-096EF5F3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B4A-51F0-4325-92F0-AE3ECB26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85F-1863-4899-9EAE-E47BDB9F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E30-C934-46D7-91D6-FCEA1CA4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D5B-B54C-46C7-B516-D8A6452F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CB3-1840-45D6-A182-F74CF6A1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8B1-0249-4557-8956-5B2E1199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904-B567-457E-B376-9A93331E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9714-D0DD-47BC-A01C-04F72ED06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3b3b57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1273-5123-4A07-9796-E2725239E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Work Sample Evaluation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on Learning G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ation of Learning Gain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rning Gain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j0397504"/>
          <p:cNvPicPr/>
          <p:nvPr/>
        </p:nvPicPr>
        <p:blipFill>
          <a:blip r:embed="rId1"/>
          <a:stretch/>
        </p:blipFill>
        <p:spPr>
          <a:xfrm>
            <a:off x="6629400" y="2133720"/>
            <a:ext cx="1825560" cy="141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 analysis based on guide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on students achieving or not achieving goals and objectives and the reason(s) if they have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/examples of reporting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j0398157"/>
          <p:cNvPicPr/>
          <p:nvPr/>
        </p:nvPicPr>
        <p:blipFill>
          <a:blip r:embed="rId1"/>
          <a:stretch/>
        </p:blipFill>
        <p:spPr>
          <a:xfrm>
            <a:off x="6248520" y="4724280"/>
            <a:ext cx="136188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IV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s measure all unit goals and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s measure a range of cognitive/performance 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e assessment formats are provided that measure the same goals &amp;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ing guides/rubrics &amp; examples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is included and analyzed for individual students, whole group and sub-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V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m analysis of assessment tools is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presented to support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/Unmet status of goals &amp; objectives is included along with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of groups to determine why they were more or less successful is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s are reported vis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riteria for Scoring Section VI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tions of the effectiveness of the unit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neous and context factors are identified and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s for future teaching are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s for modification of this or other instruction is discu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ing methods and examples are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ata on Learning Gain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r assessments measure the goals and objectives for the un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lternate forms of assessment have you used based on the contex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ssessments have you done during lesson activ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riteria are you using for your assessments (scoring guides, rubric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and post- assessments are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s measure progress toward unit &amp; lesson goals &amp;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displayed &amp; analyzed for each student’s progress/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summarized for the whole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s summarized for sub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confidentiality is mainta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and Post- assessments/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ssessment tools/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brics, scoring guides, check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student work that illustrate your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 presented in a visual format (especially for whole or sub-gro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Interpretation of Learning Gains Dat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explain student performance (item by item) on your pre- and post-assessm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students performed the way they did (context, outside influenc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ave you determined whether goals &amp; objectives were m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you modify your assessment plans/tools based on this interpret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learning gains are explained relative to goals, objectives &amp;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learning gains are explained in relation to the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ications to assessment tools/plans are suggested based on interpretation of learning gains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ocuments to Includ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analysis of why some students or groups of students were more successful than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analysis of the assessment instruments them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ts and graphs that help illustrate your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Use of Dat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interpretation of what happened as you taught the un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some students learned more than ot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s your analysis of the data shown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use this analys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have you reported progress to students and par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j0408982"/>
          <p:cNvPicPr/>
          <p:nvPr/>
        </p:nvPicPr>
        <p:blipFill>
          <a:blip r:embed="rId1"/>
          <a:stretch/>
        </p:blipFill>
        <p:spPr>
          <a:xfrm>
            <a:off x="5638680" y="2286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goals, materials, activities, assessments for their effect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 possible mod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mplication for further instruction based on the outcomes of this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how you have reported progress to students, parents,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23:29:48Z</dcterms:created>
  <dc:creator>David Bullock</dc:creator>
  <dc:description/>
  <dc:language>en-US</dc:language>
  <cp:lastModifiedBy>Gayle Thieman</cp:lastModifiedBy>
  <dcterms:modified xsi:type="dcterms:W3CDTF">2012-08-26T00:16:37Z</dcterms:modified>
  <cp:revision>5</cp:revision>
  <dc:subject/>
  <dc:title>Work Sample Evaluation</dc:title>
</cp:coreProperties>
</file>