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F64-B827-49FA-BD6F-5388A220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512-8475-4B97-8791-1492C510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7DE-D814-42A9-9751-14D5CB49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89C-42C2-4810-B654-6BFBB5D7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079-7823-4462-8C93-4463C195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374-9716-4A5B-ACFD-D820F801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F04-AEBB-4013-A81F-1D621A3D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F1C-EE24-4A7E-9119-9056861B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1AA-B72B-4508-A1CB-0AC4AE2A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546-34BF-486E-9CD2-43B3FB2B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7BD-DAE0-44EA-8DB6-14C23D3E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DB8-CE55-4728-9716-4E3D2B9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AB2D-4E24-40CA-A565-1478A12B0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Gayle Thieman</cp:lastModifiedBy>
  <cp:lastPrinted>2003-04-02T20:43:05Z</cp:lastPrinted>
  <dcterms:modified xsi:type="dcterms:W3CDTF">2007-04-12T22:26:59Z</dcterms:modified>
  <cp:revision>2</cp:revision>
  <dc:subject/>
  <dc:title>Curriculum Design</dc:title>
</cp:coreProperties>
</file>