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1C0-1912-457F-88B0-053AA727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702-1E31-4FFB-B79D-27F68008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460-91BE-4552-B75B-F2172DF6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C5B-4509-499C-8413-EE64EDEE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75E-4516-4CD9-A221-62FC0586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D67-FF7C-4160-83E2-9364C066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797-7D56-4CF4-8D4C-7C078DF0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E47-75FE-4AFB-BD00-E7639479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108-87B5-4F2B-AE85-F62C6053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472-4004-434D-AC75-6846DE29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C08-B63D-4CB0-84E5-8B56E04E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4A9-DFDE-4E6F-B2A6-1D61F7E3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B7AE-896C-4C9F-87CE-282D5B5DA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,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 (Enduring Understan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1:27:39Z</dcterms:created>
  <dc:creator>Gayle Y. Thieman</dc:creator>
  <dc:description/>
  <dc:language>en-US</dc:language>
  <cp:lastModifiedBy>Gayle Thieman</cp:lastModifiedBy>
  <cp:lastPrinted>2003-04-02T20:43:05Z</cp:lastPrinted>
  <dcterms:modified xsi:type="dcterms:W3CDTF">2007-04-12T22:26:59Z</dcterms:modified>
  <cp:revision>2</cp:revision>
  <dc:subject/>
  <dc:title>Curriculum Design</dc:title>
</cp:coreProperties>
</file>