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ahoma"/>
            </a:endParaRPr>
          </a:p>
        </p:txBody>
      </p:sp>
      <p:sp>
        <p:nvSpPr>
          <p:cNvPr id="12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ahoma"/>
            </a:endParaRPr>
          </a:p>
        </p:txBody>
      </p:sp>
      <p:sp>
        <p:nvSpPr>
          <p:cNvPr id="12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ahoma"/>
            </a:endParaRPr>
          </a:p>
        </p:txBody>
      </p:sp>
      <p:sp>
        <p:nvSpPr>
          <p:cNvPr id="13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99FFF-E860-4158-9E3A-7BF2A15DD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72582-76CF-426D-A957-50C904BC4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179BD-3FE4-4AC1-8EF4-DF6FB7B89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F91A0-67DF-4A6F-986D-A4EAA76E5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D4E06A-E928-4717-AA78-3C24300D231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F0501-993F-4779-AAA6-A60F960288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2C409-68E0-4FC6-84FE-265FAC6938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40454F-C5D9-4B9D-AB0B-9F733F69A3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D5C7BD-906A-4F08-B155-356BE5145A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76E572-77B9-4C4A-85F8-0C81957FEB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AC15E-C14F-4A98-986C-0A892C3B32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B9FF6-7407-4797-9A11-F060295AD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F75D2-F9C1-488E-92CA-5B7E6A2F9C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4E3564-ADC8-436F-86F5-FC59D536F4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304D6-943F-4063-8753-2AFF694AD3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A7633E-E898-45F9-9356-3828F5BDC7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42E6B5-9BD3-4BBE-8C15-867C06279F6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30A1D-72CB-44D5-B7FA-CB7F8BB19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0AA9-8B30-467E-B024-AB8763C33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125B1-F9D4-4547-A8FC-5073784F4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2826-CC4C-4274-9BAB-739054E42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8F5DC-28CB-4BEC-8217-CC246A18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B2C00-38A1-4F14-848C-A621DD1F3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CC708-AB61-493E-97B2-06F4730D1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8F40-9F17-4DF9-9263-239AEF4275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54BA-F94E-435C-8A22-F909EB1E31E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ebquest.org/"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personal.psu.edu/faculty/j/x/jxz8/Student_Webquests/kulp/quest.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1"/>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base of searchable webquest that are categorized by subject, grade level, &amp; quality</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1"/>
              </a:rPr>
              <a:t>http://www.personal.psu.edu/faculty/j/x/jxz8/Student_Webquests/kulp/quest.htm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600"/>
            <a:ext cx="82296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17" name="PlaceHolder 2"/>
          <p:cNvSpPr>
            <a:spLocks noGrp="1"/>
          </p:cNvSpPr>
          <p:nvPr>
            <p:ph/>
          </p:nvPr>
        </p:nvSpPr>
        <p:spPr>
          <a:xfrm>
            <a:off x="609480" y="1828800"/>
            <a:ext cx="3810240" cy="411480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 name="PlaceHolder 3"/>
          <p:cNvSpPr>
            <a:spLocks noGrp="1"/>
          </p:cNvSpPr>
          <p:nvPr>
            <p:ph/>
          </p:nvPr>
        </p:nvSpPr>
        <p:spPr>
          <a:xfrm>
            <a:off x="4647960" y="1828800"/>
            <a:ext cx="3809880" cy="449568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5" name="PlaceHolder 3"/>
          <p:cNvSpPr>
            <a:spLocks noGrp="1"/>
          </p:cNvSpPr>
          <p:nvPr>
            <p:ph/>
          </p:nvPr>
        </p:nvSpPr>
        <p:spPr>
          <a:xfrm>
            <a:off x="4647960" y="1600200"/>
            <a:ext cx="3809880" cy="4495680"/>
          </a:xfrm>
          <a:prstGeom prst="rect">
            <a:avLst/>
          </a:prstGeom>
          <a:noFill/>
          <a:ln w="0">
            <a:noFill/>
          </a:ln>
        </p:spPr>
        <p:txBody>
          <a:bodyPr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a:t>
            </a:r>
            <a:r>
              <a:rPr b="0" lang="ja-JP" sz="2400" spc="-1" strike="noStrike">
                <a:solidFill>
                  <a:srgbClr val="ffffff"/>
                </a:solidFill>
                <a:latin typeface="Tahoma"/>
              </a:rPr>
              <a:t>’</a:t>
            </a:r>
            <a:r>
              <a:rPr b="0" lang="en-US" sz="2400" spc="-1" strike="noStrike">
                <a:solidFill>
                  <a:srgbClr val="ffffff"/>
                </a:solidFill>
                <a:latin typeface="Tahoma"/>
              </a:rPr>
              <a:t>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07" name="PlaceHolder 2"/>
          <p:cNvSpPr>
            <a:spLocks noGrp="1"/>
          </p:cNvSpPr>
          <p:nvPr>
            <p:ph/>
          </p:nvPr>
        </p:nvSpPr>
        <p:spPr>
          <a:xfrm>
            <a:off x="4647960" y="1447560"/>
            <a:ext cx="3809880" cy="464796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8" name="Picture 5" descr=""/>
          <p:cNvPicPr/>
          <p:nvPr/>
        </p:nvPicPr>
        <p:blipFill>
          <a:blip r:embed="rId1"/>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2" name="PlaceHolder 2"/>
          <p:cNvSpPr>
            <a:spLocks noGrp="1"/>
          </p:cNvSpPr>
          <p:nvPr>
            <p:ph/>
          </p:nvPr>
        </p:nvSpPr>
        <p:spPr>
          <a:xfrm>
            <a:off x="685440" y="1371240"/>
            <a:ext cx="3809880" cy="472428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3" name="PlaceHolder 3"/>
          <p:cNvSpPr>
            <a:spLocks noGrp="1"/>
          </p:cNvSpPr>
          <p:nvPr>
            <p:ph/>
          </p:nvPr>
        </p:nvSpPr>
        <p:spPr>
          <a:xfrm>
            <a:off x="4495680" y="1371600"/>
            <a:ext cx="3810240" cy="4648320"/>
          </a:xfrm>
          <a:prstGeom prst="rect">
            <a:avLst/>
          </a:prstGeom>
          <a:noFill/>
          <a:ln w="0">
            <a:noFill/>
          </a:ln>
        </p:spPr>
        <p:txBody>
          <a:bodyPr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13-10-31T22:24:19Z</dcterms:modified>
  <cp:revision>36</cp:revision>
  <dc:subject/>
  <dc:title>All about webquests</dc:title>
</cp:coreProperties>
</file>