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906F5-5A37-4953-955B-1F4E98B03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E46EC-C730-47FD-BFD9-3703EF4A1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29C8F-2F83-465E-BD4C-2F600730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AE798-E3A4-4259-B3FD-637CA564C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CB90B3-893F-46A5-95FA-ADB64DFE77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636AD4-17EA-4694-9F9B-C5C7AB0C71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76701-4DCC-4D14-93E5-227E674FB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7BD45-540A-44B6-92DD-CB9C977AE1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91C9A-4737-42CF-8D60-5E60B97C0E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5D3DE-652B-4516-979D-98BC688C3B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660A9-076E-423F-989A-9689BC9D47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C2416-7BCA-46B7-9167-2B6EA1441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B9A06-7C83-4465-A626-FE767F972B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44649-1452-4D33-8FD6-B6AF577329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41AD3-74D1-4A25-B519-1353579C42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04839-D146-4741-B2E0-BDCD82E9EB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0566D-4FD2-4E42-A33E-C4BE9A5EAB2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CA0A4-EE66-4114-9BDE-8BE2B16E5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83D5-8817-41DD-B26E-2E39FBA65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21C7-A863-40C1-BEEA-1843D314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2EEA3-2B2A-4A1D-B617-87E7CF283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C6B9-C289-4EE9-BAF1-07E7F7374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3F04-8888-4E0D-A631-4F7BEA43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10E6-DFEB-485F-8510-9C2EC4D40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0D1D-F2AA-45CE-97B7-FDFFD8A143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00DC-11D1-46D7-BE5A-6B9B2F61756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quest.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4"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5"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9"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9"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0" name="Picture 5"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2-11-07T02:29:14Z</dcterms:modified>
  <cp:revision>35</cp:revision>
  <dc:subject/>
  <dc:title>All about webquests</dc:title>
</cp:coreProperties>
</file>