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66352-4C0E-46D4-BD69-220BF9A8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EA8AC-A99E-4CFD-8BE7-F388EB7F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D1278-9E78-49A9-BE77-396366784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4F6F0-9F2D-4B57-96A1-A143689C3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12AE24-407D-45DF-9494-51CD309EC5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3C3B5-719D-42B7-A196-3B56B3EA0E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39E2A-169F-4399-8F56-489C2B3826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DFD7A-37E0-4CDA-BD04-8F2DCF5CAE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CDA43-5B40-4669-BBF2-C311F80FD0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7F3B5-E3C4-4C4F-BB98-8C593ECD527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FE7B1-1DC6-480F-A064-014098722C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BAF3-F421-4B86-AF04-3123F2504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25F5F-00E9-4C2D-B9D6-DA307CBB00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C22FD-A46B-47A7-B62F-0D1F6CA9B6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CFD23-6976-41AB-AB50-D0AB630C10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62B146-A41D-49E8-AFEE-7BA889FA94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9A9410-9831-4CB2-8E2F-44EAAADE9F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64079-495D-4BCF-BB20-E90FED8B8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08A9-0617-4903-8351-52AAB468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998C-6865-48FE-B18A-36AAE211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C38D-A7A9-4BA0-8EA3-A3425207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E0E7-AFB8-442D-A90D-06A311BD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DCBB-835A-4EA1-B9FD-D12C37F6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A3C3-6E80-417D-B870-6B10CDEC7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97D7-5156-4352-AA48-F9FFAE9CA4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AD88-CC76-4804-B627-B13AA694BD9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quest.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4"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5"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9"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9"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0" name="Picture 5"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2-11-07T02:29:14Z</dcterms:modified>
  <cp:revision>35</cp:revision>
  <dc:subject/>
  <dc:title>All about webquests</dc:title>
</cp:coreProperties>
</file>