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18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6D30-C041-4684-B8CB-B824769F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89E2-BA14-4C7E-B6D4-2AB209E9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46B5-763E-42B6-9265-CC1650413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E29C-15E1-4D64-B399-514B8092F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F739-E38A-4FDF-B994-3E1DCE5E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6C64-F258-4D87-8FDD-4D10009F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AAD6-B112-450A-B9A7-18964F14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6E8E-8BD1-463A-AFD3-FF14CE60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FF36-CF34-47C6-BE4F-9DB6FD37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B84F-F8E3-4059-9702-2B3315A0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C02D-9772-40F7-9508-DA7996C9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7044-DE85-4684-B92F-DD19140B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C23A-5A00-43FE-BEB8-12BFDBBAF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1929960"/>
            <a:ext cx="8456760" cy="16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Upper Elementary Students and their Worl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60040" y="4576320"/>
            <a:ext cx="661212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y Jane, Catherine, Laura, Lani, Myranda &amp; Jack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413240" y="1930320"/>
            <a:ext cx="557208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We already are - let's do it intentionally and choose what values we want to pass on. 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3960" y="303120"/>
            <a:ext cx="872028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ffff"/>
                </a:solidFill>
                <a:latin typeface="Comic Sans MS"/>
              </a:rPr>
              <a:t>Should we teach values and character?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11360" y="2743200"/>
            <a:ext cx="348264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0720" y="203040"/>
            <a:ext cx="519444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mic Sans MS"/>
              </a:rPr>
              <a:t>Developing feelings of self-worth and security by providing opportunities for each child to build on his or her successe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10200" y="4267080"/>
            <a:ext cx="5478480" cy="20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mic Sans MS"/>
              </a:rPr>
              <a:t>Teaching children to have caring, empathetic, and compassionate attitudes towards other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791320" y="406440"/>
            <a:ext cx="3382920" cy="3732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12880" y="4165560"/>
            <a:ext cx="341784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7680" y="203040"/>
            <a:ext cx="3303720" cy="36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mic Sans MS"/>
              </a:rPr>
              <a:t>Behaviors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mfor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har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orking cooperativel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isplaying empath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eing kind and respectful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93920" y="1219320"/>
            <a:ext cx="36054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mic Sans MS"/>
              </a:rPr>
              <a:t>Benefits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aring classroom commun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ildren are more likely to offer assistance to other childr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ildren more likely to connect with other students and teach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1520" y="3149640"/>
            <a:ext cx="3183120" cy="36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mic Sans MS"/>
              </a:rPr>
              <a:t>End result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crease child's school succe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reate lifelong learn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reate contributing members of society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09480" y="4572000"/>
            <a:ext cx="2700360" cy="1990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603840" y="711360"/>
            <a:ext cx="300204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49200" y="2438280"/>
            <a:ext cx="9522000" cy="40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ateg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eaching it directl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books, movies, other med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eer tutor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eer buddies (for new student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dult role modeling of ideal behavio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ervice work (in school and in the community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) 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nfusing the target behaviors into the curriculu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iscuss actions of kindness and caring versus those that did not (above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have students write about the kindest thing anyone ever did for the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tudents research various charitable organiz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nstead of having a class holiday party the students could organize and host a party for residents from a local nursing ho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9200" y="182520"/>
            <a:ext cx="950112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do we develop these behaviors if we live in a culture that largely promotes self-preservation and the enhancement of individual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587920" y="2031840"/>
            <a:ext cx="3792600" cy="23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58840" y="297000"/>
            <a:ext cx="9513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Students need to be aware of their feelings!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9200" y="1930320"/>
            <a:ext cx="640260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ildren need to move beyond identifying emotions such as "happy", "mad", and "sad"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87480" y="3556080"/>
            <a:ext cx="708048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fter reading a story or part of a book discuss the characters emotional reaction to the events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9200" y="5587920"/>
            <a:ext cx="693108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"How did the character's body language or voice let you know what the character was feeling?"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807240" y="1219320"/>
            <a:ext cx="2536920" cy="2280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07960" y="3657600"/>
            <a:ext cx="2162160" cy="1719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7112160" y="4673520"/>
            <a:ext cx="233352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65120" y="203040"/>
            <a:ext cx="803448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Classroom as a community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63600" y="1219320"/>
            <a:ext cx="18925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ffffff"/>
                </a:solidFill>
                <a:uFillTx/>
                <a:latin typeface="Comic Sans MS"/>
              </a:rPr>
              <a:t>Norm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48480" y="1219320"/>
            <a:ext cx="18190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ffffff"/>
                </a:solidFill>
                <a:uFillTx/>
                <a:latin typeface="Comic Sans MS"/>
              </a:rPr>
              <a:t>Instea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2600" y="1930320"/>
            <a:ext cx="305424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tudent responsible for cleaning up their own desk are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37120" y="1930320"/>
            <a:ext cx="305460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tudent responsible for one task that affects the whole classroo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2600" y="4775040"/>
            <a:ext cx="305424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ach student having their own pencil box and suppl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40520" y="4775040"/>
            <a:ext cx="305424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supplies are classroom property - not belonging to any one pers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64080" y="2241720"/>
            <a:ext cx="2211120" cy="1033200"/>
          </a:xfrm>
          <a:custGeom>
            <a:avLst/>
            <a:gdLst/>
            <a:ahLst/>
            <a:rect l="l" t="t" r="r" b="b"/>
            <a:pathLst>
              <a:path w="21600" h="22715">
                <a:moveTo>
                  <a:pt x="0" y="6165"/>
                </a:moveTo>
                <a:lnTo>
                  <a:pt x="10427" y="6165"/>
                </a:lnTo>
                <a:cubicBezTo>
                  <a:pt x="10427" y="6165"/>
                  <a:pt x="10412" y="1031"/>
                  <a:pt x="10427" y="985"/>
                </a:cubicBezTo>
                <a:cubicBezTo>
                  <a:pt x="10427" y="0"/>
                  <a:pt x="11410" y="995"/>
                  <a:pt x="11410" y="995"/>
                </a:cubicBezTo>
                <a:lnTo>
                  <a:pt x="21600" y="11345"/>
                </a:lnTo>
                <a:cubicBezTo>
                  <a:pt x="21600" y="11345"/>
                  <a:pt x="11413" y="21669"/>
                  <a:pt x="11413" y="21691"/>
                </a:cubicBezTo>
                <a:cubicBezTo>
                  <a:pt x="10263" y="22715"/>
                  <a:pt x="10427" y="21705"/>
                  <a:pt x="10427" y="21705"/>
                </a:cubicBezTo>
                <a:lnTo>
                  <a:pt x="10427" y="16526"/>
                </a:lnTo>
                <a:lnTo>
                  <a:pt x="0" y="16526"/>
                </a:lnTo>
                <a:lnTo>
                  <a:pt x="0" y="616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65600" y="5492880"/>
            <a:ext cx="2211480" cy="1033200"/>
          </a:xfrm>
          <a:custGeom>
            <a:avLst/>
            <a:gdLst/>
            <a:ahLst/>
            <a:rect l="l" t="t" r="r" b="b"/>
            <a:pathLst>
              <a:path w="21600" h="22715">
                <a:moveTo>
                  <a:pt x="0" y="6165"/>
                </a:moveTo>
                <a:lnTo>
                  <a:pt x="10427" y="6165"/>
                </a:lnTo>
                <a:cubicBezTo>
                  <a:pt x="10427" y="6165"/>
                  <a:pt x="10412" y="1031"/>
                  <a:pt x="10427" y="985"/>
                </a:cubicBezTo>
                <a:cubicBezTo>
                  <a:pt x="10427" y="0"/>
                  <a:pt x="11410" y="995"/>
                  <a:pt x="11410" y="995"/>
                </a:cubicBezTo>
                <a:lnTo>
                  <a:pt x="21600" y="11345"/>
                </a:lnTo>
                <a:cubicBezTo>
                  <a:pt x="21600" y="11345"/>
                  <a:pt x="11413" y="21669"/>
                  <a:pt x="11413" y="21691"/>
                </a:cubicBezTo>
                <a:cubicBezTo>
                  <a:pt x="10263" y="22715"/>
                  <a:pt x="10427" y="21705"/>
                  <a:pt x="10427" y="21705"/>
                </a:cubicBezTo>
                <a:lnTo>
                  <a:pt x="10427" y="16526"/>
                </a:lnTo>
                <a:lnTo>
                  <a:pt x="0" y="16526"/>
                </a:lnTo>
                <a:lnTo>
                  <a:pt x="0" y="616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860640" y="3657600"/>
            <a:ext cx="184500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52600" y="203040"/>
            <a:ext cx="8488080" cy="50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Student feels saf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Student takes risk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Student engages in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authentic learn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867120" y="1224360"/>
            <a:ext cx="2032200" cy="1460520"/>
          </a:xfrm>
          <a:custGeom>
            <a:avLst/>
            <a:gdLst/>
            <a:ahLst/>
            <a:rect l="l" t="t" r="r" b="b"/>
            <a:pathLst>
              <a:path w="21600" h="21610">
                <a:moveTo>
                  <a:pt x="0" y="13297"/>
                </a:moveTo>
                <a:lnTo>
                  <a:pt x="8352" y="4944"/>
                </a:lnTo>
                <a:cubicBezTo>
                  <a:pt x="8352" y="4944"/>
                  <a:pt x="4221" y="838"/>
                  <a:pt x="4196" y="789"/>
                </a:cubicBezTo>
                <a:cubicBezTo>
                  <a:pt x="3405" y="0"/>
                  <a:pt x="4992" y="10"/>
                  <a:pt x="4992" y="10"/>
                </a:cubicBezTo>
                <a:lnTo>
                  <a:pt x="21460" y="151"/>
                </a:lnTo>
                <a:cubicBezTo>
                  <a:pt x="21460" y="151"/>
                  <a:pt x="21582" y="16594"/>
                  <a:pt x="21600" y="16611"/>
                </a:cubicBezTo>
                <a:cubicBezTo>
                  <a:pt x="21501" y="18354"/>
                  <a:pt x="20821" y="17412"/>
                  <a:pt x="20821" y="17412"/>
                </a:cubicBezTo>
                <a:lnTo>
                  <a:pt x="16665" y="13257"/>
                </a:lnTo>
                <a:lnTo>
                  <a:pt x="8312" y="21610"/>
                </a:lnTo>
                <a:lnTo>
                  <a:pt x="0" y="1329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3967920" y="3764880"/>
            <a:ext cx="1986120" cy="1390680"/>
          </a:xfrm>
          <a:custGeom>
            <a:avLst/>
            <a:gdLst/>
            <a:ahLst/>
            <a:rect l="l" t="t" r="r" b="b"/>
            <a:pathLst>
              <a:path w="21600" h="21610">
                <a:moveTo>
                  <a:pt x="0" y="13297"/>
                </a:moveTo>
                <a:lnTo>
                  <a:pt x="8352" y="4944"/>
                </a:lnTo>
                <a:cubicBezTo>
                  <a:pt x="8352" y="4944"/>
                  <a:pt x="4221" y="838"/>
                  <a:pt x="4196" y="789"/>
                </a:cubicBezTo>
                <a:cubicBezTo>
                  <a:pt x="3405" y="0"/>
                  <a:pt x="4992" y="10"/>
                  <a:pt x="4992" y="10"/>
                </a:cubicBezTo>
                <a:lnTo>
                  <a:pt x="21460" y="151"/>
                </a:lnTo>
                <a:cubicBezTo>
                  <a:pt x="21460" y="151"/>
                  <a:pt x="21582" y="16594"/>
                  <a:pt x="21600" y="16611"/>
                </a:cubicBezTo>
                <a:cubicBezTo>
                  <a:pt x="21501" y="18354"/>
                  <a:pt x="20821" y="17412"/>
                  <a:pt x="20821" y="17412"/>
                </a:cubicBezTo>
                <a:lnTo>
                  <a:pt x="16665" y="13257"/>
                </a:lnTo>
                <a:lnTo>
                  <a:pt x="8312" y="21610"/>
                </a:lnTo>
                <a:lnTo>
                  <a:pt x="0" y="1329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400800" y="507960"/>
            <a:ext cx="3059280" cy="2457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81040" y="1320840"/>
            <a:ext cx="2703600" cy="4070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502320" y="4470480"/>
            <a:ext cx="283392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31840" y="2641680"/>
            <a:ext cx="6537600" cy="3886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66640" y="506520"/>
            <a:ext cx="872496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ffff"/>
                </a:solidFill>
                <a:latin typeface="Comic Sans MS"/>
              </a:rPr>
              <a:t>Promoting Personal Responsibility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54040" y="590400"/>
            <a:ext cx="9026640" cy="4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How teachers can help promote responsibility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82920" y="1862280"/>
            <a:ext cx="5227560" cy="19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regular homew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classroom job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goal set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organization assista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expecting more self contro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8680" y="5384880"/>
            <a:ext cx="9439200" cy="10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pper elementary students are expected to take on more responsibility.  This is an important skill for the rest of their lives--and it start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66640" y="496800"/>
            <a:ext cx="9028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Regular Homework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2600" y="1422360"/>
            <a:ext cx="4512960" cy="39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Why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Develops time management skill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Students should learn to set aside the right amount of time each night for homework/playing/other responsibiliti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Promotes responsibility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Parents shouldn't make excuses for their stud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Extends classroom lear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486400" y="1727280"/>
            <a:ext cx="36561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6160" y="203040"/>
            <a:ext cx="10012320" cy="51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'Times New Roman'"/>
              </a:rPr>
              <a:t>Kohlberg’s Stages of Moral Developm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ffffff"/>
                </a:solidFill>
                <a:latin typeface="'Times New Roman'"/>
              </a:rPr>
              <a:t>Level One: Preconventiona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Stage One: Obedience and Punish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Focused on direct consequences of their actions on themselv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Egocentric, not aware that other’s points of view are different than their ow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Stage Two: Self-Interest Driv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 </a:t>
            </a: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What’s in it for m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Right behavior will result in what’s best for 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Concern for others involves both people receiving something from each oth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050400" y="8848800"/>
            <a:ext cx="28702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Jane's slides 2-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66640" y="396720"/>
            <a:ext cx="902808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Comic Sans MS"/>
              </a:rPr>
              <a:t>Classroom Job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04800" y="1417680"/>
            <a:ext cx="2560680" cy="3195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502320" y="3860640"/>
            <a:ext cx="3044880" cy="2967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397320" y="1625760"/>
            <a:ext cx="5816520" cy="20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 job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cedural, organizational, cleanup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: supply monitors, recyclers, paper handlers, librarian, reporter, secret admirer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2600" y="4876920"/>
            <a:ext cx="5194080" cy="17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assroom job teach students to be responsible for their learning environment and follow through with jobs they h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5760" y="392040"/>
            <a:ext cx="921204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Comic Sans MS"/>
              </a:rPr>
              <a:t>Goal Sett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95880" y="1828800"/>
            <a:ext cx="3175200" cy="4343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52320" y="1473120"/>
            <a:ext cx="511992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hort-term vs. long-term goa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et bot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Talk to kids about their progress toward goa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Write the goal and why it's importa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et an examp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Children are accountable for reaching their go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66560" y="504720"/>
            <a:ext cx="902844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Comic Sans MS"/>
              </a:rPr>
              <a:t>Helping Students Get Organiz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079960" y="2031840"/>
            <a:ext cx="4260960" cy="4299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55640" y="1727280"/>
            <a:ext cx="4116240" cy="33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Encourage use of plann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Implement research techniques to organize ide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Show them how to set up their bind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Keep a model notebook/plann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Use class time to teach organiz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This skill will help students for the rest of their liv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8640" y="417600"/>
            <a:ext cx="911232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Student Accountabilit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14400" y="2540160"/>
            <a:ext cx="3809880" cy="2844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427720" y="2328840"/>
            <a:ext cx="388764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Upper elementary students become expected of more self-control and are held increasingly accountable for their behavior. 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000" y="299880"/>
            <a:ext cx="9663120" cy="14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Impact on Curriculu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mic Sans MS"/>
              </a:rPr>
              <a:t>Reading for Content Knowledge-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The focus on learning to read is now replaced with reading to lean content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cience books, social studies books and health books are being introduc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tudents are now beginning picture in their minds what they are reading without the assistance of illustration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000" y="299880"/>
            <a:ext cx="9663120" cy="14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Writing for an Audienc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tudents now have to think about who they are writing to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cademic or non-acade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tter, poem or ess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arrative, persuasive, compare and contr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inquain, couplet, haiku, name poem and m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079960" y="1625760"/>
            <a:ext cx="387972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000" y="295200"/>
            <a:ext cx="988056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Math</a:t>
            </a:r>
            <a:br>
              <a:rPr sz="4300"/>
            </a:br>
            <a:r>
              <a:rPr b="0" lang="en-US" sz="2900" spc="-1" strike="noStrike">
                <a:solidFill>
                  <a:srgbClr val="ffffff"/>
                </a:solidFill>
                <a:latin typeface="Comic Sans MS"/>
              </a:rPr>
              <a:t>Symbols and Abstract Concep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Multiplication tab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Division fac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Multiple digt addition and subtra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Frac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Perime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Are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ing able to express multiple step problems clearly is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316640" y="1930320"/>
            <a:ext cx="236088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000" y="299880"/>
            <a:ext cx="9663120" cy="14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Assessmen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Comic Sans MS"/>
              </a:rPr>
              <a:t>Sta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rd Grade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th and 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th Grade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th, Reading and Wr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th Grade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th, Reading and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Comic Sans MS"/>
              </a:rPr>
              <a:t>Classroo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ub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elf Assessm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ortfol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700" spc="-1" strike="noStrike">
                <a:solidFill>
                  <a:srgbClr val="ffffff"/>
                </a:solidFill>
                <a:latin typeface="Comic Sans MS"/>
              </a:rPr>
              <a:t>﻿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556080" y="2438280"/>
            <a:ext cx="163836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000" y="299880"/>
            <a:ext cx="9663120" cy="14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How did we do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7680" y="1015560"/>
            <a:ext cx="9780480" cy="630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Read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3rd Grade 83% (down from 84% in 07-08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4th Grade 84% (up from 83% in 07-08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5th Grade 76% (up from 75% in 07-08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Math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3rd Grade 77% (no change from 07-08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4th Grade 77% (no change from 07-08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5th Grade 77% (no change from 07-08)</a:t>
            </a: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Wri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  </a:t>
            </a: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4th Grade 44% (up from 43% in 07-08) 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cie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  </a:t>
            </a: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5th Grade 75% (no change from 07-08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ccccff"/>
                </a:solidFill>
                <a:uFillTx/>
                <a:latin typeface="Comic Sans MS"/>
              </a:rPr>
              <a:t>http://www.movingtoportland.net/schools_test.ht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486400" y="2235240"/>
            <a:ext cx="407340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47760" y="401760"/>
            <a:ext cx="942948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ffffff"/>
                </a:solidFill>
                <a:latin typeface="'Times New Roman'"/>
              </a:rPr>
              <a:t>Level Two: Convention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'Times New Roman'"/>
              </a:rPr>
              <a:t>Judge morality of actions by comparing them to society’s views and expec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Typical of adolescents and adul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ffff"/>
                </a:solidFill>
                <a:latin typeface="'Times New Roman'"/>
              </a:rPr>
              <a:t>Elementary School Stud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Transitioning from stage one to stage two of the preconventional stages and then to conventional as they reach adolesce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Most moral decisions based on self inter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Provide students opportunities to move beyond self inter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57240" y="184320"/>
            <a:ext cx="9977400" cy="42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'Times New Roman'"/>
              </a:rPr>
              <a:t>Piaget’s Stages of Cognitive Developm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ffffff"/>
                </a:solidFill>
                <a:latin typeface="'Times New Roman'"/>
              </a:rPr>
              <a:t>Concrete Operational (Ages 7-11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'Times New Roman'"/>
              </a:rPr>
              <a:t>Moving beyond egocentricism: recognizing others have a different view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'Times New Roman'"/>
              </a:rPr>
              <a:t>Can think logically about objects and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'Times New Roman'"/>
              </a:rPr>
              <a:t>Classifies objects according to several features and can order them in series along a single dimension such as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'Times New Roman'"/>
              </a:rPr>
              <a:t>Conservation is the realization that objects or sets of objects stay the same even when they are changed about or made to look different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'Times New Roman'"/>
              </a:rPr>
              <a:t>Achieves conservation of number (age 6), mass (age 7), and weight (age 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'Times New Roman'"/>
              </a:rPr>
              <a:t>Transition to Formal Operational Stage around age 11, where students think abstractly and hypothe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9120" y="219240"/>
            <a:ext cx="96156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82920" y="1905120"/>
            <a:ext cx="5194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82920" y="1905120"/>
            <a:ext cx="5194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9566280" cy="69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Tribes</a:t>
            </a: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by Jeanne Gibb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240" y="1110960"/>
            <a:ext cx="9658440" cy="60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urpose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: building a learning community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promotes human growth and learn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helps develop resilienc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fosters collaborative, pro-social skill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pecif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inclusion, influence, commun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heterogeneous groups that remain together for an extended perio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a democratic system...choice and contro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4 agreem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3800" y="310680"/>
            <a:ext cx="967716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Activity: Cooperation Squar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7680" y="1727280"/>
            <a:ext cx="94629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bjectives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encourage cooper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build awareness of how own behaviors help or hinder the grou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build inclusion and influe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ules of the G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no tal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may only give pieces...no taking or requ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if your tribe finishes, silently think about the reflection ques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603840" y="3657600"/>
            <a:ext cx="23259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9280" y="310680"/>
            <a:ext cx="9336240" cy="25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  </a:t>
            </a: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Reflecting </a:t>
            </a:r>
            <a:br>
              <a:rPr sz="4300"/>
            </a:b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on the </a:t>
            </a:r>
            <a:br>
              <a:rPr sz="4300"/>
            </a:b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Activity  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9200" y="3048120"/>
            <a:ext cx="4603680" cy="39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Questions to Po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What did you learn about non-verbal cooperation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What social skills did you need to make this activity successfu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Why is giving a social skil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7280" y="2945880"/>
            <a:ext cx="455292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ood community building activitie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have a win-win outco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include everyon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highlight contributions of individua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are fun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320840" y="406440"/>
            <a:ext cx="226548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07960" y="1422360"/>
            <a:ext cx="4397400" cy="4971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275440" y="3548160"/>
            <a:ext cx="4141440" cy="3405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718160" y="203040"/>
            <a:ext cx="505908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ff"/>
                </a:solidFill>
                <a:latin typeface="Comic Sans MS"/>
              </a:rPr>
              <a:t>Building a Safe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ff"/>
                </a:solidFill>
                <a:latin typeface="Comic Sans MS"/>
              </a:rPr>
              <a:t>Classroom Environmen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