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E76-5F44-43CF-93CB-C09DEB78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C1D-F04F-4AD2-A39F-0DB64AA8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5AE-75DC-4E74-8F42-96197D09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496-303C-4852-B3E1-7A6273CE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026-C491-40FF-B741-D2FE16E9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5FB-C87E-4388-95C5-D4B635C2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441-1886-4314-B48A-E82412C9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A1A-9881-4F60-A848-84F37E71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6D2-5954-4316-8427-B5578C9F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879-0F76-4E8D-83D5-1BF0862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6B1-3075-43B7-8FBC-D724B8FB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EE4-FABA-4931-A024-CD0485E2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F368-0BB5-48F2-87F8-E23738C2D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1929960"/>
            <a:ext cx="8456760" cy="16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pper Elementary Students and their Wor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0040" y="4576320"/>
            <a:ext cx="66121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Jane, Catherine, Laura, Lani, Myranda &amp; Jack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13240" y="1930320"/>
            <a:ext cx="55720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We already are - let's do it intentionally and choose what values we want to pass on.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960" y="303120"/>
            <a:ext cx="8720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Should we teach values and character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1360" y="2743200"/>
            <a:ext cx="34826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0720" y="203040"/>
            <a:ext cx="5194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Developing feelings of self-worth and security by providing opportunities for each child to build on his or her success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4267080"/>
            <a:ext cx="547848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Teaching children to have caring, empathetic, and compassionate attitudes towards other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1320" y="406440"/>
            <a:ext cx="3382920" cy="373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12880" y="4165560"/>
            <a:ext cx="34178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7680" y="203040"/>
            <a:ext cx="330372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Behavior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for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rking cooperativ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playing empat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ing kind and respectfu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3920" y="1219320"/>
            <a:ext cx="36054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Benefit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ring classroom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are more likely to offer assistance to other child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more likely to connect with other students and teac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1520" y="3149640"/>
            <a:ext cx="318312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End result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rease child's school suc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eate lifelong learn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reate contributing members of societ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2700360" cy="1990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603840" y="711360"/>
            <a:ext cx="30020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9200" y="2438280"/>
            <a:ext cx="952200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eaching it directl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ooks, movies, other med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er tut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er buddies (for new studen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ult role modeling of ideal behavio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rvice work (in school and in the community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fusing the target behaviors into the curriculu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iscuss actions of kindness and caring versus those that did not (abov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ve students write about the kindest thing anyone ever did for th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tudents research various charitable organiz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ead of having a class holiday party the students could organize and host a party for residents from a local nursing ho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200" y="182520"/>
            <a:ext cx="9501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o we develop these behaviors if we live in a culture that largely promotes self-preservation and the enhancement of individ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87920" y="2031840"/>
            <a:ext cx="379260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8840" y="297000"/>
            <a:ext cx="9513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s need to be aware of their feeling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9200" y="1930320"/>
            <a:ext cx="64026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ldren need to move beyond identifying emotions such as "happy", "mad", and "sad"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87480" y="3556080"/>
            <a:ext cx="70804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fter reading a story or part of a book discuss the characters emotional reaction to the event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200" y="5587920"/>
            <a:ext cx="69310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"How did the character's body language or voice let you know what the character was feeling?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07240" y="1219320"/>
            <a:ext cx="2536920" cy="2280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7960" y="3657600"/>
            <a:ext cx="2162160" cy="171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12160" y="4673520"/>
            <a:ext cx="23335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65120" y="203040"/>
            <a:ext cx="803448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lassroom as a communit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63600" y="1219320"/>
            <a:ext cx="18925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omic Sans MS"/>
              </a:rPr>
              <a:t>Norm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8480" y="1219320"/>
            <a:ext cx="18190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Comic Sans MS"/>
              </a:rPr>
              <a:t>Instea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600" y="1930320"/>
            <a:ext cx="30542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udent responsible for cleaning up their own desk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7120" y="1930320"/>
            <a:ext cx="30546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udent responsible for one task that affects the whole classro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600" y="4775040"/>
            <a:ext cx="30542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ch student having their own pencil box and suppl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0520" y="4775040"/>
            <a:ext cx="30542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supplies are classroom property - not belonging to any one per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4080" y="2241720"/>
            <a:ext cx="2211120" cy="103320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5600" y="5492880"/>
            <a:ext cx="2211480" cy="103320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60640" y="3657600"/>
            <a:ext cx="18450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52600" y="203040"/>
            <a:ext cx="848808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tudent feels s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takes risk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engages in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uthentic learn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67120" y="1224360"/>
            <a:ext cx="2032200" cy="146052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967920" y="3764880"/>
            <a:ext cx="1986120" cy="1390680"/>
          </a:xfrm>
          <a:custGeom>
            <a:avLst/>
            <a:gdLst/>
            <a:ahLst/>
            <a:rect l="l" t="t" r="r" b="b"/>
            <a:pathLst>
              <a:path w="21600" h="21610">
                <a:moveTo>
                  <a:pt x="0" y="13297"/>
                </a:moveTo>
                <a:lnTo>
                  <a:pt x="8352" y="4944"/>
                </a:lnTo>
                <a:cubicBezTo>
                  <a:pt x="8352" y="4944"/>
                  <a:pt x="4221" y="838"/>
                  <a:pt x="4196" y="789"/>
                </a:cubicBezTo>
                <a:cubicBezTo>
                  <a:pt x="3405" y="0"/>
                  <a:pt x="4992" y="10"/>
                  <a:pt x="4992" y="10"/>
                </a:cubicBezTo>
                <a:lnTo>
                  <a:pt x="21460" y="151"/>
                </a:lnTo>
                <a:cubicBezTo>
                  <a:pt x="21460" y="151"/>
                  <a:pt x="21582" y="16594"/>
                  <a:pt x="21600" y="16611"/>
                </a:cubicBezTo>
                <a:cubicBezTo>
                  <a:pt x="21501" y="18354"/>
                  <a:pt x="20821" y="17412"/>
                  <a:pt x="20821" y="17412"/>
                </a:cubicBezTo>
                <a:lnTo>
                  <a:pt x="16665" y="13257"/>
                </a:lnTo>
                <a:lnTo>
                  <a:pt x="8312" y="21610"/>
                </a:lnTo>
                <a:lnTo>
                  <a:pt x="0" y="1329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400800" y="507960"/>
            <a:ext cx="3059280" cy="245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81040" y="1320840"/>
            <a:ext cx="2703600" cy="4070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502320" y="4470480"/>
            <a:ext cx="2833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31840" y="2641680"/>
            <a:ext cx="653760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6640" y="506520"/>
            <a:ext cx="87249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Promoting Personal Responsibility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4040" y="590400"/>
            <a:ext cx="9026640" cy="4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How teachers can help promote responsibility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2920" y="1862280"/>
            <a:ext cx="522756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gular home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lassroom job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goal se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rganization assist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xpecting more self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5384880"/>
            <a:ext cx="94392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pper elementary students are expected to take on more responsibility.  This is an important skill for the rest of their lives--and it start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66640" y="496800"/>
            <a:ext cx="902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Regular Homework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2600" y="1422360"/>
            <a:ext cx="4512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Develops time management ski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tudents should learn to set aside the right amount of time each night for homework/playing/other responsibiliti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romotes responsibilit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arents shouldn't make excuses for their stud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xtends classroom lea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86400" y="1727280"/>
            <a:ext cx="36561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6160" y="203040"/>
            <a:ext cx="10012320" cy="51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'Times New Roman'"/>
              </a:rPr>
              <a:t>Kohlberg’s Stages of Moral Develop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ffffff"/>
                </a:solidFill>
                <a:latin typeface="'Times New Roman'"/>
              </a:rPr>
              <a:t>Level One: Preconventiona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Stage One: Obedience and Punish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Focused on direct consequences of their actions on themselv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Egocentric, not aware that other’s points of view are different than their ow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Stage Two: Self-Interest Driv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What’s in it for m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Right behavior will result in what’s best for 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Concern for others involves both people receiving something from each ot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50400" y="8848800"/>
            <a:ext cx="2870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ne's slides 2-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66640" y="396720"/>
            <a:ext cx="902808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Classroom Job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4800" y="1417680"/>
            <a:ext cx="2560680" cy="319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502320" y="3860640"/>
            <a:ext cx="3044880" cy="2967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97320" y="1625760"/>
            <a:ext cx="58165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jo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dural, organizational, cleanu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: supply monitors, recyclers, paper handlers, librarian, reporter, secret admire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" y="4876920"/>
            <a:ext cx="519408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assroom job teach students to be responsible for their learning environment and follow through with jobs they 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5760" y="392040"/>
            <a:ext cx="9212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Goal Set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5880" y="1828800"/>
            <a:ext cx="3175200" cy="4343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52320" y="1473120"/>
            <a:ext cx="51199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hort-term vs. long-term go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b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alk to kids about their progress toward go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rite the goal and why it's import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t an examp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hildren are accountable for reaching their go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6560" y="504720"/>
            <a:ext cx="90284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omic Sans MS"/>
              </a:rPr>
              <a:t>Helping Students Get Organiz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9960" y="2031840"/>
            <a:ext cx="4260960" cy="4299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1727280"/>
            <a:ext cx="411624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ncourage use of plann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mplement research techniques to organize ide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how them how to set up their bind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Keep a model notebook/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Use class time to teach organiz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is skill will help students for the rest of their liv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8640" y="417600"/>
            <a:ext cx="911232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tudent Accountabil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2540160"/>
            <a:ext cx="3809880" cy="284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27720" y="2328840"/>
            <a:ext cx="3887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Upper elementary students become expected of more self-control and are held increasingly accountable for their behavior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Impact on Curriculu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Reading for Content Knowledge-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focus on learning to read is now replaced with reading to lean conten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cience books, social studies books and health books are being introduc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are now beginning picture in their minds what they are reading without the assistance of illustra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Writing for an Audie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now have to think about who they are writing 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ademic or non-aca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ter, poem or ess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rrative, persuasive, compare and contr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nquain, couplet, haiku, name poem and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79960" y="1625760"/>
            <a:ext cx="38797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000" y="295200"/>
            <a:ext cx="9880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Math</a:t>
            </a:r>
            <a:br>
              <a:rPr sz="4300"/>
            </a:b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Symbols and Abstract Concep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ultiplication tab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Division fa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ultiple digt addition and subt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erime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ing able to express multiple step problems clearly i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16640" y="1930320"/>
            <a:ext cx="23608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ssess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rd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and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th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, Reading an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th Grad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, Reading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Classro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elf Assess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rtfo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ffffff"/>
                </a:solidFill>
                <a:latin typeface="Comic Sans MS"/>
              </a:rPr>
              <a:t>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56080" y="2438280"/>
            <a:ext cx="16383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000" y="299880"/>
            <a:ext cx="96631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How did we do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7680" y="1015560"/>
            <a:ext cx="9780480" cy="630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3rd Grade 83% (down from 84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84% (up from 83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6% (up from 75% in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a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3rd Grade 77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77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7% (no change from 07-08)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4th Grade 44% (up from 43% in 07-08)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5th Grade 75% (no change from 07-08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Comic Sans MS"/>
              </a:rPr>
              <a:t>http://www.movingtoportland.net/schools_test.h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86400" y="2235240"/>
            <a:ext cx="4073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7760" y="401760"/>
            <a:ext cx="94294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'Times New Roman'"/>
              </a:rPr>
              <a:t>Level Two: Convention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'Times New Roman'"/>
              </a:rPr>
              <a:t>Judge morality of actions by comparing them to society’s views and expec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Typical of adolescents and adul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'Times New Roman'"/>
              </a:rPr>
              <a:t>Elementary School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Transitioning from stage one to stage two of the preconventional stages and then to conventional as they reach adolesc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Most moral decisions based on self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'Times New Roman'"/>
              </a:rPr>
              <a:t>Provide students opportunities to move beyond self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57240" y="184320"/>
            <a:ext cx="997740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'Times New Roman'"/>
              </a:rPr>
              <a:t>Piaget’s Stages of Cognitive Develop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'Times New Roman'"/>
              </a:rPr>
              <a:t>Concrete Operational (Ages 7-11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Moving beyond egocentricism: recognizing others have a different view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an think logically about objects and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lassifies objects according to several features and can order them in series along a single dimension such as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Conservation is the realization that objects or sets of objects stay the same even when they are changed about or made to look different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Achieves conservation of number (age 6), mass (age 7), and weight (age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'Times New Roman'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Times New Roman'"/>
              </a:rPr>
              <a:t>Transition to Formal Operational Stage around age 11, where students think abstractly and hypothe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9120" y="219240"/>
            <a:ext cx="96156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56628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ribes</a:t>
            </a: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by Jeanne Gibb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0" y="1110960"/>
            <a:ext cx="965844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pose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building a learning communit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romotes human growth and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lps develop resilien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sters collaborative, pro-social skil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if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clusion, influence,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terogeneous groups that remain together for an extended perio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 democratic system...choice and 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4 agree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3800" y="310680"/>
            <a:ext cx="9677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ctivity: Cooperation Squa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727280"/>
            <a:ext cx="94629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bjective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ncourage coop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uild awareness of how own behaviors help or hinder the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uild inclusion and influ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ules of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no tal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ay only give pieces...no taking or requ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f your tribe finishes, silently think about the reflection ques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03840" y="3657600"/>
            <a:ext cx="2325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9280" y="310680"/>
            <a:ext cx="933624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 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Reflecting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on the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Activity  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9200" y="3048120"/>
            <a:ext cx="4603680" cy="39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estions to 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did you learn about non-verbal cooper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social skills did you need to make this activity successfu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y is giving a social skil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7280" y="2945880"/>
            <a:ext cx="45529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d community building activ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ave a win-win outco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clude every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ighlight contributions of individua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re fun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20840" y="406440"/>
            <a:ext cx="2265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7960" y="1422360"/>
            <a:ext cx="4397400" cy="4971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75440" y="3548160"/>
            <a:ext cx="4141440" cy="340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8160" y="203040"/>
            <a:ext cx="50590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Comic Sans MS"/>
              </a:rPr>
              <a:t>Building a Saf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Comic Sans MS"/>
              </a:rPr>
              <a:t>Classroom Environmen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