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5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27.jpeg" ContentType="image/jpeg"/>
  <Override PartName="/ppt/media/image6.jpeg" ContentType="image/jpeg"/>
  <Override PartName="/ppt/media/image22.jpeg" ContentType="image/jpeg"/>
  <Override PartName="/ppt/media/image7.png" ContentType="image/png"/>
  <Override PartName="/ppt/media/image1.jpeg" ContentType="image/jpeg"/>
  <Override PartName="/ppt/media/image19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5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2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media/image16.png" ContentType="image/png"/>
  <Override PartName="/ppt/media/image17.jpeg" ContentType="image/jpeg"/>
  <Override PartName="/ppt/media/image26.png" ContentType="image/png"/>
  <Override PartName="/ppt/media/image18.jpeg" ContentType="image/jpeg"/>
  <Override PartName="/ppt/media/image20.jpeg" ContentType="image/jpeg"/>
  <Override PartName="/ppt/media/image2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7485-F5B8-4FC5-9856-F1765155A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77F3-E584-4B52-9E53-1D72851BA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1BF9-FFDC-4E02-8934-8974B5758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E87C-1B3D-4DDD-8E22-351CA08A7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30D8-7C5D-4667-94DA-C83157765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4F9A-6471-4448-A391-A6FD5B8B2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0D01-3DD4-4B86-A08D-4D3769B18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6C0C-2C1C-4E11-9B86-239A0AB8A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9E12-1793-408C-924F-9A187030C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22B4-5209-4513-BAFE-CECC31060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0DE1-D846-4B46-A455-629BEFF7E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A908-8774-40C6-83BC-85A03DBBD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CC1D9-9767-460B-BF5E-BFFE31C87D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6800" y="1929960"/>
            <a:ext cx="8456760" cy="16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Upper Elementary Students and their Worl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60040" y="4576320"/>
            <a:ext cx="6612120" cy="119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y Jane, Catherine, Laura, Lani, Myranda &amp; Jack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413240" y="1930320"/>
            <a:ext cx="5572080" cy="32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arial"/>
              </a:rPr>
              <a:t>We already are - let's do it intentionally and choose what values we want to pass on. </a:t>
            </a: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3960" y="303120"/>
            <a:ext cx="8720280" cy="15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300" spc="-1" strike="noStrike">
                <a:solidFill>
                  <a:srgbClr val="ffffff"/>
                </a:solidFill>
                <a:latin typeface="Comic Sans MS"/>
              </a:rPr>
              <a:t>Should we teach values and character?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711360" y="2743200"/>
            <a:ext cx="3482640" cy="36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50720" y="203040"/>
            <a:ext cx="519444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Comic Sans MS"/>
              </a:rPr>
              <a:t>Developing feelings of self-worth and security by providing opportunities for each child to build on his or her successes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10200" y="4267080"/>
            <a:ext cx="5478480" cy="20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Comic Sans MS"/>
              </a:rPr>
              <a:t>Teaching children to have caring, empathetic, and compassionate attitudes towards others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5791320" y="406440"/>
            <a:ext cx="3382920" cy="3732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812880" y="4165560"/>
            <a:ext cx="3417840" cy="26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47680" y="203040"/>
            <a:ext cx="3303720" cy="36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Comic Sans MS"/>
              </a:rPr>
              <a:t>Behaviors: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omfor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har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working cooperativel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displaying empath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being kind and respectful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193920" y="1219320"/>
            <a:ext cx="360540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Comic Sans MS"/>
              </a:rPr>
              <a:t>Benefits: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aring classroom communit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hildren are more likely to offer assistance to other childre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hildren more likely to connect with other students and teach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1520" y="3149640"/>
            <a:ext cx="3183120" cy="36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Comic Sans MS"/>
              </a:rPr>
              <a:t>End result: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increase child's school succes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reate lifelong learner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reate contributing members of society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09480" y="4572000"/>
            <a:ext cx="2700360" cy="19908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6603840" y="711360"/>
            <a:ext cx="3002040" cy="21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49200" y="2438280"/>
            <a:ext cx="9522000" cy="408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rategi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teaching it directly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books, movies, other medi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peer tutoring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peer buddies (for new student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adult role modeling of ideal behavior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service work (in school and in the community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) 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infusing the target behaviors into the curriculum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discuss actions of kindness and caring versus those that did not (above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have students write about the kindest thing anyone ever did for them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students research various charitable organization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instead of having a class holiday party the students could organize and host a party for residents from a local nursing hom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49200" y="182520"/>
            <a:ext cx="9501120" cy="13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How do we develop these behaviors if we live in a culture that largely promotes self-preservation and the enhancement of individualit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5587920" y="2031840"/>
            <a:ext cx="3792600" cy="23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58840" y="297000"/>
            <a:ext cx="951372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omic Sans MS"/>
              </a:rPr>
              <a:t>Students need to be aware of their feelings!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49200" y="1930320"/>
            <a:ext cx="6402600" cy="11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hildren need to move beyond identifying emotions such as "happy", "mad", and "sad"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787480" y="3556080"/>
            <a:ext cx="7080480" cy="11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After reading a story or part of a book discuss the characters emotional reaction to the events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49200" y="5587920"/>
            <a:ext cx="6931080" cy="11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"How did the character's body language or voice let you know what the character was feeling?"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6807240" y="1219320"/>
            <a:ext cx="2536920" cy="22809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507960" y="3657600"/>
            <a:ext cx="2162160" cy="17193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7112160" y="4673520"/>
            <a:ext cx="2333520" cy="21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365120" y="203040"/>
            <a:ext cx="8034480" cy="69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Classroom as a community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263600" y="1219320"/>
            <a:ext cx="1892520" cy="5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 u="sng">
                <a:solidFill>
                  <a:srgbClr val="ffffff"/>
                </a:solidFill>
                <a:uFillTx/>
                <a:latin typeface="Comic Sans MS"/>
              </a:rPr>
              <a:t>Norma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648480" y="1219320"/>
            <a:ext cx="1819080" cy="5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 u="sng">
                <a:solidFill>
                  <a:srgbClr val="ffffff"/>
                </a:solidFill>
                <a:uFillTx/>
                <a:latin typeface="Comic Sans MS"/>
              </a:rPr>
              <a:t>Instead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2600" y="1930320"/>
            <a:ext cx="3054240" cy="11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tudent responsible for cleaning up their own desk are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937120" y="1930320"/>
            <a:ext cx="3054600" cy="15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tudent responsible for one task that affects the whole classroom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52600" y="4775040"/>
            <a:ext cx="3054240" cy="15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Each student having their own pencil box and suppli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140520" y="4775040"/>
            <a:ext cx="3054240" cy="15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e supplies are classroom property - not belonging to any one pers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664080" y="2241720"/>
            <a:ext cx="2211120" cy="1033200"/>
          </a:xfrm>
          <a:custGeom>
            <a:avLst/>
            <a:gdLst/>
            <a:ahLst/>
            <a:rect l="l" t="t" r="r" b="b"/>
            <a:pathLst>
              <a:path w="21600" h="22715">
                <a:moveTo>
                  <a:pt x="0" y="6165"/>
                </a:moveTo>
                <a:lnTo>
                  <a:pt x="10427" y="6165"/>
                </a:lnTo>
                <a:cubicBezTo>
                  <a:pt x="10427" y="6165"/>
                  <a:pt x="10412" y="1031"/>
                  <a:pt x="10427" y="985"/>
                </a:cubicBezTo>
                <a:cubicBezTo>
                  <a:pt x="10427" y="0"/>
                  <a:pt x="11410" y="995"/>
                  <a:pt x="11410" y="995"/>
                </a:cubicBezTo>
                <a:lnTo>
                  <a:pt x="21600" y="11345"/>
                </a:lnTo>
                <a:cubicBezTo>
                  <a:pt x="21600" y="11345"/>
                  <a:pt x="11413" y="21669"/>
                  <a:pt x="11413" y="21691"/>
                </a:cubicBezTo>
                <a:cubicBezTo>
                  <a:pt x="10263" y="22715"/>
                  <a:pt x="10427" y="21705"/>
                  <a:pt x="10427" y="21705"/>
                </a:cubicBezTo>
                <a:lnTo>
                  <a:pt x="10427" y="16526"/>
                </a:lnTo>
                <a:lnTo>
                  <a:pt x="0" y="16526"/>
                </a:lnTo>
                <a:lnTo>
                  <a:pt x="0" y="616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765600" y="5492880"/>
            <a:ext cx="2211480" cy="1033200"/>
          </a:xfrm>
          <a:custGeom>
            <a:avLst/>
            <a:gdLst/>
            <a:ahLst/>
            <a:rect l="l" t="t" r="r" b="b"/>
            <a:pathLst>
              <a:path w="21600" h="22715">
                <a:moveTo>
                  <a:pt x="0" y="6165"/>
                </a:moveTo>
                <a:lnTo>
                  <a:pt x="10427" y="6165"/>
                </a:lnTo>
                <a:cubicBezTo>
                  <a:pt x="10427" y="6165"/>
                  <a:pt x="10412" y="1031"/>
                  <a:pt x="10427" y="985"/>
                </a:cubicBezTo>
                <a:cubicBezTo>
                  <a:pt x="10427" y="0"/>
                  <a:pt x="11410" y="995"/>
                  <a:pt x="11410" y="995"/>
                </a:cubicBezTo>
                <a:lnTo>
                  <a:pt x="21600" y="11345"/>
                </a:lnTo>
                <a:cubicBezTo>
                  <a:pt x="21600" y="11345"/>
                  <a:pt x="11413" y="21669"/>
                  <a:pt x="11413" y="21691"/>
                </a:cubicBezTo>
                <a:cubicBezTo>
                  <a:pt x="10263" y="22715"/>
                  <a:pt x="10427" y="21705"/>
                  <a:pt x="10427" y="21705"/>
                </a:cubicBezTo>
                <a:lnTo>
                  <a:pt x="10427" y="16526"/>
                </a:lnTo>
                <a:lnTo>
                  <a:pt x="0" y="16526"/>
                </a:lnTo>
                <a:lnTo>
                  <a:pt x="0" y="616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860640" y="3657600"/>
            <a:ext cx="1845000" cy="14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552600" y="203040"/>
            <a:ext cx="8488080" cy="50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Student feels saf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 </a:t>
            </a:r>
            <a:r>
              <a:rPr b="0" lang="en-US" sz="26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omic Sans MS"/>
              </a:rPr>
              <a:t> </a:t>
            </a:r>
            <a:r>
              <a:rPr b="0" lang="en-US" sz="4300" spc="-1" strike="noStrike">
                <a:solidFill>
                  <a:srgbClr val="ffffff"/>
                </a:solidFill>
                <a:latin typeface="Comic Sans MS"/>
              </a:rPr>
              <a:t>Student takes risk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 </a:t>
            </a:r>
            <a:r>
              <a:rPr b="0" lang="en-US" sz="26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omic Sans MS"/>
              </a:rPr>
              <a:t>Student engages in 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omic Sans MS"/>
              </a:rPr>
              <a:t>authentic learning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3867120" y="1224360"/>
            <a:ext cx="2032200" cy="1460520"/>
          </a:xfrm>
          <a:custGeom>
            <a:avLst/>
            <a:gdLst/>
            <a:ahLst/>
            <a:rect l="l" t="t" r="r" b="b"/>
            <a:pathLst>
              <a:path w="21600" h="21610">
                <a:moveTo>
                  <a:pt x="0" y="13297"/>
                </a:moveTo>
                <a:lnTo>
                  <a:pt x="8352" y="4944"/>
                </a:lnTo>
                <a:cubicBezTo>
                  <a:pt x="8352" y="4944"/>
                  <a:pt x="4221" y="838"/>
                  <a:pt x="4196" y="789"/>
                </a:cubicBezTo>
                <a:cubicBezTo>
                  <a:pt x="3405" y="0"/>
                  <a:pt x="4992" y="10"/>
                  <a:pt x="4992" y="10"/>
                </a:cubicBezTo>
                <a:lnTo>
                  <a:pt x="21460" y="151"/>
                </a:lnTo>
                <a:cubicBezTo>
                  <a:pt x="21460" y="151"/>
                  <a:pt x="21582" y="16594"/>
                  <a:pt x="21600" y="16611"/>
                </a:cubicBezTo>
                <a:cubicBezTo>
                  <a:pt x="21501" y="18354"/>
                  <a:pt x="20821" y="17412"/>
                  <a:pt x="20821" y="17412"/>
                </a:cubicBezTo>
                <a:lnTo>
                  <a:pt x="16665" y="13257"/>
                </a:lnTo>
                <a:lnTo>
                  <a:pt x="8312" y="21610"/>
                </a:lnTo>
                <a:lnTo>
                  <a:pt x="0" y="1329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flipV="1">
            <a:off x="3967920" y="3764880"/>
            <a:ext cx="1986120" cy="1390680"/>
          </a:xfrm>
          <a:custGeom>
            <a:avLst/>
            <a:gdLst/>
            <a:ahLst/>
            <a:rect l="l" t="t" r="r" b="b"/>
            <a:pathLst>
              <a:path w="21600" h="21610">
                <a:moveTo>
                  <a:pt x="0" y="13297"/>
                </a:moveTo>
                <a:lnTo>
                  <a:pt x="8352" y="4944"/>
                </a:lnTo>
                <a:cubicBezTo>
                  <a:pt x="8352" y="4944"/>
                  <a:pt x="4221" y="838"/>
                  <a:pt x="4196" y="789"/>
                </a:cubicBezTo>
                <a:cubicBezTo>
                  <a:pt x="3405" y="0"/>
                  <a:pt x="4992" y="10"/>
                  <a:pt x="4992" y="10"/>
                </a:cubicBezTo>
                <a:lnTo>
                  <a:pt x="21460" y="151"/>
                </a:lnTo>
                <a:cubicBezTo>
                  <a:pt x="21460" y="151"/>
                  <a:pt x="21582" y="16594"/>
                  <a:pt x="21600" y="16611"/>
                </a:cubicBezTo>
                <a:cubicBezTo>
                  <a:pt x="21501" y="18354"/>
                  <a:pt x="20821" y="17412"/>
                  <a:pt x="20821" y="17412"/>
                </a:cubicBezTo>
                <a:lnTo>
                  <a:pt x="16665" y="13257"/>
                </a:lnTo>
                <a:lnTo>
                  <a:pt x="8312" y="21610"/>
                </a:lnTo>
                <a:lnTo>
                  <a:pt x="0" y="1329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6400800" y="507960"/>
            <a:ext cx="3059280" cy="24573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581040" y="1320840"/>
            <a:ext cx="2703600" cy="40701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6502320" y="4470480"/>
            <a:ext cx="2833920" cy="25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031840" y="2641680"/>
            <a:ext cx="6537600" cy="38862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66640" y="506520"/>
            <a:ext cx="8724960" cy="15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300" spc="-1" strike="noStrike">
                <a:solidFill>
                  <a:srgbClr val="ffffff"/>
                </a:solidFill>
                <a:latin typeface="Comic Sans MS"/>
              </a:rPr>
              <a:t>Promoting Personal Responsibility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554040" y="590400"/>
            <a:ext cx="9026640" cy="41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Comic Sans MS"/>
              </a:rPr>
              <a:t>How teachers can help promote responsibility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482920" y="1862280"/>
            <a:ext cx="5227560" cy="19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regular homew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classroom job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goal set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organization assistanc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expecting more self contro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28680" y="5384880"/>
            <a:ext cx="9439200" cy="104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Upper elementary students are expected to take on more responsibility.  This is an important skill for the rest of their lives--and it starts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66640" y="496800"/>
            <a:ext cx="9028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Comic Sans MS"/>
              </a:rPr>
              <a:t>Regular Homework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2600" y="1422360"/>
            <a:ext cx="4512960" cy="39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mic Sans MS"/>
              </a:rPr>
              <a:t>Why?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mic Sans MS"/>
              </a:rPr>
              <a:t>Develops time management skill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mic Sans MS"/>
              </a:rPr>
              <a:t>Students should learn to set aside the right amount of time each night for homework/playing/other responsibilities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mic Sans MS"/>
              </a:rPr>
              <a:t>Promotes responsibility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mic Sans MS"/>
              </a:rPr>
              <a:t>Parents shouldn't make excuses for their student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mic Sans MS"/>
              </a:rPr>
              <a:t>Extends classroom learning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5486400" y="1727280"/>
            <a:ext cx="365616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46160" y="203040"/>
            <a:ext cx="10012320" cy="51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ff"/>
                </a:solidFill>
                <a:latin typeface="'Times New Roman'"/>
              </a:rPr>
              <a:t>Kohlberg’s Stages of Moral Development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700" spc="-1" strike="noStrike">
                <a:solidFill>
                  <a:srgbClr val="ffffff"/>
                </a:solidFill>
                <a:latin typeface="'Times New Roman'"/>
              </a:rPr>
              <a:t>Level One: Preconventional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'Times New Roman'"/>
              </a:rPr>
              <a:t>Stage One: Obedience and Punishmen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'Times New Roman'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'Times New Roman'"/>
              </a:rPr>
              <a:t>Focused on direct consequences of their actions on themselv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'Times New Roman'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'Times New Roman'"/>
              </a:rPr>
              <a:t>Egocentric, not aware that other’s points of view are different than their ow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'Times New Roman'"/>
              </a:rPr>
              <a:t>Stage Two: Self-Interest Drive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'Times New Roman'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'Times New Roman'"/>
              </a:rPr>
              <a:t> </a:t>
            </a:r>
            <a:r>
              <a:rPr b="0" lang="en-US" sz="2700" spc="-1" strike="noStrike">
                <a:solidFill>
                  <a:srgbClr val="ffffff"/>
                </a:solidFill>
                <a:latin typeface="'Times New Roman'"/>
              </a:rPr>
              <a:t>What’s in it for m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'Times New Roman'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'Times New Roman'"/>
              </a:rPr>
              <a:t>Right behavior will result in what’s best for m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'Times New Roman'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'Times New Roman'"/>
              </a:rPr>
              <a:t>Concern for others involves both people receiving something from each oth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050400" y="8848800"/>
            <a:ext cx="287028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Jane's slides 2-4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566640" y="396720"/>
            <a:ext cx="9028080" cy="6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ff"/>
                </a:solidFill>
                <a:latin typeface="Comic Sans MS"/>
              </a:rPr>
              <a:t>Classroom Job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604800" y="1417680"/>
            <a:ext cx="2560680" cy="31957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6502320" y="3860640"/>
            <a:ext cx="3044880" cy="29671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3397320" y="1625760"/>
            <a:ext cx="5816520" cy="20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ypes of job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rocedural, organizational, cleanup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x: supply monitors, recyclers, paper handlers, librarian, reporter, secret admirer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52600" y="4876920"/>
            <a:ext cx="5194080" cy="17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h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lassroom job teach students to be responsible for their learning environment and follow through with jobs they ho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455760" y="392040"/>
            <a:ext cx="9212040" cy="6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ff"/>
                </a:solidFill>
                <a:latin typeface="Comic Sans MS"/>
              </a:rPr>
              <a:t>Goal Setting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095880" y="1828800"/>
            <a:ext cx="3175200" cy="43434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652320" y="1473120"/>
            <a:ext cx="5119920" cy="39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Short-term vs. long-term goal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set both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Talk to kids about their progress toward goal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Write the goal and why it's importan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Set an examp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Children are accountable for reaching their goa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466560" y="504720"/>
            <a:ext cx="9028440" cy="6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ff"/>
                </a:solidFill>
                <a:latin typeface="Comic Sans MS"/>
              </a:rPr>
              <a:t>Helping Students Get Organiz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5079960" y="2031840"/>
            <a:ext cx="4260960" cy="42991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755640" y="1727280"/>
            <a:ext cx="4116240" cy="33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mic Sans MS"/>
              </a:rPr>
              <a:t>Encourage use of planner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mic Sans MS"/>
              </a:rPr>
              <a:t>Implement research techniques to organize idea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mic Sans MS"/>
              </a:rPr>
              <a:t>Show them how to set up their binder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mic Sans MS"/>
              </a:rPr>
              <a:t>Keep a model notebook/planne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mic Sans MS"/>
              </a:rPr>
              <a:t>Use class time to teach organizati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mic Sans MS"/>
              </a:rPr>
              <a:t>This skill will help students for the rest of their lives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58640" y="417600"/>
            <a:ext cx="9112320" cy="6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omic Sans MS"/>
              </a:rPr>
              <a:t>Student Accountability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914400" y="2540160"/>
            <a:ext cx="3809880" cy="28447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5427720" y="2328840"/>
            <a:ext cx="3887640" cy="273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Upper elementary students become expected of more self-control and are held increasingly accountable for their behavior. 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43000" y="299880"/>
            <a:ext cx="9663120" cy="14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omic Sans MS"/>
              </a:rPr>
              <a:t>Impact on Curriculu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mic Sans MS"/>
              </a:rPr>
              <a:t>Reading for Content Knowledge-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The focus on learning to read is now replaced with reading to lean content.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Science books, social studies books and health books are being introduced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Students are now beginning picture in their minds what they are reading without the assistance of illustration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000" y="299880"/>
            <a:ext cx="9663120" cy="14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omic Sans MS"/>
              </a:rPr>
              <a:t>Writing for an Audienc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Students now have to think about who they are writing to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cademic or non-academ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etter, poem or ess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arrative, persuasive, compare and contr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inquain, couplet, haiku, name poem and m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5079960" y="1625760"/>
            <a:ext cx="3879720" cy="43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000" y="295200"/>
            <a:ext cx="9880560" cy="20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omic Sans MS"/>
              </a:rPr>
              <a:t>Math</a:t>
            </a:r>
            <a:br>
              <a:rPr sz="4300"/>
            </a:br>
            <a:r>
              <a:rPr b="0" lang="en-US" sz="2900" spc="-1" strike="noStrike">
                <a:solidFill>
                  <a:srgbClr val="ffffff"/>
                </a:solidFill>
                <a:latin typeface="Comic Sans MS"/>
              </a:rPr>
              <a:t>Symbols and Abstract Concept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Multiplication tab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Division fac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Multiple digt addition and subtrac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Fract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Perime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Are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eing able to express multiple step problems clearly is 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316640" y="1930320"/>
            <a:ext cx="236088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000" y="299880"/>
            <a:ext cx="9663120" cy="14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omic Sans MS"/>
              </a:rPr>
              <a:t>Assessmen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ffff"/>
                </a:solidFill>
                <a:uFillTx/>
                <a:latin typeface="Comic Sans MS"/>
              </a:rPr>
              <a:t>Stat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3rd Grade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ath and Rea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4th Grade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ath, Reading and Wri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5th Grade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ath, Reading and Sci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ffff"/>
                </a:solidFill>
                <a:uFillTx/>
                <a:latin typeface="Comic Sans MS"/>
              </a:rPr>
              <a:t>Classroom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ubr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Self Assessmen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ortfol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700" spc="-1" strike="noStrike">
                <a:solidFill>
                  <a:srgbClr val="ffffff"/>
                </a:solidFill>
                <a:latin typeface="Comic Sans MS"/>
              </a:rPr>
              <a:t>﻿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3556080" y="2438280"/>
            <a:ext cx="1638360" cy="14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000" y="299880"/>
            <a:ext cx="9663120" cy="14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omic Sans MS"/>
              </a:rPr>
              <a:t>How did we do?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47680" y="1015560"/>
            <a:ext cx="9780480" cy="630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Read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omic Sans MS"/>
              </a:rPr>
              <a:t>3rd Grade 83% (down from 84% in 07-08)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omic Sans MS"/>
              </a:rPr>
              <a:t>4th Grade 84% (up from 83% in 07-08)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omic Sans MS"/>
              </a:rPr>
              <a:t>5th Grade 76% (up from 75% in 07-08)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Math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omic Sans MS"/>
              </a:rPr>
              <a:t>3rd Grade 77% (no change from 07-08)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omic Sans MS"/>
              </a:rPr>
              <a:t>4th Grade 77% (no change from 07-08)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omic Sans MS"/>
              </a:rPr>
              <a:t>5th Grade 77% (no change from 07-08)</a:t>
            </a:r>
            <a:r>
              <a:rPr b="0" lang="en-US" sz="21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Wri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omic Sans MS"/>
              </a:rPr>
              <a:t>  </a:t>
            </a:r>
            <a:r>
              <a:rPr b="0" lang="en-US" sz="1900" spc="-1" strike="noStrike">
                <a:solidFill>
                  <a:srgbClr val="ffffff"/>
                </a:solidFill>
                <a:latin typeface="Comic Sans MS"/>
              </a:rPr>
              <a:t>4th Grade 44% (up from 43% in 07-08) 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Scienc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omic Sans MS"/>
              </a:rPr>
              <a:t>  </a:t>
            </a:r>
            <a:r>
              <a:rPr b="0" lang="en-US" sz="1900" spc="-1" strike="noStrike">
                <a:solidFill>
                  <a:srgbClr val="ffffff"/>
                </a:solidFill>
                <a:latin typeface="Comic Sans MS"/>
              </a:rPr>
              <a:t>5th Grade 75% (no change from 07-08)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ccccff"/>
                </a:solidFill>
                <a:uFillTx/>
                <a:latin typeface="Comic Sans MS"/>
              </a:rPr>
              <a:t>http://www.movingtoportland.net/schools_test.htm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5486400" y="2235240"/>
            <a:ext cx="4073400" cy="30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47760" y="401760"/>
            <a:ext cx="9429480" cy="360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500" spc="-1" strike="noStrike">
                <a:solidFill>
                  <a:srgbClr val="ffffff"/>
                </a:solidFill>
                <a:latin typeface="'Times New Roman'"/>
              </a:rPr>
              <a:t>Level Two: Conventiona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'Times New Roman'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'Times New Roman'"/>
              </a:rPr>
              <a:t>Judge morality of actions by comparing them to society’s views and expec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'Times New Roman'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'Times New Roman'"/>
              </a:rPr>
              <a:t>Typical of adolescents and adul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ffffff"/>
                </a:solidFill>
                <a:latin typeface="'Times New Roman'"/>
              </a:rPr>
              <a:t>Elementary School Studen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'Times New Roman'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'Times New Roman'"/>
              </a:rPr>
              <a:t>Transitioning from stage one to stage two of the preconventional stages and then to conventional as they reach adolescenc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'Times New Roman'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'Times New Roman'"/>
              </a:rPr>
              <a:t>Most moral decisions based on self inter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'Times New Roman'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'Times New Roman'"/>
              </a:rPr>
              <a:t>Provide students opportunities to move beyond self inter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-57240" y="184320"/>
            <a:ext cx="9977400" cy="42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ff"/>
                </a:solidFill>
                <a:latin typeface="'Times New Roman'"/>
              </a:rPr>
              <a:t>Piaget’s Stages of Cognitive Development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500" spc="-1" strike="noStrike">
                <a:solidFill>
                  <a:srgbClr val="ffffff"/>
                </a:solidFill>
                <a:latin typeface="'Times New Roman'"/>
              </a:rPr>
              <a:t>Concrete Operational (Ages 7-11)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'Times New Roman'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'Times New Roman'"/>
              </a:rPr>
              <a:t>Moving beyond egocentricism: recognizing others have a different view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'Times New Roman'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'Times New Roman'"/>
              </a:rPr>
              <a:t>Can think logically about objects and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'Times New Roman'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'Times New Roman'"/>
              </a:rPr>
              <a:t>Classifies objects according to several features and can order them in series along a single dimension such as s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'Times New Roman'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'Times New Roman'"/>
              </a:rPr>
              <a:t>Conservation is the realization that objects or sets of objects stay the same even when they are changed about or made to look different.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'Times New Roman'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'Times New Roman'"/>
              </a:rPr>
              <a:t>Achieves conservation of number (age 6), mass (age 7), and weight (age 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'Times New Roman'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'Times New Roman'"/>
              </a:rPr>
              <a:t>Transition to Formal Operational Stage around age 11, where students think abstractly and hypothetic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49120" y="219240"/>
            <a:ext cx="961560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482920" y="1905120"/>
            <a:ext cx="51940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482920" y="1905120"/>
            <a:ext cx="51940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04920" y="304920"/>
            <a:ext cx="9566280" cy="69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Tribes</a:t>
            </a:r>
            <a:r>
              <a:rPr b="0" lang="en-US" sz="4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300" spc="-1" strike="noStrike">
                <a:solidFill>
                  <a:srgbClr val="ffffff"/>
                </a:solidFill>
                <a:latin typeface="Comic Sans MS"/>
              </a:rPr>
              <a:t>by Jeanne Gibb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9240" y="1110960"/>
            <a:ext cx="9658440" cy="60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urpose</a:t>
            </a: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: building a learning community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promotes human growth and learn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helps develop resilienc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fosters collaborative, pro-social skills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pecific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inclusion, influence, communit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heterogeneous groups that remain together for an extended period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a democratic system...choice and contro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4 agreemen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3800" y="310680"/>
            <a:ext cx="9677160" cy="91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omic Sans MS"/>
              </a:rPr>
              <a:t>Activity: Cooperation Square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47680" y="1727280"/>
            <a:ext cx="946296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 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bjectives</a:t>
            </a: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encourage cooper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build awareness of how own behaviors help or hinder the group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build inclusion and influenc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Rules of the G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no tal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may only give pieces...no taking or requ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if your tribe finishes, silently think about the reflection quest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6603840" y="3657600"/>
            <a:ext cx="232596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49280" y="310680"/>
            <a:ext cx="9336240" cy="25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omic Sans MS"/>
              </a:rPr>
              <a:t>  </a:t>
            </a:r>
            <a:r>
              <a:rPr b="0" lang="en-US" sz="4300" spc="-1" strike="noStrike">
                <a:solidFill>
                  <a:srgbClr val="ffffff"/>
                </a:solidFill>
                <a:latin typeface="Comic Sans MS"/>
              </a:rPr>
              <a:t>Reflecting </a:t>
            </a:r>
            <a:br>
              <a:rPr sz="4300"/>
            </a:br>
            <a:r>
              <a:rPr b="0" lang="en-US" sz="4300" spc="-1" strike="noStrike">
                <a:solidFill>
                  <a:srgbClr val="ffffff"/>
                </a:solidFill>
                <a:latin typeface="Comic Sans MS"/>
              </a:rPr>
              <a:t>on the </a:t>
            </a:r>
            <a:br>
              <a:rPr sz="4300"/>
            </a:br>
            <a:r>
              <a:rPr b="0" lang="en-US" sz="4300" spc="-1" strike="noStrike">
                <a:solidFill>
                  <a:srgbClr val="ffffff"/>
                </a:solidFill>
                <a:latin typeface="Comic Sans MS"/>
              </a:rPr>
              <a:t>Activity   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9200" y="3048120"/>
            <a:ext cx="4603680" cy="39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Questions to Pon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What did you learn about non-verbal cooperation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What social skills did you need to make this activity successfu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Why is giving a social skil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327280" y="2945880"/>
            <a:ext cx="4552920" cy="41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ood community building activities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have a win-win outcom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include everyon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highlight contributions of individual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are fun!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1320840" y="406440"/>
            <a:ext cx="2265480" cy="25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507960" y="1422360"/>
            <a:ext cx="4397400" cy="4971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5275440" y="3548160"/>
            <a:ext cx="4141440" cy="34052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718160" y="203040"/>
            <a:ext cx="5059080" cy="23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ffffff"/>
                </a:solidFill>
                <a:latin typeface="Comic Sans MS"/>
              </a:rPr>
              <a:t>Building a Safe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ffffff"/>
                </a:solidFill>
                <a:latin typeface="Comic Sans MS"/>
              </a:rPr>
              <a:t>Classroom Environment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