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1.gif" ContentType="image/gif"/>
  <Override PartName="/ppt/media/image14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63FF-66DB-420F-A720-004B04FBB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C11C-80C9-4C97-AD31-5AD4ACF108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. 9/28/01 – Abridged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2560" cy="68256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85800"/>
            <a:ext cx="290520" cy="6172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52040" y="609480"/>
            <a:ext cx="290520" cy="624708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71440" y="6551640"/>
            <a:ext cx="860112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6464160" y="6516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 # </a:t>
            </a:r>
            <a:fld id="{23E0CC97-5D9A-49DE-9ECE-1913B97B59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457200" y="65689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hyperlink" Target="http://www.libraries.psu.edu/mtss/fairuse/guidelines.html" TargetMode="External"/><Relationship Id="rId4" Type="http://schemas.openxmlformats.org/officeDocument/2006/relationships/hyperlink" Target="http://www.utsystem.edu/OGC/IntellectualProperty/faculty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hyperlink" Target="http://www.loc.gov/copyright/circs/circ1.html" TargetMode="External"/><Relationship Id="rId4" Type="http://schemas.openxmlformats.org/officeDocument/2006/relationships/hyperlink" Target="http://www.libraries.psu.edu/mtss/fairuse/dalziel.html" TargetMode="External"/><Relationship Id="rId5" Type="http://schemas.openxmlformats.org/officeDocument/2006/relationships/hyperlink" Target="http://www.utsystem.edu/OGC/IntellectualProperty/copypol2.htm" TargetMode="External"/><Relationship Id="rId6" Type="http://schemas.openxmlformats.org/officeDocument/2006/relationships/hyperlink" Target="http://www.utsystem.edu/OGC/IntellectualProperty" TargetMode="External"/><Relationship Id="rId7" Type="http://schemas.openxmlformats.org/officeDocument/2006/relationships/hyperlink" Target="http://www.utsystem.edu/OGC/IntellectualProperty/faculty.htm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6"/>
          <p:cNvSpPr txBox="1"/>
          <p:nvPr/>
        </p:nvSpPr>
        <p:spPr>
          <a:xfrm>
            <a:off x="1676520" y="1066680"/>
            <a:ext cx="609588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Understanding Copyrigh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679920" y="3657600"/>
            <a:ext cx="188280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9"/>
          <p:cNvSpPr txBox="1"/>
          <p:nvPr/>
        </p:nvSpPr>
        <p:spPr>
          <a:xfrm>
            <a:off x="2043000" y="2286000"/>
            <a:ext cx="5419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lassroom Guide 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opyright Law and "Fair Use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457200" y="65530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iving Credit to the Author/Creato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way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edit the auth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n a “Works Cited” or References page of a report or presentation, include (if available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author’s 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title of the 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publish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place and date of public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List the copyright information underneath any copyrighted images. Examp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© 2002 Author’s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400800" y="5045040"/>
            <a:ext cx="1255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iving Credit to the Author/Creato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copyrighted works from a Web site, inclu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uthor’s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tle of th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me of th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e it was posted on the Web or rev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e you obtained the work from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b site’s address (UR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Future Uses Beyond Fair Us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re is a possibility that a project could be published beyond the classroom (for example, published on the Internet), obtain permissions when you create your project, rather than wai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19"/>
          <p:cNvGrpSpPr/>
          <p:nvPr/>
        </p:nvGrpSpPr>
        <p:grpSpPr>
          <a:xfrm>
            <a:off x="5562720" y="2133720"/>
            <a:ext cx="2904840" cy="2830320"/>
            <a:chOff x="5562720" y="2133720"/>
            <a:chExt cx="2904840" cy="2830320"/>
          </a:xfrm>
        </p:grpSpPr>
        <p:sp>
          <p:nvSpPr>
            <p:cNvPr id="108" name="AutoShape 5"/>
            <p:cNvSpPr/>
            <p:nvPr/>
          </p:nvSpPr>
          <p:spPr>
            <a:xfrm>
              <a:off x="5562720" y="2133720"/>
              <a:ext cx="290484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7259760" y="2166840"/>
              <a:ext cx="1120680" cy="1025640"/>
            </a:xfrm>
            <a:prstGeom prst="pie">
              <a:avLst/>
            </a:prstGeom>
            <a:solidFill>
              <a:srgbClr val="fcf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7321680" y="3121200"/>
              <a:ext cx="407880" cy="755640"/>
            </a:xfrm>
            <a:prstGeom prst="pie">
              <a:avLst/>
            </a:prstGeom>
            <a:solidFill>
              <a:srgbClr val="c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Group 17"/>
            <p:cNvGrpSpPr/>
            <p:nvPr/>
          </p:nvGrpSpPr>
          <p:grpSpPr>
            <a:xfrm>
              <a:off x="5562720" y="2860560"/>
              <a:ext cx="2182680" cy="2092320"/>
              <a:chOff x="5562720" y="2860560"/>
              <a:chExt cx="2182680" cy="2092320"/>
            </a:xfrm>
          </p:grpSpPr>
          <p:sp>
            <p:nvSpPr>
              <p:cNvPr id="112" name="Freeform 11"/>
              <p:cNvSpPr/>
              <p:nvPr/>
            </p:nvSpPr>
            <p:spPr>
              <a:xfrm>
                <a:off x="6294600" y="2860560"/>
                <a:ext cx="628560" cy="46368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Freeform 12"/>
              <p:cNvSpPr/>
              <p:nvPr/>
            </p:nvSpPr>
            <p:spPr>
              <a:xfrm>
                <a:off x="6470640" y="3379680"/>
                <a:ext cx="412920" cy="80496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3"/>
              <p:cNvSpPr/>
              <p:nvPr/>
            </p:nvSpPr>
            <p:spPr>
              <a:xfrm>
                <a:off x="5562720" y="3244680"/>
                <a:ext cx="1017360" cy="33660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4"/>
              <p:cNvSpPr/>
              <p:nvPr/>
            </p:nvSpPr>
            <p:spPr>
              <a:xfrm>
                <a:off x="6654960" y="3335400"/>
                <a:ext cx="1090440" cy="60012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5"/>
              <p:cNvSpPr/>
              <p:nvPr/>
            </p:nvSpPr>
            <p:spPr>
              <a:xfrm>
                <a:off x="6154560" y="3995640"/>
                <a:ext cx="457200" cy="95724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6"/>
              <p:cNvSpPr/>
              <p:nvPr/>
            </p:nvSpPr>
            <p:spPr>
              <a:xfrm>
                <a:off x="6615000" y="4043520"/>
                <a:ext cx="435240" cy="85392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114800" y="2819520"/>
            <a:ext cx="1089000" cy="3276360"/>
          </a:xfrm>
          <a:prstGeom prst="rect">
            <a:avLst/>
          </a:prstGeom>
          <a:ln w="0">
            <a:noFill/>
          </a:ln>
        </p:spPr>
      </p:pic>
      <p:sp>
        <p:nvSpPr>
          <p:cNvPr id="119" name="WordArt 2"/>
          <p:cNvSpPr txBox="1"/>
          <p:nvPr/>
        </p:nvSpPr>
        <p:spPr>
          <a:xfrm>
            <a:off x="1752480" y="1371600"/>
            <a:ext cx="60962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Copyright is n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perfectly clear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0" name="WordArt 3"/>
          <p:cNvSpPr txBox="1"/>
          <p:nvPr/>
        </p:nvSpPr>
        <p:spPr>
          <a:xfrm>
            <a:off x="3276720" y="4114800"/>
            <a:ext cx="2895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Righ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AutoShape 5">
            <a:hlinkClick r:id="rId2" action="ppaction://hlinksldjump"/>
          </p:cNvPr>
          <p:cNvSpPr/>
          <p:nvPr/>
        </p:nvSpPr>
        <p:spPr>
          <a:xfrm>
            <a:off x="7086600" y="58672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32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Use Guidelines For Educational Multimedia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d by the Educational Multimedia Fair Use Guidelines Development Committee, July 17, 1996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www.libraries.psu.edu/mtss/fairuse/guidelines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Use Of Copyrighted Materials”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http://www.utsystem.edu/OGC/IntellectualProperty/copypol2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81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Basics” by the U.S. Copyright Office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www.loc.gov/copyright/circs/circ1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 Use Guidelines For Educational Multimedia:    Background and Summary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hris Dalziel</a:t>
            </a:r>
            <a:br>
              <a:rPr sz="2800"/>
            </a:b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http://www.libraries.psu.edu/mtss/fairuse/dalziel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pyright Website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Benedict O’Mahoney                     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5"/>
              </a:rPr>
              <a:t>http://www.benedict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Law in the Electronic Environment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 </a:t>
            </a:r>
            <a:r>
              <a:rPr b="0" lang="en-US" sz="2300" spc="-1" strike="noStrike" u="sng">
                <a:solidFill>
                  <a:srgbClr val="ffff66"/>
                </a:solidFill>
                <a:uFillTx/>
                <a:latin typeface="Arial"/>
                <a:hlinkClick r:id="rId6"/>
              </a:rPr>
              <a:t>http://www.utsystem.edu/OGC/IntellectualProperty</a:t>
            </a:r>
            <a:r>
              <a:rPr b="0" lang="en-US" sz="2300" spc="-1" strike="noStrike" u="sng">
                <a:solidFill>
                  <a:srgbClr val="ffff66"/>
                </a:solidFill>
                <a:uFillTx/>
                <a:latin typeface="Arial"/>
                <a:hlinkClick r:id="rId7"/>
              </a:rPr>
              <a:t>/faculty.ht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81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s of the Fair Use Guidelines f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al Multimedia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tan Diamond and deg farrell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libraries.psu.edu/mtss/fairuse/fairhig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Big Myths about Copyright Explained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Brad Templet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templetons.com/brad/copymyth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haime's Law Dictionary” by Lloyd Duhaime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duhaime.org/diction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orks Pass Into the Public Domain in the United States” by Cornell Institute for Digital Collecti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cidc.library.cornell.edu/copyright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ther Resourc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0440" indent="0">
              <a:lnSpc>
                <a:spcPct val="90000"/>
              </a:lnSpc>
              <a:spcBef>
                <a:spcPts val="55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Rules Of Thumb For Digitizing And Using Others' Works In Multimedia Materials For Educational Purpo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utsystem.edu/ogc/intellectualproperty/copypol2.htm#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posal For Educational Fair Use Guidelines For Digital Images” by Georgia Harper, University of Texas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utsystem.edu/OGC/IntellectualProperty/imagguid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ther Resourc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112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f you still can’t get enough of this subject, check out other sites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112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of Links to Other Copyright Si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utsystem.edu/OGC/IntellectualProperty/offsit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What is Copyright?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have been created to protect authors and artists that create things that are creative and “original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omeone produces something that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riginal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ne else has created anything quite like it – then that person is the only one who can copy it, perform it in public, or publish it, unless he/she gives that permission to someone el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’s what it means to have the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right to copy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opyrigh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43000" y="685800"/>
            <a:ext cx="1255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8600" y="3333600"/>
            <a:ext cx="1143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What is not protected by copyright law?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s that have not been written or recorded (your stories, if they are not written down, are not protected by copyright law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deas, procedures, methods, discover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s that contain no original authorship (for example: standard calendars, height and weight charts, tape measures and rulers, etc.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ists of data (such as the telephone book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tems in the public domain (meaning works that are available for anyone to use. All works created before 1923 and most between 1923-1963 are in the public domain)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st U.S. government materials (some items created by contractors for the government might be copyrighted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876920" y="1371600"/>
          <a:ext cx="3124080" cy="19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371600"/>
                    <a:ext cx="31240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WordArt 1026"/>
          <p:cNvSpPr txBox="1"/>
          <p:nvPr/>
        </p:nvSpPr>
        <p:spPr>
          <a:xfrm>
            <a:off x="838080" y="1066680"/>
            <a:ext cx="4375440" cy="25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However...</a:t>
            </a:r>
            <a:endParaRPr b="0" lang="en-US" sz="2400" spc="1" strike="noStrike">
              <a:ln w="9360">
                <a:solidFill>
                  <a:srgbClr val="ffff99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sp>
        <p:nvSpPr>
          <p:cNvPr id="67" name="WordArt 1027"/>
          <p:cNvSpPr txBox="1"/>
          <p:nvPr/>
        </p:nvSpPr>
        <p:spPr>
          <a:xfrm>
            <a:off x="1828800" y="342900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Students and Teachers 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get a break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with a "fair use" clause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at is “fair use”?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0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air Use is a part of the United States Copyright law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10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allows people to use and make copies of copyrighted works if they are using them fo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i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 report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larship,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90720" y="0"/>
          <a:ext cx="1253880" cy="14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12538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6"/>
          <p:cNvGrpSpPr/>
          <p:nvPr/>
        </p:nvGrpSpPr>
        <p:grpSpPr>
          <a:xfrm>
            <a:off x="304920" y="4495680"/>
            <a:ext cx="2438280" cy="2095560"/>
            <a:chOff x="304920" y="4495680"/>
            <a:chExt cx="2438280" cy="2095560"/>
          </a:xfrm>
        </p:grpSpPr>
        <p:pic>
          <p:nvPicPr>
            <p:cNvPr id="74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4495680"/>
              <a:ext cx="24382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reeform 9"/>
            <p:cNvSpPr/>
            <p:nvPr/>
          </p:nvSpPr>
          <p:spPr>
            <a:xfrm rot="2055000">
              <a:off x="1244520" y="5755680"/>
              <a:ext cx="720720" cy="206280"/>
            </a:xfrm>
            <a:prstGeom prst="pie">
              <a:avLst/>
            </a:prstGeom>
            <a:noFill/>
            <a:ln w="38160">
              <a:solidFill>
                <a:srgbClr val="6bc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 rot="3080400">
              <a:off x="1090440" y="5472000"/>
              <a:ext cx="190440" cy="237960"/>
            </a:xfrm>
            <a:prstGeom prst="pie">
              <a:avLst/>
            </a:prstGeom>
            <a:noFill/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WordArt 3"/>
          <p:cNvSpPr txBox="1"/>
          <p:nvPr/>
        </p:nvSpPr>
        <p:spPr>
          <a:xfrm>
            <a:off x="533520" y="914400"/>
            <a:ext cx="81532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There are four questions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that will help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us decide whether using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a copyrighted work 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without permission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is "fair use."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Before using copyrighted work, ask yourself:</a:t>
            </a:r>
            <a:endParaRPr b="1" lang="en-US" sz="3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copying for educational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original material mainly facts and not very cre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you using small amounts, not whole sect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original material freely available? (Meaning, the author is not trying to make money on i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y answers are “no” – be careful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e of that work might not fall under “fair us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17"/>
          <p:cNvGrpSpPr/>
          <p:nvPr/>
        </p:nvGrpSpPr>
        <p:grpSpPr>
          <a:xfrm>
            <a:off x="7010280" y="533520"/>
            <a:ext cx="1828800" cy="1523880"/>
            <a:chOff x="7010280" y="533520"/>
            <a:chExt cx="1828800" cy="1523880"/>
          </a:xfrm>
        </p:grpSpPr>
        <p:pic>
          <p:nvPicPr>
            <p:cNvPr id="81" name="Picture 14" descr=""/>
            <p:cNvPicPr/>
            <p:nvPr/>
          </p:nvPicPr>
          <p:blipFill>
            <a:blip r:embed="rId1"/>
            <a:stretch/>
          </p:blipFill>
          <p:spPr>
            <a:xfrm>
              <a:off x="7010280" y="53352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Freeform 15"/>
            <p:cNvSpPr/>
            <p:nvPr/>
          </p:nvSpPr>
          <p:spPr>
            <a:xfrm rot="2055000">
              <a:off x="7714800" y="1449000"/>
              <a:ext cx="541440" cy="150480"/>
            </a:xfrm>
            <a:prstGeom prst="pie">
              <a:avLst/>
            </a:prstGeom>
            <a:noFill/>
            <a:ln w="38160">
              <a:solidFill>
                <a:srgbClr val="6bc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 rot="3080400">
              <a:off x="7602480" y="1239480"/>
              <a:ext cx="137880" cy="17928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742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Sometimes, it is hard to know how much of a copyrighted work we can use.</a:t>
            </a:r>
            <a:br>
              <a:rPr sz="3400"/>
            </a:b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To help us know what is </a:t>
            </a:r>
            <a:r>
              <a:rPr b="1" i="1" lang="en-US" sz="3400" spc="-1" strike="noStrike">
                <a:solidFill>
                  <a:srgbClr val="ffff99"/>
                </a:solidFill>
                <a:latin typeface="Arial"/>
              </a:rPr>
              <a:t>Fair Use</a:t>
            </a: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, the</a:t>
            </a:r>
            <a:br>
              <a:rPr sz="3600"/>
            </a:b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“Fair Use Guidelines to       Educational Multimedia”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ere created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00400" y="914400"/>
          <a:ext cx="2133720" cy="17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914400"/>
                    <a:ext cx="213372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“Fair Use Guidelines to Educational Multimedia” help us know how much to use…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2514600"/>
          <a:ext cx="8305560" cy="3886200"/>
        </p:xfrm>
        <a:graphic>
          <a:graphicData uri="http://schemas.openxmlformats.org/drawingml/2006/table">
            <a:tbl>
              <a:tblPr/>
              <a:tblGrid>
                <a:gridCol w="4495680"/>
                <a:gridCol w="380988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on Me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3 minu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1000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e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words; no more than 3 poems by same aut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sic, Lyrics, Vide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30 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s &amp; Illustr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images from one aut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ical Data Se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f 2500 fields or ce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64"/>
          <p:cNvSpPr/>
          <p:nvPr/>
        </p:nvSpPr>
        <p:spPr>
          <a:xfrm>
            <a:off x="45720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smallest amount of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66" descr="j0205401"/>
          <p:cNvPicPr/>
          <p:nvPr/>
        </p:nvPicPr>
        <p:blipFill>
          <a:blip r:embed="rId1"/>
          <a:stretch/>
        </p:blipFill>
        <p:spPr>
          <a:xfrm>
            <a:off x="514440" y="4648320"/>
            <a:ext cx="838080" cy="571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8" descr="j0254443"/>
          <p:cNvPicPr/>
          <p:nvPr/>
        </p:nvPicPr>
        <p:blipFill>
          <a:blip r:embed="rId2"/>
          <a:stretch/>
        </p:blipFill>
        <p:spPr>
          <a:xfrm>
            <a:off x="685800" y="5867280"/>
            <a:ext cx="533520" cy="5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6" descr="j0336484"/>
          <p:cNvPicPr/>
          <p:nvPr/>
        </p:nvPicPr>
        <p:blipFill>
          <a:blip r:embed="rId3"/>
          <a:stretch/>
        </p:blipFill>
        <p:spPr>
          <a:xfrm>
            <a:off x="685800" y="5186520"/>
            <a:ext cx="41904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7" descr="j0283592"/>
          <p:cNvPicPr/>
          <p:nvPr/>
        </p:nvPicPr>
        <p:blipFill>
          <a:blip r:embed="rId4"/>
          <a:stretch/>
        </p:blipFill>
        <p:spPr>
          <a:xfrm>
            <a:off x="60948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4" descr="AG00428_"/>
          <p:cNvPicPr/>
          <p:nvPr/>
        </p:nvPicPr>
        <p:blipFill>
          <a:blip r:embed="rId5"/>
          <a:stretch/>
        </p:blipFill>
        <p:spPr>
          <a:xfrm>
            <a:off x="609480" y="3124080"/>
            <a:ext cx="609840" cy="4842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95"/>
          <p:cNvGrpSpPr/>
          <p:nvPr/>
        </p:nvGrpSpPr>
        <p:grpSpPr>
          <a:xfrm>
            <a:off x="609480" y="3733920"/>
            <a:ext cx="609840" cy="533160"/>
            <a:chOff x="609480" y="3733920"/>
            <a:chExt cx="609840" cy="533160"/>
          </a:xfrm>
        </p:grpSpPr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609480" y="3733920"/>
              <a:ext cx="6098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97"/>
            <p:cNvSpPr/>
            <p:nvPr/>
          </p:nvSpPr>
          <p:spPr>
            <a:xfrm rot="2298600">
              <a:off x="868320" y="3798000"/>
              <a:ext cx="196560" cy="226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WordArt 98"/>
            <p:cNvSpPr txBox="1"/>
            <p:nvPr/>
          </p:nvSpPr>
          <p:spPr>
            <a:xfrm rot="863400">
              <a:off x="845640" y="3819240"/>
              <a:ext cx="219240" cy="18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oe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884880" y="3869640"/>
              <a:ext cx="95400" cy="20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Gayle Thieman</cp:lastModifiedBy>
  <dcterms:modified xsi:type="dcterms:W3CDTF">2010-07-25T18:02:16Z</dcterms:modified>
  <cp:revision>107</cp:revision>
  <dc:subject/>
  <dc:title>Copyright Chaos</dc:title>
</cp:coreProperties>
</file>