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7F5-12D3-49EB-B929-382F7E5E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3BB-2E4C-476D-8904-161E6E6C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6A7-3B5A-46BD-981F-5C6FA9C6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8BB-3909-4F4A-8DC4-31DD5C6F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F7F-33A8-4A0E-833B-9E2659CB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300-0A34-4C01-A501-8966F880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169-DCE5-464D-AA2E-24B0D787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22C-0AE6-43E0-83B9-CBAAAD8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84E-0156-487B-825C-4FF36B53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E91-9990-409B-BCCD-9AB4B00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CD4-4DC1-4F98-8D74-E8CC532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A31-F87C-43C3-BA25-00559E3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5F38-27F8-4A83-953A-6C3DF7DEA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“The StorylineMethod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rative approach to teaching and learning that provides opportunity for collaboration and focuses on learner thinking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urriculum Integ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of traditional subject centered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relev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within &amp; across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learners &amp; the world beyond the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flexibility, adaptability, problem-solving &amp; team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Curriculum Integration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obs (1989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disciplinary Curriculum: Design and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or team tea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/social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/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 course or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or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 integrate content from language arts, math, science, social studies, arts to illustrate the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line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integration through a story which has a setting, characters, events or problems.  Sequence of key questions for each episode which connect the curriculum goals to th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upon and extends children’s prio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plans the storyline and children bring it to life through their creativity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developing a Story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fic benchmarks in several conten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Storyline topic that provides opportunities for learning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roofs or products of learning which demonstrate student learning of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key questions and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oryline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599000"/>
        </p:xfrm>
        <a:graphic>
          <a:graphicData uri="http://schemas.openxmlformats.org/drawingml/2006/table">
            <a:tbl>
              <a:tblPr/>
              <a:tblGrid>
                <a:gridCol w="990720"/>
                <a:gridCol w="1371600"/>
                <a:gridCol w="990360"/>
                <a:gridCol w="990720"/>
                <a:gridCol w="1219320"/>
                <a:gridCol w="2209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L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 are you? What do you need to tak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 &amp; 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urnals, Paper, wooden sticks, fab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 character, describe in journal, create stick puppet, creat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are you? What challenges do you face in the environ-men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-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ps, materials for frieze, climate, weather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rd observations about the environment in journal, create m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5:28:56Z</dcterms:created>
  <dc:creator>Gayle Y. Thieman</dc:creator>
  <dc:description/>
  <dc:language>en-US</dc:language>
  <cp:lastModifiedBy>Gayle Thieman</cp:lastModifiedBy>
  <dcterms:modified xsi:type="dcterms:W3CDTF">2008-02-20T16:26:40Z</dcterms:modified>
  <cp:revision>7</cp:revision>
  <dc:subject/>
  <dc:title>Introduction to “The StorylineMethod ”</dc:title>
</cp:coreProperties>
</file>