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EFFC-2BD2-4BCD-9ABC-28B9FD019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21C3-C859-46EB-949F-FC1F2C950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EE71-34DA-40B3-BABE-80520692E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D88A-580F-42DA-B111-560C73691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1A5E-10E3-4243-A780-32A56450E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9E04-EEC3-438F-B18E-91718B302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5756-56F3-424A-85F6-85898C29E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06A0-D0FD-43F4-B832-69099D8B6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0B8B-8565-4453-8BEB-B686AC34E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73D5-15B8-45F7-BC29-5C8738DA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B080-36FD-4B1C-8A7C-4B8FB820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92E9-334B-4799-9176-CA54A3DD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E6E34-1536-425B-8C93-2DEA77F0D7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tion to “The StorylineMethod 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819160"/>
            <a:ext cx="64008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egrative approach to teaching and learning that provides opportunity for collaboration and focuses on learner thinking 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se-ma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urriculum Integrati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wth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gmentation of traditional subject centered cour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for releva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on within &amp; across discip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on to learners &amp; the world beyond the class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for flexibility, adaptability, problem-solving &amp; teamwor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ypes of Curriculum Integration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cobs (1989)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terdisciplinary Curriculum: Design and Implement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llel or team teach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 arts/social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h/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a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disciplinary course or un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ic or th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sons integrate content from language arts, math, science, social studies, arts to illustrate the th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toryline Meth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iculum integration through a story which has a setting, characters, events or problems.  Sequence of key questions for each episode which connect the curriculum goals to the ta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s upon and extends children’s prior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acher plans the storyline and children bring it to life through their creativity and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s in developing a Story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oose specific benchmarks in several content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 Storyline topic that provides opportunities for learning the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proofs or products of learning which demonstrate student learning of the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key questions and epis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oryline Frame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85800" y="1981080"/>
          <a:ext cx="7772400" cy="4599000"/>
        </p:xfrm>
        <a:graphic>
          <a:graphicData uri="http://schemas.openxmlformats.org/drawingml/2006/table">
            <a:tbl>
              <a:tblPr/>
              <a:tblGrid>
                <a:gridCol w="990720"/>
                <a:gridCol w="1371600"/>
                <a:gridCol w="990360"/>
                <a:gridCol w="990720"/>
                <a:gridCol w="1219320"/>
                <a:gridCol w="220968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is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y Ques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AL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our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sible Tas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o are you? What do you need to take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ng Ar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v &amp; Small Gro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urnals, Paper, wooden sticks, fabr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eate character, describe in journal, create stick puppet, create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ere are you? What challenges do you face in the environ-men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-graph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i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all Gro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ps, materials for frieze, climate, weather 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ord observations about the environment in journal, create m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05:28:56Z</dcterms:created>
  <dc:creator>Gayle Y. Thieman</dc:creator>
  <dc:description/>
  <dc:language>en-US</dc:language>
  <cp:lastModifiedBy>Gayle Thieman</cp:lastModifiedBy>
  <dcterms:modified xsi:type="dcterms:W3CDTF">2008-02-20T16:26:40Z</dcterms:modified>
  <cp:revision>7</cp:revision>
  <dc:subject/>
  <dc:title>Introduction to “The StorylineMethod ”</dc:title>
</cp:coreProperties>
</file>