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285-223A-4C45-991D-1A17D79D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1AA-06CA-4AC0-BD19-0366B228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B4B-16B2-4809-B979-4C03EF33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1EB-5DA7-4128-AC5C-9679917C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CCF-F298-4655-B866-D9DB3059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4ED-C198-4C7E-9237-B03EACBF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705-D512-4B5D-A8D7-345E063C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2C3-B5BC-4A92-AB4B-B4C80944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202-036F-46FD-8685-FC1F7801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DDA-455C-4CC7-8CA6-B371478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F43-312B-430D-955F-4BB727DE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191-3853-4BB8-8B85-D019D141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EDE6-654A-4194-8805-EDF082CF3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“The StorylineMethod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rative approach to teaching and learning that provides opportunity for collaboration and focuses on learner thinking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urriculum Integ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of traditional subject centered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relev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within &amp; across disci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learners &amp; the world beyond the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flexibility, adaptability, problem-solving &amp; team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Curriculum Integration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obs (1989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disciplinary Curriculum: Design and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or team tea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/social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/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isciplinary course or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 or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s integrate content from language arts, math, science, social studies, arts to illustrate the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line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integration through a story which has a setting, characters, events or problems.  Sequence of key questions for each episode which connect the curriculum goals to th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upon and extends children’s prior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plans the storyline and children bring it to life through their creativity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developing a Story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fic benchmarks in several conten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Storyline topic that provides opportunities for learning th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proofs or products of learning which demonstrate student learning of th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key questions and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oryline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400" cy="4599000"/>
        </p:xfrm>
        <a:graphic>
          <a:graphicData uri="http://schemas.openxmlformats.org/drawingml/2006/table">
            <a:tbl>
              <a:tblPr/>
              <a:tblGrid>
                <a:gridCol w="990720"/>
                <a:gridCol w="1371600"/>
                <a:gridCol w="990360"/>
                <a:gridCol w="990720"/>
                <a:gridCol w="1219320"/>
                <a:gridCol w="2209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L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 are you? What do you need to tak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 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 &amp; Smal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urnals, Paper, wooden sticks, fab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te character, describe in journal, create stick puppet, creat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are you? What challenges do you face in the environ-men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-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ps, materials for frieze, climate, weather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rd observations about the environment in journal, create m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5:28:56Z</dcterms:created>
  <dc:creator>Gayle Y. Thieman</dc:creator>
  <dc:description/>
  <dc:language>en-US</dc:language>
  <cp:lastModifiedBy>Gayle Thieman</cp:lastModifiedBy>
  <dcterms:modified xsi:type="dcterms:W3CDTF">2008-02-20T16:26:40Z</dcterms:modified>
  <cp:revision>7</cp:revision>
  <dc:subject/>
  <dc:title>Introduction to “The StorylineMethod ”</dc:title>
</cp:coreProperties>
</file>