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826-D85D-42E7-9230-5E6339FA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428-F634-4C6B-8816-D1EE8E67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DBC-32C7-4FE1-A59D-D8E51CDE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1D7-99EA-4885-9756-E0E39C32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20C-C633-4FA4-A64C-C3AD915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768-9EF5-4D27-85CA-37E088E9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0B8-82A2-4647-A0CF-8675F904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B07-4968-4627-9D89-692052B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E9F-0652-42A9-8091-1E997187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F4E-A7B7-4704-B79E-AC5967F0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58A-A2B0-4884-A993-A7030D81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89D-2875-4F8E-83C3-FEF5D3C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3A5-81DE-4A33-B81C-629B5F39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“The StorylineMethod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rative approach to teaching and learning that provides opportunity for collaboration and focuses on learner thinking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urriculum Integ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of traditional subject centered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relev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within &amp; across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learners &amp; the world beyond the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flexibility, adaptability, problem-solving &amp; team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Curriculum Integration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s (1989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disciplinary Curriculum: Design and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or team tea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/socia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/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course o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or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integrate content from language arts, math, science, social studies, arts to illustrate the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lin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integration through a story which has a setting, characters, events or problems.  Sequence of key questions for each episode which connect the curriculum goals to th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upon and extends children’s prio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plans the storyline and children bring it to life through their creativity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developing a Story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fic benchmarks in several cont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Storyline topic that provides opportunities for learning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roofs or products of learning which demonstrate student learning of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key questions and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yline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599000"/>
        </p:xfrm>
        <a:graphic>
          <a:graphicData uri="http://schemas.openxmlformats.org/drawingml/2006/table">
            <a:tbl>
              <a:tblPr/>
              <a:tblGrid>
                <a:gridCol w="990720"/>
                <a:gridCol w="1371600"/>
                <a:gridCol w="990360"/>
                <a:gridCol w="990720"/>
                <a:gridCol w="1219320"/>
                <a:gridCol w="2209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are you? What do you need to tak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 &amp; 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als, Paper, wooden sticks, fab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 character, describe in journal, create stick puppet, creat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are you? What challenges do you face in the environ-me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-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ps, materials for frieze, climate, weather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rd observations about the environment in journal, create m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5:28:56Z</dcterms:created>
  <dc:creator>Gayle Y. Thieman</dc:creator>
  <dc:description/>
  <dc:language>en-US</dc:language>
  <cp:lastModifiedBy>Gayle Thieman</cp:lastModifiedBy>
  <dcterms:modified xsi:type="dcterms:W3CDTF">2008-02-20T16:26:40Z</dcterms:modified>
  <cp:revision>7</cp:revision>
  <dc:subject/>
  <dc:title>Introduction to “The StorylineMethod ”</dc:title>
</cp:coreProperties>
</file>