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C4C4-0FFE-4DB0-8963-BDBC45628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8496-A514-4DB6-82FF-D17FDA6E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87A5-BBA8-4078-920E-505C19C4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005-2CF4-49F0-8B47-4C2B7BF6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E63-B1DB-46EF-A9FD-9527A93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4CB-2D16-45D9-901C-382121B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E71-2753-440D-A35F-323B7F59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573-B806-451C-8A4B-A4CEFAF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3874-5F17-4718-A341-D698132B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48ED-54B1-4559-BB93-E0D20A0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611D-E117-4BA0-8AF6-CB93CFB2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E8D7-4275-492A-A2B3-E9361F94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B868-AD25-4117-ADD3-71F499C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FF0-D52B-45C5-8BA4-4F1DE80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914A-4CD9-44AE-8CF7-6617A1E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F43-AC38-4B0F-A0A2-68DCA40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D766-A245-4512-8DE9-11C572F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0693-518B-4C18-B111-8E52F88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AC5-2DC3-42DA-A04D-97D63F2A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0BBB-9187-422F-8794-62AE493C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EF0A-CDFC-4F9A-950E-6C7A4EB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C4A7-5ED3-4132-BF60-C7E0EA3F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9121-B200-4658-AF87-D37D689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9E35-8955-4519-9857-D8272B09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5D38-03ED-4C66-B2EF-B039D44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E708-E309-4681-9DAF-C0985CB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A4C-368F-456D-98CB-4B82CD4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2F2F-02A5-419E-BA0B-EBBFC4E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0EAD-EAC5-45BF-97FA-D671D88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F342-6DE9-491B-B179-E1C5FE8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9888-B94C-42A3-AA62-8237C568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8E3A-D28D-42D7-9FC8-8B97FE8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8030-76BB-4797-BBC2-E6D64CF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6654-D8BE-43C4-8E09-F601C461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8E38-0DF8-42B2-A019-0EAFB45F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65578-0E0F-41AC-A360-C71F33F6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C2E2-6882-4059-9D6C-185EA5E1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AD9-EB61-4C7A-B724-CB941C5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E6CC-EB1A-4C7B-9B5A-C699840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C7D1-534B-4A45-BF36-C74161B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AC7A-1A71-4A05-B238-BFD7497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6F59-F200-4A86-9825-ABBA7DF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D9D0-ABC9-4598-BCCF-9ADC6B5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CBC7-AD72-4CF5-975F-964A40F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83F6-030A-4505-A001-D158738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2A08-6658-4740-BBF5-397E3419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7DE3-6235-42AB-BB5F-D6D49AB2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77A-4929-481F-960F-6534731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A6D-590A-447D-BC4A-31B9958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FA6-05D7-403E-9365-B5BC06D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7EB-297E-4168-AF80-151B315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8AA-C9E0-4F08-9C0C-567242A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89D-B264-4E72-959F-F2965594323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0063-3C98-493F-B64C-31905A4D8A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FF5-751B-4D98-A0DD-E015B264161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A13-B94C-478F-9977-74A127024C4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6AF2-1844-4DCE-85E5-1176292CEE3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D7A-0AE4-4A06-A6B7-66601FBD71B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20A4-913F-4A99-A52D-4FE3451A0EA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79A-BA11-455C-A2AF-3B689C95C1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2505240"/>
            <a:ext cx="7858080" cy="6212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d  Handsen Middle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darin/Spanish immersion programs; Somali refugees  in urban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aim: advocate for every student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culture, language and academ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ed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goal: create a truly engaging curriculum that empowers students to work to the top of their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1% of literacy strategies were Levels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James Centur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8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0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immigrant/migrant labor population in low-income subu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 of sophomores is one of the most difficult to come through the school in the last decade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James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view: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I have found ways to connect to the students… All seemed to appreciate being pushed and having to think for a change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6% of literacy strategies were Levels III, IV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uck Mason Alternativ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lition of Essential Schools: small class size;  create personalized educ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f-contained classroom for highly at-risk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goal: connect lessons to real world examples that provide scaffolding for academic task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 40% of literacy strategies were Levels III,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ly  Prairi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er blue-collar white suburb, now high poverty, divers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ficit perspective: Transient nature of the community, resulting from low SES,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reated challenges in the classroom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students had not had a social studies class sinc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; their knowledge was lim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22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shley  Bentle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2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eer/technical public magnet school in urban community; students admitted by lott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shley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view: Standards were higher when students were coming from strong academic foundations.  Now curriculum needs to change. Expectations are too high and students are unable to p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10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ifferences among Teacher Candid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C’s used primary sources 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ith higher 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aught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other TC’s asked students to read and interpret photos, news headlines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ittle scaffolding to support student comprehension and little evidence of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five social studies teachers candidates use with students in low SES schoo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ifferences exist between dispositions and skills o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use higher-level literacy strategies versus those who use lower level strateg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ganizing Instruction Around CFQ’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ho used highest-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most conceptual essential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can we ensure social justice for every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 who used mostly lower level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“Is imagine important? In unit on Roaring 20’s &amp;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only marginally evident &amp; no HO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Represent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audio or nonlinguistic visual support for text reading or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lose captioned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lighting, pictures, graphic organizers in 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e Means of Engage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content to students’ l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perative group or partner work with specific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ipul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Plays/Sim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Action/Express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igital media  (web pages, presentations, audio 0r video recordings, e-portfol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rawings, posters, graphic organizers, oral presentations,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help students understand literary processes (more than named strateg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Case Study Approach (Creswell, 2013) to compare across six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3 cases used higher-level literacy strateg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2 cases used lower-level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Depth of Knowledge (DOK) level for each literacy activity  (Webb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literacy strategy profile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1-11-30T03:54:54Z</cp:lastPrinted>
  <dcterms:modified xsi:type="dcterms:W3CDTF">2014-01-23T22:57:24Z</dcterms:modified>
  <cp:revision>72</cp:revision>
  <dc:subject/>
  <dc:title>What Work Samples Reveal  about Preservice Teachers’  Use of Literacy Strategies</dc:title>
</cp:coreProperties>
</file>