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4F89-04DF-41A4-A04F-23AF4138A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609E-7C1E-40E8-A066-A1E66B44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A11F-060E-49E2-B4AE-F250BB565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0F3-7E45-44D9-BE09-02FC0E31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FA7-B3ED-467F-8177-D446F5E1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6B0-CA2F-41ED-8A6E-AF417D2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82B-8175-4A54-A17C-1C2060AF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3A0-6656-41D5-BB35-C0CB7D4B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85C-20D2-47E5-955C-36C64C38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D35F-B4F7-4559-8E8A-76B667D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52B-A9F5-405D-AA24-4A6A29C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76C-A875-47EF-984F-3CA6948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BCC1-31A8-40CF-9EAD-14DAAD4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AD92-D427-437B-91C2-3459747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BB8-65E6-4AF7-8366-FEB9477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E81-EED8-4371-8268-C7B45D68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2DD-95DF-4A81-B9B9-2400E83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EB9B-BFC3-45A4-8F49-3008ED0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0467-2C2A-48C5-B5E5-FEDDC2F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00A-88A5-4BC1-BB3B-335AB01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C5AC-B4C8-4E8C-8E57-71AFE3BE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7922-89EB-4705-AAC1-F75F2432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6A88-D7C1-4127-A736-9C4A4EF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6366-837D-4C8F-B978-C91C93A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E34F-1A79-41D1-AEE0-345C4EF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09B3-397D-4B27-8D25-D087242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406-0C51-4D78-A630-32ABFF2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0472-5554-4383-B4AE-C030CCA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1236-80E2-4053-A011-2BF1D8A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CC6B-4D18-4E06-8F35-D338F30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23B8-5687-4489-8164-4774960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AD08-69C8-47F7-A61C-A99F8A1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2D16-3B11-4102-83F9-61B9DD83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9D10-ADF9-4C82-B3CF-8808C9AF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F193-3E2E-47AA-ADE1-483D10CF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AE40-40D7-4926-A4B3-4D63405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5C3A-7321-4196-9CE3-FE74436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041-7C2A-4F06-925B-C519D2B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553B-A4DC-4AE1-B96F-30A594F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5AE1-DBF7-4631-B1BF-2541849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34FE-1090-445B-8168-BC8232FA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42CA-326F-472A-942E-FBD542A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43F6-7E6B-42A7-B268-80641A8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4137-3FD7-4343-8A99-7F1955C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F2F2-C486-4318-9649-F22E57E3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A88D-C9F6-41F6-9F4D-EBCBFD80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DB9F-B8E3-49D1-ADAB-9BA9D640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139-970D-4D53-818C-C5298EC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EA7-6E08-45C9-91FF-55DB95F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394-1B78-4D79-BD7C-B2973B1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73C-4EC7-4B7E-92F6-814B93A7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169-7722-4ECE-AB11-8E645BB9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3CB3-CDFF-44A9-A624-E128C9995AF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2F7B-55DA-4B69-9BED-E462501832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6A2-BDD9-4A0C-B79C-EEFB7A1D7B3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97A8-B1FF-4C62-AAD8-1FFFB0E1C26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27E3-C8DD-4164-98D2-5B5E60C8A06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64A-4B09-489E-8475-55662C3146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26D7-E178-464E-943C-E4EE3966A90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9BFF-F9A7-4E3E-A854-FB7F63D723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3" descr=""/>
          <p:cNvPicPr/>
          <p:nvPr/>
        </p:nvPicPr>
        <p:blipFill>
          <a:blip r:embed="rId1"/>
          <a:stretch/>
        </p:blipFill>
        <p:spPr>
          <a:xfrm>
            <a:off x="530280" y="-2505240"/>
            <a:ext cx="7858080" cy="6212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4038480"/>
            <a:ext cx="785484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ayle Thieman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san Lenski, Portland State Univers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igh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I Strategic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yze consequ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aluate policy propos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conclu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e Ev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V Extended Thin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nthesize information from multiple 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new understanding through analysis, synthesis, critique, application of concepts in novel w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d  Handsen Middle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darin/Spanish immersion programs; Somali refugees  in urban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aim: advocate for every student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culture, language and academ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ed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goal: create a truly engaging curriculum that empowers students to work to the top of their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1% of literacy strategies were Levels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James Centur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8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0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immigrant/migrant labor population in low-income subu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lass of sophomores is one of the most difficult to come through the school in the last decade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James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view: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I have found ways to connect to the students… All seemed to appreciate being pushed and having to think for a change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46% of literacy strategies were Levels III, IV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uck Mason Alternativ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lition of Essential Schools: small class size;  create personalized educatio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f-contained classroom for highly at-risk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uck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goal: connect lessons to real world examples that provide scaffolding for academic task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 40% of literacy strategies were Levels III,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ly  Prairie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0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3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er blue-collar white suburb, now high poverty, divers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ficit perspective: Transient nature of the community, resulting from low SES, 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reated challenges in the classroom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”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students had not had a social studies class sinc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; their knowledge was limi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22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shley  Bentley High Schoo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%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2% ethnic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eer/technical public magnet school in urban community; students admitted by lott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shley</a:t>
            </a:r>
            <a:r>
              <a:rPr b="0" lang="ja-JP" sz="2600" spc="-1" strike="noStrike">
                <a:solidFill>
                  <a:srgbClr val="ff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 view: Standards were higher when students were coming from strong academic foundations.  Now curriculum needs to change. Expectations are too high and students are unable to pa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: 10% of literacy strategies were Level III, I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omoted Higher Order/Historical Think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mary Source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political cartoons, paintings, maps, charts, graphs, images, songs, political docu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ive assess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ry quilt, historical avatar, multimedia presentations, position statements, debates, essays, pos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ed to the unit essential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have people changed America to make it a better plac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can we ensure social justice for everyone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ow do governments balance pow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an a nation be built inside another nation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ught backgrou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le class discu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pictur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predictions &amp; develop hypotheses based on rea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gher order thinking questions challenged students to think crit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evidence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and ci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Literacy Strategies to Scaffold Instru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524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phic organiz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nn dia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-ch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.O.A.P.S.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ison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W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67616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teta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ogical argu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ion to the pres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ifferences among Teacher Candidat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C’s used primary sources B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ith higher 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aught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other TC’s asked students to read and interpret photos, news headlines with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ittle scaffolding to support student comprehension and little evidence of historical inqui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earch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levels of literacy strategi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five social studies teachers candidates use with students in low SES schoo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ifferences exist between dispositions and skills o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r candidates who use higher-level literacy strategies versus those who use lower level strategi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rganizing Instruction Around CFQ’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TC’s who used highest-level literacy strategie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ad most conceptual essential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How can we ensure social justice for every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 who used mostly lower level literacy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“Is imagine important? In unit on Roaring 20’s &amp;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 was only marginally evident &amp; no HO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Used Increasingly complex literacy strateg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9807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C’s taught students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prior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reas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er order thinking (HO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velop graphic organiz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 summa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conne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urnal prompts, fil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ontext clues, draw pic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, develop hypothe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d webs, Venn, T-charts, SOAPS protoc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nell notes , opin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emporary reforms/local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Represent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audio or nonlinguistic visual support for text reading or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close captioned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highlighting, pictures, graphic organizers in presen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6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ltiple Means of Engage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 content to students’ l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perative group or partner work with specific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ipula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le Plays/Sim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teracy for Exceptional Learners in Social Studies:  Minarik &amp; Lintner (in press)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ultiple Means of Action/Express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igital media  (web pages, presentations, audio 0r video recordings, e-portfoli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demonstrate knowledge thru drawings, posters, graphic organizers, oral presentations, mod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mplications for Further Research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hared definitions of literacy and help students understand literary processes (more than named strateg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aborate on common literacy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Explicitly teach candidates how to incorporate higher level thinking and strategies, especially with students in high-poverty/high diversity classro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of the Work Samples  included a variety of primary documents and texts. Teach candidates how to match text difficulty with student literacy 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NAEP Reading Scores Continue to Decline  while Achievement Gap Wide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24220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hievement Gap in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between lower/higher SES  at state level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L Eligible  25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Eligible  2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4379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d to the nation, average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 reading scores declined in thi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&amp; lack of social supports for students in metro area where this study took p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Up Arrow 8"/>
          <p:cNvSpPr/>
          <p:nvPr/>
        </p:nvSpPr>
        <p:spPr>
          <a:xfrm>
            <a:off x="7696080" y="4038480"/>
            <a:ext cx="822600" cy="822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65093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_x000e_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Need to address Low Expectations for high poverty, ethically diverse students  (Banks et al 2005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in lower track classes--high poverty &amp; ethnic diversity-- have fewer opportunities to develop higher order thinking and reasoning skills  (Good &amp; Brophy, 199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2422440"/>
            <a:ext cx="40384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teach culturally responsive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at 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cit orientatio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ed to both differentiate and accelerat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Strategies (Lee &amp; Spratley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vate 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ild vocabul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knowledge of text structures and genres to predict main ide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e relevant ques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claims across tex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evi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iteracy in Social _x0013_Studies  (NCSS, 2010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e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e fact vs. opin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e similarities and differ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cause and ef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ore complex patt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828440"/>
            <a:ext cx="396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aluate sources for credibility and valid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variety of media to access, create, and presen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 and analyze diverse historical and contemporary perspecti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ata Analy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llective Case Study Approach (Creswell, 2013) to compare across six ca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3 cases used higher-level literacy strateg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  <a:ea typeface="ＭＳ Ｐゴシック"/>
              </a:rPr>
              <a:t>2 cases used lower-level literacy strateg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ed Depth of Knowledge (DOK) level for each literacy activity  (Webb, 200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ed literacy strategy profile for each work s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gher level activities: Depth of Knowledge (Webb, 200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336680" y="1935000"/>
            <a:ext cx="6470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Lower DOK level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Rec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el ma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e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al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w repres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lust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I Skill/Conce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patt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ke pred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ganiz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e/contr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/eff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 historical docu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onolog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58:48Z</dcterms:created>
  <dc:creator>sjlenski</dc:creator>
  <dc:description/>
  <dc:language>en-US</dc:language>
  <cp:lastModifiedBy>Gayle Thieman</cp:lastModifiedBy>
  <cp:lastPrinted>2011-11-30T03:54:54Z</cp:lastPrinted>
  <dcterms:modified xsi:type="dcterms:W3CDTF">2014-01-23T22:57:24Z</dcterms:modified>
  <cp:revision>72</cp:revision>
  <dc:subject/>
  <dc:title>What Work Samples Reveal  about Preservice Teachers’  Use of Literacy Strategies</dc:title>
</cp:coreProperties>
</file>