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D2EC-58F5-4961-9132-9B57E129FD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4735-A7E8-4DE2-9D71-F809C743B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5102-4961-4D1D-B17D-BBEF8014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7679-3F10-42BA-BDF7-92844BFCC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EAA-473C-47A7-8BAF-8EE79D2C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378-154E-4215-85FA-7F5033F9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782-431A-4DC7-853E-9BEAB41E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4B1-159E-408F-8EE5-24470851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F635-2325-4390-828B-F1B261D7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97D1-7E72-4A2F-9806-6690CD0D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6AAD-FDD3-4FA9-886D-04DCFA91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A081-265F-487A-8CD6-D0971D42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1BBD-6482-4751-AE4D-94E6643C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AC3A-F65A-4DB1-856B-27FE75E7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498C-39F1-41B6-AFC9-4653F272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B24-8162-464B-A895-500E0449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58CE-2347-41F2-8910-F16277F2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2656-71C8-4478-A675-223812F1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E9BA-735C-4809-97EC-E00E3AF3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DD9D-998A-44DE-8BD2-363F5EF4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9936-5A4A-4E81-A6A7-70AA48AD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C2827-7BCA-47CB-9E9A-E6234779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12551-2E73-4231-8C6B-F5B30132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D3CCC-BC7B-4599-951A-E24BD35A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9CD2-6C2A-49AC-9AFB-EB2588A7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39C39-FB43-4993-89AC-2C0FF283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4CC-D7A9-449A-BECC-BB2F8B07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6CDB-6ADA-49B7-B8B1-B367D8B6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ED4E8-0B80-4396-92BD-CC671F48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A4F12-BEC9-4393-853B-7EFFD554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AAD0A-29B0-4090-A604-3307DB4C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313AC-4FF9-4BA2-9AA8-F074534D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780D5-6C59-4C85-A04E-316BB3BB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60005-0F73-4460-BC8F-AE7DEBEB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2C2C4-AC94-4B01-9671-D3641E78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72298-8010-4F40-A253-2C07FBFF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B0E36-9F81-4D02-82D8-6F2E8FA4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C38-A2E6-4D38-999B-0E03883C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52E7-217F-4F6F-897B-0F4ABE25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F0C3D-1A37-4CBA-BA06-6713C71D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EDBA2-BD70-4588-8620-7897E63A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1B6CB-F260-4045-80D7-370C1283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A783-F422-4319-B966-7074BBFA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6A7E-D504-4764-B8E8-050BA7D7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7441-BB6D-43B6-8F0A-9C3252C4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EFD69-0217-456C-96E6-1665C051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0C6AF-4571-4D29-900B-6A811EA4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844-6603-4D27-A418-D1BB1C56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BD4-910E-44CB-BDC4-38E350E1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4EE-60F0-4860-AC56-11A22D0C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D03-B2D1-4797-9FA6-B77A855F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01F-6C7E-4B7E-AE9D-EA44518F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22D9-8746-4E9D-B03E-99E7BD2A60F2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6EA9-28AB-4C4D-AB01-AC99EB21003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6477-9861-49D1-8999-368FECDA5820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1430-C7A5-4745-A08D-39D93C39BF7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EA11-38B7-4B36-BC01-B5E4B9920537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B169-BC82-477E-8F5E-5FC4FE65810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6629-77F4-4487-96DF-8A79805EBC2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F400-CC8E-4796-B702-5D1E1CE3427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3" descr=""/>
          <p:cNvPicPr/>
          <p:nvPr/>
        </p:nvPicPr>
        <p:blipFill>
          <a:blip r:embed="rId1"/>
          <a:stretch/>
        </p:blipFill>
        <p:spPr>
          <a:xfrm>
            <a:off x="530280" y="-2505240"/>
            <a:ext cx="7858080" cy="62121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4038480"/>
            <a:ext cx="7854840" cy="2438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ayle Thieman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san Lenski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e Ev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 through analysis, synthesis, critique, application of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ed  Handsen Middle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1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1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darin/Spanish immersion programs; Somali refugees  in urban commun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aim: advocate for every student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culture, language and academic nee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ed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 goal: create a truly engaging curriculum that empowers students to work to the top of their abi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41% of literacy strategies were Levels III,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James Century High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8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0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gnificant immigrant/migrant labor population in low-income subur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class of sophomores is one of the most difficult to come through the school in the last decade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James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view: 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I have found ways to connect to the students… All seemed to appreciate being pushed and having to think for a change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46% of literacy strategies were Levels III, IV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huck Mason Alternative High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3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3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alition of Essential Schools: small class size;  create personalized educational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f-contained classroom for highly at-risk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uck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goal: connect lessons to real world examples that provide scaffolding for academic task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 40% of literacy strategies were Levels III,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ly  Prairie High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0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3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er blue-collar white suburb, now high poverty, diverse commun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Deficit perspective: Transient nature of the community, resulting from low SES, 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reated challenges in the classroom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”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students had not had a social studies class since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; their knowledge was limi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22% of literacy strategies were Level III,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shley  Bentley High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5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2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eer/technical public magnet school in urban community; students admitted by lotte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shley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 view: Standards were higher when students were coming from strong academic foundations.  Now curriculum needs to change. Expectations are too high and students are unable to pa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10% of literacy strategies were Level III,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romoted Higher Order/Historical Thinkin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mary Source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political cartoons, paintings, maps, charts, graphs, images, songs, political docu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ative assess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ory quilt, historical avatar, multimedia presentations, position statements, debates, essays, pos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nked to the unit essential ques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have people changed America to make it a better place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can we ensure social justice for everyone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do governments balance pow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 a nation be built inside another nation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Literacy Strategies to Scaffold Instr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urnal promp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ught backgrou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ole class discu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ontext c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pictur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ke predictions &amp; develop hypotheses based on rea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er order thinking questions challenged students to think critic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evidence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and ci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Literacy Strategies to Scaffold Instr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7524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phic organiz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d web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nn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-ch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.O.A.P.S.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ison ch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W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0" y="1676160"/>
            <a:ext cx="40384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ta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ion to the pres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ifferences among Teacher Candidat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TC’s used primary sources B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 TC’s with higher level literacy strategie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xplicitly taught historical inqui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 other TC’s asked students to read and interpret photos, news headlines with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little scaffolding to support student comprehension and little evidence of historical inqui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earch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levels of literacy strategi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five social studies teachers candidates use with students in low SES school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differences exist between dispositions and skills of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er candidates who use higher-level literacy strategies versus those who use lower level strategi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rganizing Instruction Around CFQ’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 TC’s who used highest-level literacy strategie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d most conceptual essential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ow can we ensure social justice for everyon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C who used mostly lower level literacy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Q was “Is imagine important? In unit on Roaring 20’s &amp; Great Depres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Q was only marginally evident &amp; no HO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Increasingly complex literacy strateg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28600" y="198072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C’s taught students 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ss prior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reas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higher order thinking (HO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graphic organiz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rite summar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conne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urnal prompts, fil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ontext clues, draw pi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, develop hypothe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d webs, Venn, T-charts, SOAPS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nell notes , opin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emporary reforms/local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iteracy for Exceptional Learners in Social Studies:  Minarik &amp; Lintner (in press) 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ultiple Means of Representatio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 audio or nonlinguistic visual support for text reading or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lose captioned vide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highlighting, pictures, graphic organizers in present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iteracy for Exceptional Learners in Social Studies:  Minarik &amp; Lintner (in press)</a:t>
            </a:r>
            <a:br>
              <a:rPr sz="36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ultiple Means of Engagemen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k content to students’ l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operative group or partner work with specific ta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ipula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v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b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ole Plays/Simul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iteracy for Exceptional Learners in Social Studies:  Minarik &amp; Lintner (in press)</a:t>
            </a:r>
            <a:br>
              <a:rPr sz="32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ultiple Means of Action/Expressio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udents demonstrate knowledge thru digital media  (web pages, presentations, audio 0r video recordings, e-portfoli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udents demonstrate knowledge thru drawings, posters, graphic organizers, oral presentations, mod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mplications for Further Research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shared definitions of literacy and help students understand literary processes (more than named strategi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aborate on common literacy assign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xplicitly teach candidates how to incorporate higher level thinking and strategies, especially with students in high-poverty/high diversity classroo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of the Work Samples  included a variety of primary documents and texts. Teach candidates how to match text difficulty with student literacy abil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NAEP Reading Scores Continue to Decline  while Achievement Gap Wide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24220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hievement Gap in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between lower/higher SES  at state level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L Eligible  25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Eligible  27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4379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d to the nation, average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scores declined in this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verty &amp; lack of social supports for students in metro area where this study took pl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Up Arrow 8"/>
          <p:cNvSpPr/>
          <p:nvPr/>
        </p:nvSpPr>
        <p:spPr>
          <a:xfrm>
            <a:off x="7696080" y="4038480"/>
            <a:ext cx="822600" cy="822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_x000e_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Need to address Low Expectations for high poverty, ethically diverse students  (Banks et al 2005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5142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in lower track classes--high poverty &amp; ethnic diversity-- have fewer opportunities to develop higher order thinking and reasoning skills  (Good &amp; Brophy, 199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2422440"/>
            <a:ext cx="40384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teach culturally responsive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at 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cit orientatio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both differentiate and accelerate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_x0013_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ata Analysi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44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ective Case Study Approach (Creswell, 2013) to compare across six c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3 cases used higher-level literacy strateg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2 cases used lower-level literacy strateg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ntified Depth of Knowledge (DOK) level for each literacy activity  (Webb, 200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ed literacy strategy profile for each work sam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igher level activities: Depth of Knowledge (Webb, 200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1336680" y="1935000"/>
            <a:ext cx="6470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llust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onolo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58:48Z</dcterms:created>
  <dc:creator>sjlenski</dc:creator>
  <dc:description/>
  <dc:language>en-US</dc:language>
  <cp:lastModifiedBy>Gayle Thieman</cp:lastModifiedBy>
  <cp:lastPrinted>2011-11-30T03:54:54Z</cp:lastPrinted>
  <dcterms:modified xsi:type="dcterms:W3CDTF">2014-01-23T22:57:24Z</dcterms:modified>
  <cp:revision>72</cp:revision>
  <dc:subject/>
  <dc:title>What Work Samples Reveal  about Preservice Teachers’  Use of Literacy Strategies</dc:title>
</cp:coreProperties>
</file>