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278-584A-44A9-B392-AF57F1F27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1E5-462E-4BEA-8A73-64297FAF1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99E9-8142-4A9F-B4EE-0944C46E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E231-93D6-4F2C-B776-2B9A6429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B96-26AC-48B9-AB67-BAB62F7E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112-EF80-4BA7-A70F-FD24C6D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787-F6F6-48A1-8D0B-19C45154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CBC-2398-45EF-AC54-97EDFDFD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B0C4-B9B8-40DF-A091-EE018EA6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7E5-219A-4B98-A650-AAA5E1D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89B-3C78-495C-9BAE-4F1E7B6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CC0-7C37-499E-8126-37D8E0E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515-5040-4E47-B362-7B69520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DA9B-F1D3-48EC-B3C0-005F445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4230-A521-4AA6-8E3B-A247BF9B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35D-9656-4673-A153-B51DCC5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2D71-4E36-44CF-BCC5-A300495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8D6-E37A-4354-8CAE-3765C9C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FBF-C471-45AE-97BE-ACE48C9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8CCC-FA21-43B8-970B-EBF0B48A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140-C4D6-436D-A570-465EC620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9E1E-2EDC-41D6-B35C-2590ADD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87C6-7EE7-4ED7-A5FA-FB108D29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E5EC-7F85-4239-B331-5B590FB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C8E2-54F8-45A0-BCE7-96055014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84C9-0AAD-4189-9624-E53CC4B5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B61-E99D-4EE1-9602-AC90E02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699A-EA94-4BC4-B74E-266FA32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3DF9-A24D-48F7-B416-2418B59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2675-9063-4941-A6C8-67A4826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E71E-8E14-49A9-9256-5A65D7A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C0D2-F90F-4171-A9ED-CBE17B0F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E7DF-5ECD-4F2F-960D-9DC2DA41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9953-3EAE-470D-869C-59AAE12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DBD8-54AC-457E-A701-B993DD37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4173-C2C1-4330-AF2E-EDD7FCE7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12FF-71BC-46E3-ADE3-B91350B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7D4-F885-4C92-9CFC-AAA49F0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7C72-C04F-4DD7-B053-4046938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ACB1-2D13-4F24-AB67-50BD7D0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AA33-E451-435D-A295-14606FD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152A-BF7A-43E8-92A1-8C1D385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9922-126F-4561-85AE-F41426E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BF0F-4104-4A2E-AB57-6879D93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E506-3270-4A86-B80F-490A6BF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C85B-AE5C-4B38-AA09-6EDF84B3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E8FF-DC4C-4597-88A9-729B4A58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721-A3EB-45F2-9DC2-9568CEAF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7B1-E62D-4327-91E5-84EC9EC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79D-9D4B-4E90-933A-A1C9315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4D0-0AD7-47C2-BBB8-29DC61A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229-05E9-4CCD-86A0-2C4E798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A94-AFDC-43F9-A12B-488717C2C04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974-E0DC-426B-9E9F-3AC2173CDD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2A6-19A0-4F92-AFDE-ABFED5F5BD4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B85-EB53-42A1-B12A-05201A11432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84F-59EB-4EC1-95D7-C047492A769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7EC-6649-4229-BE86-6C17F59682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E47-B09D-48F1-916A-A08787906BB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AA9A-ED62-4D4A-8A58-3F752F3C72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2505240"/>
            <a:ext cx="7858080" cy="6212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d  Handsen Middle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darin/Spanish immersion programs; Somali refugees  in urban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aim: advocate for every student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culture, language and academ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ed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goal: create a truly engaging curriculum that empowers students to work to the top of their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1% of literacy strategies were Levels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James Centur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8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0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immigrant/migrant labor population in low-income subu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 of sophomores is one of the most difficult to come through the school in the last decade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James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view: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I have found ways to connect to the students… All seemed to appreciate being pushed and having to think for a change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6% of literacy strategies were Levels III, IV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uck Mason Alternativ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lition of Essential Schools: small class size;  create personalized educ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f-contained classroom for highly at-risk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goal: connect lessons to real world examples that provide scaffolding for academic task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 40% of literacy strategies were Levels III,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ly  Prairi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er blue-collar white suburb, now high poverty, divers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ficit perspective: Transient nature of the community, resulting from low SES,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reated challenges in the classroom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students had not had a social studies class sinc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; their knowledge was lim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22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shley  Bentle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2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eer/technical public magnet school in urban community; students admitted by lott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shley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view: Standards were higher when students were coming from strong academic foundations.  Now curriculum needs to change. Expectations are too high and students are unable to p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10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ifferences among Teacher Candid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C’s used primary sources 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ith higher 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aught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other TC’s asked students to read and interpret photos, news headlines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ittle scaffolding to support student comprehension and little evidence of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five social studies teachers candidates use with students in low SES schoo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ifferences exist between dispositions and skills o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use higher-level literacy strategies versus those who use lower level strateg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ganizing Instruction Around CFQ’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ho used highest-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most conceptual essential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can we ensure social justice for every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 who used mostly lower level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“Is imagine important? In unit on Roaring 20’s &amp;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only marginally evident &amp; no HO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Represent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audio or nonlinguistic visual support for text reading or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lose captioned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lighting, pictures, graphic organizers in 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e Means of Engage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content to students’ l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perative group or partner work with specific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ipul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Plays/Sim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Action/Express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igital media  (web pages, presentations, audio 0r video recordings, e-portfol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rawings, posters, graphic organizers, oral presentations,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help students understand literary processes (more than named strateg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Case Study Approach (Creswell, 2013) to compare across six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3 cases used higher-level literacy strateg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2 cases used lower-level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Depth of Knowledge (DOK) level for each literacy activity  (Webb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literacy strategy profile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1-11-30T03:54:54Z</cp:lastPrinted>
  <dcterms:modified xsi:type="dcterms:W3CDTF">2014-01-23T22:57:24Z</dcterms:modified>
  <cp:revision>72</cp:revision>
  <dc:subject/>
  <dc:title>What Work Samples Reveal  about Preservice Teachers’  Use of Literacy Strategies</dc:title>
</cp:coreProperties>
</file>