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845-ADE0-43BD-B1CA-7C068697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8AE-DAEA-4970-92C3-80EA7E32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094-10FD-4794-8C13-93A75B69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8CB-B339-45B3-B7CB-D8AB8650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22A-DF50-4CD0-8CC7-17BE2B4E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200-1FFA-47D4-91E7-B30EE4B5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694-D55B-46AD-A827-7D19A568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239-1937-4AB5-AE7C-001820C2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8D8-CC0B-40D6-98EE-881BB1B3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AD5-B492-44C6-A1F6-203EA7F0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85D-2C68-4B0A-9C39-CACA0E71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05B-061F-4250-810E-05FA2DA7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D6C3-7343-44A6-9683-772B100CA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vacy and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2386080" y="4191120"/>
            <a:ext cx="449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Rurik Rory-Naker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Legislation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Educational Rights and Privacy Act , 1974 (FER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that educators demonstrat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diligenc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tecting student data, information, records, and other sensitive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can be personally held liable for failing to maintain the integrity of such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P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s/guardians have a right to inspect all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of access maintained regarding individuals examining the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ls to contents are permit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must be kept confidential—no release unless there is per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rth date, address, ss#, grades, test results, discipline records, attendance, health records, pictu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actical Privacy Techniques for Teach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22856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Proper Information Security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Awar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Encry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he Cookie J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Privacy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a Second Online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semination of Privacy Practices to Stud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s of protecting privacy is a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kill that schools should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illard,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 need to be embedded within the curriculum as readily as technical skil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TC, 2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lessons and natural teaching moments work well for identifying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 as a role model for privacy protection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echnology is introduced into schools, it is critical to combine the technical skills with the soft (ethical) skills surrounding the me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 needs to given to both teachers and students upon this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must practice privacy techniques daily---to protect the information and serve as a positive rol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 for Teaching Internet Safety to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safekids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the safety advice and tools, paying particular attention to the  information for child safety, parents of pre-teens and parents of te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vestiate  http://www.netsmartz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wnloadable teaching materials for educators including tip sheets on social networking, cyberbullying, sexting, and cybersecur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llent Resources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ealth Surf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Matt Lak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6350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lett Software Company: Privacy Si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athwaysmodel.com/resources/articles/adams/weblinks.cf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ke Your PC Hacker Proo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Jeff Sengstack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7759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rivac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control the degree to which people and institutions impinge upon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ldreth &amp; Hoyt, 19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claimed by an individual to control the disclosure of personal information about themse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ms, 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35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your privacy expectations of yo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we expect this same level of professionalism from our schoo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160" y="11430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nk 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Calls From Telemark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 SP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cery Savings Car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ity Cam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Phone Tamp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L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place Surveil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common factor that unites these item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523880" y="57150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Lucida Sans"/>
              </a:rPr>
              <a:t>Personal privacy in jeopardy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Lucida Sans"/>
              <a:ea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privacy really that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3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cWor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launched an investigation surrounding the ability of unauthorized users to obtain information from celeb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nformation was all obtained in a legal and ethical mann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6240" y="53316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$112 per celebrity....they foun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447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online solicitation and searches, the editors were able to obtain the following information on individuals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2362320"/>
          <a:ext cx="8686800" cy="3644640"/>
        </p:xfrm>
        <a:graphic>
          <a:graphicData uri="http://schemas.openxmlformats.org/drawingml/2006/table">
            <a:tbl>
              <a:tblPr/>
              <a:tblGrid>
                <a:gridCol w="4572000"/>
                <a:gridCol w="4114800"/>
              </a:tblGrid>
              <a:tr h="400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rth d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add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cial security numb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ighbors address/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rivers rec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cluding physical characteristic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riage rec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oter registration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ographical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x lie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mpaign contribu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hicles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 estate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mmercial loans/deb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vil court filing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rporate 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23"/>
          <p:cNvSpPr/>
          <p:nvPr/>
        </p:nvSpPr>
        <p:spPr>
          <a:xfrm>
            <a:off x="2590920" y="6186600"/>
            <a:ext cx="44956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CQ Researcher, 199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ction of Children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 Inform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99 Survey:  16 million children ---14% of US citizens under the age of 18 regularly use the Internet. (19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ducted by Cai and Gantz (2000) indicated that the majority of Web sites targeted at children collect personal information from their under-age us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ren also readily provide personal data in return for a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 priz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arlson,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Privacy Important for Teacher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120" y="2057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al law mandates that teachers protect the information they gather and record regarding their stud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ational Center for Education Statistics, 1998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RP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reme Court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do so could result in personal and professional lia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Practices—Common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hould not be conveyed to other teachers/administrators unless the motive is to enhanc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 information should be transmitted only upon requ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should be released only if there is a statutory requirement or the pupil/parents request the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03:37Z</dcterms:created>
  <dc:creator>Administrator</dc:creator>
  <dc:description/>
  <dc:language>en-US</dc:language>
  <cp:lastModifiedBy>Gayle Thieman</cp:lastModifiedBy>
  <dcterms:modified xsi:type="dcterms:W3CDTF">2013-08-13T00:44:12Z</dcterms:modified>
  <cp:revision>14</cp:revision>
  <dc:subject/>
  <dc:title>Privacy Primer for Educators</dc:title>
</cp:coreProperties>
</file>