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7E5-6104-4C82-8DB9-D7D17EEE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7DB-79FA-4261-BBA5-B494BDB5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17B-4F97-48AD-BE78-30CC5028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D09-E01F-46DE-A6F2-8D532A1B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089-6189-40D9-A616-0592A7BB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CD6-4452-427C-B0E2-AB221913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F10-7229-4FAD-A220-4B387884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0C8-A273-492D-8055-F7C4A8F2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4B3-2CC1-4D88-A937-3114F724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70C-CE31-4C38-BAC2-BC58E805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170-AFD3-40A9-BC0C-0D99D83B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900-9C7E-4F43-BB38-EF992C17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BB9C-36A8-458E-B853-1A30CFAFA0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 and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2386080" y="4191120"/>
            <a:ext cx="449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Rurik Rory-Naker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Legislation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Educational Rights and Privacy Act , 1974 (FER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hat educators demonstrat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diligenc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tecting student data, information, records, and other sensitive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can be personally held liable for failing to maintain the integrity of such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P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s/guardians have a right to inspect all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of access maintained regarding individuals examining the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ls to contents are permit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must be kept confidential—no release unless there is per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th date, address, ss#, grades, test results, discipline records, attendance, health records, pictu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actical Privacy Techniques for Teach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Proper Information Security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Encry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he Cookie 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rivac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a Second Online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emination of Privacy Practices to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s of protecting privacy is a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kill that schools should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illard,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 need to be embedded within the curriculum as readily as technical skil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TC, 2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ssons and natural teaching moments work well for identifying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 as a role model for privacy protection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echnology is introduced into schools, it is critical to combine the technical skills with the soft (ethical) skills surrounding the m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needs to given to both teachers and students upon this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must practice privacy techniques daily---to protect the information and serve as a positive rol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for Teaching Internet Safety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safekid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safety advice and tools, paying particular attention to the  information for child safety, parents of pre-teens and parents of te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estiate  http://www.netsmartz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wnloadable teaching materials for educators including tip sheets on social networking, cyberbullying, sexting, and cybersecur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lent Resources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ealth Surf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Matt Lak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6350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lett Software Company: Privacy Si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athwaysmodel.com/resources/articles/adams/weblinks.c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ke Your PC Hacker Proo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Jeff Sengstack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7759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rivac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the degree to which people and institutions impinge upon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ldreth &amp; Hoyt, 19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claimed by an individual to control the disclosure of personal information about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ms, 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35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your privacy expectations of yo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we expect this same level of professionalism from our schoo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160" y="11430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nk 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Calls From Telemark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 SP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cery Savings Car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ity Cam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Phone Tamp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place Surveil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common factor that unites these item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523880" y="57150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Lucida Sans"/>
              </a:rPr>
              <a:t>Personal privacy in jeopardy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Lucida Sans"/>
              <a:ea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privacy really that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3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c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launched an investigation surrounding the ability of unauthorized users to obtain information from celeb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nformation was all obtained in a legal and ethical mann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6240" y="53316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$112 per celebrity....they foun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447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online solicitation and searches, the editors were able to obtain the following information on individuals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2362320"/>
          <a:ext cx="8686800" cy="3644640"/>
        </p:xfrm>
        <a:graphic>
          <a:graphicData uri="http://schemas.openxmlformats.org/drawingml/2006/table">
            <a:tbl>
              <a:tblPr/>
              <a:tblGrid>
                <a:gridCol w="4572000"/>
                <a:gridCol w="4114800"/>
              </a:tblGrid>
              <a:tr h="400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rth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add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cial security numb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ighbors address/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rivers rec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cluding physical characteristic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riage rec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oter registration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ographical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x lie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mpaign contribu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hicles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 estate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mmercial loans/deb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vil court fil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rporate 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23"/>
          <p:cNvSpPr/>
          <p:nvPr/>
        </p:nvSpPr>
        <p:spPr>
          <a:xfrm>
            <a:off x="2590920" y="6186600"/>
            <a:ext cx="44956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CQ Researcher, 199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ction of Children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 Infor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9 Survey:  16 million children ---14% of US citizens under the age of 18 regularly use the Internet. (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ducted by Cai and Gantz (2000) indicated that the majority of Web sites targeted at children collect personal information from their under-age us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ren also readily provide personal data in return for a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 priz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arlson,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rivacy Important for Teacher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120" y="2057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al law mandates that teachers protect the information they gather and record regarding their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ational Center for Education Statistics, 1998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R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reme Court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do so could result in personal and professional lia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Practices—Common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hould not be conveyed to other teachers/administrators unless the motive is to enhanc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 information should be transmitted only upon requ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should be released only if there is a statutory requirement or the pupil/parents request the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03:37Z</dcterms:created>
  <dc:creator>Administrator</dc:creator>
  <dc:description/>
  <dc:language>en-US</dc:language>
  <cp:lastModifiedBy>Gayle Thieman</cp:lastModifiedBy>
  <dcterms:modified xsi:type="dcterms:W3CDTF">2013-08-13T00:44:12Z</dcterms:modified>
  <cp:revision>14</cp:revision>
  <dc:subject/>
  <dc:title>Privacy Primer for Educators</dc:title>
</cp:coreProperties>
</file>