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5FD0-BFC1-4ED6-B86F-9E1154A2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90E-0C41-40E3-9166-F48D7959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3AB-8A27-467E-828C-99032358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E04A-9CF3-4734-BAAE-D87CB8D5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0A7D-DE84-4F5C-A7C7-DFD46792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A54-617A-4835-858D-D55448B6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20A-A9E0-44D4-9D86-BDAB775F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654-FBAE-4401-A58B-9D74D72B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8A3-B8C2-4021-9C62-3E8E7159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63D-C861-4598-85CA-1ED733B3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C3C-44CD-43BB-8CEF-AE71256E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B7B1-4D1D-44B8-B707-A3049462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9144-048C-4F8B-90BF-9C14D631A2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9810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vacy and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2386080" y="4191120"/>
            <a:ext cx="449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Rurik Rory-Naker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land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Legislation for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 Educational Rights and Privacy Act , 1974 (FERP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that educators demonstrat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diligenc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rotecting student data, information, records, and other sensitive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can be personally held liable for failing to maintain the integrity of such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PA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s/guardians have a right to inspect all rec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of access maintained regarding individuals examining the 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eals to contents are permit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must be kept confidential—no release unless there is permi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rth date, address, ss#, grades, test results, discipline records, attendance, health records, pictur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actical Privacy Techniques for Teach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22856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 Proper Information Security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 Awar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Encry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Preca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 the Cookie J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Privacy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a Second Online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semination of Privacy Practices to Stud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amentals of protecting privacy is a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kill that schools should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illard, 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issues need to be embedded within the curriculum as readily as technical skil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FTC, 2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lessons and natural teaching moments work well for identifying the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rve as a role model for privacy protection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echnology is introduced into schools, it is critical to combine the technical skills with the soft (ethical) skills surrounding the me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 needs to given to both teachers and students upon this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must practice privacy techniques daily---to protect the information and serve as a positive role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s for Teaching Internet Safety to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safekids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the safety advice and tools, paying particular attention to the  information for child safety, parents of pre-teens and parents of te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vestiate  http://www.netsmartz.org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wnloadable teaching materials for educators including tip sheets on social networking, cyberbullying, sexting, and cybersecur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llent Resources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214776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tealth Surf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Matt Lak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6350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llett Software Company: Privacy Si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athwaysmodel.com/resources/articles/adams/weblinks.cf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ake Your PC Hacker Proo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Jeff Sengstack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7759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Privac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control the degree to which people and institutions impinge upon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ldreth &amp; Hoyt, 198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claimed by an individual to control the disclosure of personal information about themse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ms, 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352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 your privacy expectations of yo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Offic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we expect this same level of professionalism from our schoo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3160" y="11430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unk 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Calls From Telemark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-Mail SP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cery Savings Car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curity Came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Phone Tamp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Lo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place Surveil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common factor that unites these item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523880" y="571500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Lucida Sans"/>
              </a:rPr>
              <a:t>Personal privacy in jeopardy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Lucida Sans"/>
              <a:ea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privacy really that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1993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cWor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launched an investigation surrounding the ability of unauthorized users to obtain information from celeb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nformation was all obtained in a legal and ethical mann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6240" y="53316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 $112 per celebrity....they foun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447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rough online solicitation and searches, the editors were able to obtain the following information on individuals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2362320"/>
          <a:ext cx="8686800" cy="3644640"/>
        </p:xfrm>
        <a:graphic>
          <a:graphicData uri="http://schemas.openxmlformats.org/drawingml/2006/table">
            <a:tbl>
              <a:tblPr/>
              <a:tblGrid>
                <a:gridCol w="4572000"/>
                <a:gridCol w="4114800"/>
              </a:tblGrid>
              <a:tr h="400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rth d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me addr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me ph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cial security numb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ighbors address/ph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rivers recor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including physical characteristic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riage rec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oter registration in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ographical in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x lie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mpaign contribu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hicles ow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 estate ow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mmercial loans/deb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vil court filing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rporate t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23"/>
          <p:cNvSpPr/>
          <p:nvPr/>
        </p:nvSpPr>
        <p:spPr>
          <a:xfrm>
            <a:off x="2590920" y="6186600"/>
            <a:ext cx="44956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CQ Researcher, 199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ction of Children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 Inform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147400"/>
            <a:ext cx="77724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9 Survey:  16 million children ---14% of US citizens under the age of 18 regularly use the Internet. (19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conducted by Cai and Gantz (2000) indicated that the majority of Web sites targeted at children collect personal information from their under-age us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ren also readily provide personal data in return for a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 priz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arlson,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Privacy Important for Teacher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120" y="20574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deral law mandates that teachers protect the information they gather and record regarding their studen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National Center for Education Statistics, 1998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RP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reme Court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ilure to do so could result in personal and professional lia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Practices—Common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should not be conveyed to other teachers/administrators unless the motive is to enhance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pil information should be transmitted only upon requ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should be released only if there is a statutory requirement or the pupil/parents request the re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03:37Z</dcterms:created>
  <dc:creator>Administrator</dc:creator>
  <dc:description/>
  <dc:language>en-US</dc:language>
  <cp:lastModifiedBy>Gayle Thieman</cp:lastModifiedBy>
  <dcterms:modified xsi:type="dcterms:W3CDTF">2013-08-13T00:44:12Z</dcterms:modified>
  <cp:revision>14</cp:revision>
  <dc:subject/>
  <dc:title>Privacy Primer for Educators</dc:title>
</cp:coreProperties>
</file>