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C8D-8E16-483D-BD06-EB351483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066-147B-4066-B566-5114BBDE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B7F-E588-4AE2-894C-A19E1F5D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EE5-0BE5-4251-9FBE-898EF5D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EA1-ACF6-4B37-812B-060C8365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184-5AB6-47DC-8A88-303E3A2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691-8BA4-4879-B039-6709CAA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E89-B7C5-4CE2-8FAA-1B3970C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A7E-D6C4-4AB0-9567-6E36B731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6C4-811C-462A-86AB-A9581D9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436-42A4-4CA6-9DFB-1813171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5B6-CE9D-4344-9F33-FBDF59E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B804-59A5-417B-9AAB-C808AEA93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9 Survey:  16 million children ---14% of US citizens under the age of 18 regularly use the Internet.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13T00:44:12Z</dcterms:modified>
  <cp:revision>14</cp:revision>
  <dc:subject/>
  <dc:title>Privacy Primer for Educators</dc:title>
</cp:coreProperties>
</file>