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4BD-BA58-4858-B90A-2A704CDA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EEAB-4827-4574-9B6F-D302CF69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937-D3C1-4FD4-808F-61466A04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740-753F-40DF-B3CA-58C1512E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9A3-FFB1-495B-8AC3-BDCE2098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DEA-FCB0-475E-85CD-BBDD3ED7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9E7-9826-44BA-96D0-C45AE50A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90E-F3D9-4CF5-8F7A-4BEC2F34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0B7-314D-4CB0-8124-71C7B17D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3E5-AFFE-4D7D-AAA4-78DEB4CC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991-9C8D-4586-9132-800E4040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601-F22B-4800-88E2-11ACDF45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0686-8B64-4457-9872-9EE678CC72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vacy and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2386080" y="4191120"/>
            <a:ext cx="449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Rurik Rory-Naker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d July,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echnology is introduced into schools, it is critical to combine the technical skills with the soft (ethical) skills surrounding the me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 needs to given to both teachers and students upon this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must practice privacy techniques daily---to protect the information and serve as a positive rol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 for Teaching Internet Safety to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safekids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the safety advice and tools, paying particular attention to the  information for child safety, parents of pre-teens and parents of te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vestiate  http://www.netsmartz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wnloadable teaching materials for educators including tip sheets on social networking, cyberbullying, sexting, and cybersecur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llent Resources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21477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tealth Surf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Matt Lak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6350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lett Software Company: Privacy Si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athwaysmodel.com/resources/articles/adams/weblinks.cf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ke Your PC Hacker Proo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Jeff Sengstack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7759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Privac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control the degree to which people and institutions impinge upon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ldreth &amp; Hoyt, 198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claimed by an individual to control the disclosure of personal information about themse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ms, 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ction of Children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 Inform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2147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W Research Internet Project  (2013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8% of teens use a cell ph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% access the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3% have a computer at h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3% have a tablet compu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conducted by Cai and Gantz (2000) indicated that the majority of Web sites targeted at children collect personal information from their under-age us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Privacy Important for Teacher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120" y="2057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al law mandates that teachers protect the information they gather and record regarding their studen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ational Center for Education Statistics, 1998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RP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reme Court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do so could result in personal and professional lia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Practices—Common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should not be conveyed to other teachers/administrators unless the motive is to enhance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pil information should be transmitted only upon requ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should be released only if there is a statutory requirement or the pupil/parents request the re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Legislation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Educational Rights and Privacy Act , 1974 (FERP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that educators demonstrat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diligenc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rotecting student data, information, records, and other sensitive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can be personally held liable for failing to maintain the integrity of such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P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s/guardians have a right to inspect all rec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of access maintained regarding individuals examining the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eals to contents are permit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must be kept confidential—no release unless there is per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rth date, address, ss#, grades, test results, discipline records, attendance, health records, pictur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actical Privacy Techniques for Teach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66680" y="22856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 Proper Information Security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 Awar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Encry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he Cookie J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Privacy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a Second Online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semination of Privacy Practices to Stud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amentals of protecting privacy is a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kill that schools should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illard,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issues need to be embedded within the curriculum as readily as technical skil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TC, 2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lessons and natural teaching moments work well for identifying the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 as a role model for privacy protection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03:37Z</dcterms:created>
  <dc:creator>Administrator</dc:creator>
  <dc:description/>
  <dc:language>en-US</dc:language>
  <cp:lastModifiedBy>Gayle Thieman</cp:lastModifiedBy>
  <dcterms:modified xsi:type="dcterms:W3CDTF">2014-07-29T22:01:15Z</dcterms:modified>
  <cp:revision>16</cp:revision>
  <dc:subject/>
  <dc:title>Privacy Primer for Educators</dc:title>
</cp:coreProperties>
</file>