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D2E-5D36-4FE1-8249-6327E718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EBC-40F4-47BA-AFD5-AA745E9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F10-F8D9-47EF-953A-720B988C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ECD-2864-49B4-973D-B7F845F8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C7D-4E40-40DA-A954-3C9F6D86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F24-65C0-4227-B7F0-9FBFAEBC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567-3E7C-4262-88F7-1E57FBC7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44B-9665-4A8C-B0C5-14E6D5A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2BE-391B-4F34-9BE6-F47B1EA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ECE-C4CD-4AAA-93A7-E275388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D26-2442-41B5-A6DF-F07CE61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6E1-6605-4C7A-8359-A48244A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C9B4-130A-4B8E-B391-6DC3A6290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July,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Research Internet Project  (2013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8% of teens use a cell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% access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3% have a computer at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% have a tablet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4-07-29T22:01:15Z</dcterms:modified>
  <cp:revision>16</cp:revision>
  <dc:subject/>
  <dc:title>Privacy Primer for Educators</dc:title>
</cp:coreProperties>
</file>