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BBDD-4C24-4A66-A3CB-0D4B9FFF5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F800-6729-4CAE-A027-A5696AA78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2DF1-CDCB-49C3-B37F-4A7B292CF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7278-BEB9-4D28-9115-95F955871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5324-A14D-4C5F-B8E3-8741AE747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2D12-FA75-432A-9AF3-BE118A829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4643-F3FC-45A5-8083-4D3432869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6586-ACB4-4E5E-8039-D782C0ECA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797F-C5A8-446E-8474-7A58EBB5A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2223-C292-4B82-9480-E698B69B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F6BB-F1D5-4F5B-A97F-67FDF4CC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D062-9A39-42A6-831B-B33EAE85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4338C-F43A-40BA-94F1-B09DE3F84C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1981080"/>
            <a:ext cx="73152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ivacy and Educ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8"/>
          <p:cNvSpPr/>
          <p:nvPr/>
        </p:nvSpPr>
        <p:spPr>
          <a:xfrm>
            <a:off x="2386080" y="4191120"/>
            <a:ext cx="4492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ed by Rurik Rory-Naker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uate School of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land State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d July, 20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lusio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 technology is introduced into schools, it is critical to combine the technical skills with the soft (ethical) skills surrounding the med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tention needs to given to both teachers and students upon this topi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achers must practice privacy techniques daily---to protect the information and serve as a positive role mode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ources for Teaching Internet Safety to Stud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vestigat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http://safekids.co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1560" indent="-231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lore the safety advice and tools, paying particular attention to the  information for child safety, parents of pre-teens and parents of tee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Investiate  http://www.netsmartz.org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1560" indent="-231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lor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ownloadable teaching materials for educators including tip sheets on social networking, cyberbullying, sexting, and cybersecurit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1560" indent="-23148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01560" indent="-23148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cellent Resources: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04920" y="214776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Stealth Surfing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by Matt Lak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pcworld.com/resource/printable/article/0,aid,16350,00.as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llett Software Company: Privacy Sit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pathwaysmodel.com/resources/articles/adams/weblinks.cf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Make Your PC Hacker Proof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by Jeff Sengstack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pcworld.com/resource/printable/article/0,aid,17759,00.as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Privac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22093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bility to control the degree to which people and institutions impinge upon one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 lif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ldreth &amp; Hoyt, 198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4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ight claimed by an individual to control the disclosure of personal information about themselv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ams, 2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llection of Children</a:t>
            </a: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 Informatio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2147400"/>
            <a:ext cx="777240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W Research Internet Project  (2013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8% of teens use a cell pho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4% access the Intern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3% have a computer at ho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3% have a tablet compu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udy conducted by Cai and Gantz (2000) indicated that the majority of Web sites targeted at children collect personal information from their under-age us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9140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y is Privacy Important for Teacher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09120" y="205740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ederal law mandates that teachers protect the information they gather and record regarding their student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National Center for Education Statistics, 1998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ERP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PP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upreme Court Deci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ailure to do so could result in personal and professional liabilit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897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vacy Practices—Common La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formation should not be conveyed to other teachers/administrators unless the motive is to enhance perform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pil information should be transmitted only upon reques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ords should be released only if there is a statutory requirement or the pupil/parents request the relea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vacy Legislation for Educ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mily Educational Rights and Privacy Act , 1974 (FERPA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quires that educators demonstrate 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e diligence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protecting student data, information, records, and other sensitive inform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achers can be personally held liable for failing to maintain the integrity of such da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ERPA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ents/guardians have a right to inspect all recor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ord of access maintained regarding individuals examining the fi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eals to contents are permitt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ords must be kept confidential—no release unless there is permiss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rth date, address, ss#, grades, test results, discipline records, attendance, health records, pictures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897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actical Privacy Techniques for Teacher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066680" y="228564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actice Proper Information Security Techn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-Mail Awarenes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of Encry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wnload Precau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ose the Cookie J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d Privacy Stat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t up a Second Online Accou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ssemination of Privacy Practices to Studen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ndamentals of protecting privacy is a 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kill that schools should ad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Willard, 200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vacy issues need to be embedded within the curriculum as readily as technical skill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FTC, 200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rt lessons and natural teaching moments work well for identifying the topi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acher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mu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erve as a role model for privacy protection practi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30T16:03:37Z</dcterms:created>
  <dc:creator>Administrator</dc:creator>
  <dc:description/>
  <dc:language>en-US</dc:language>
  <cp:lastModifiedBy>Gayle Thieman</cp:lastModifiedBy>
  <dcterms:modified xsi:type="dcterms:W3CDTF">2014-07-29T22:01:15Z</dcterms:modified>
  <cp:revision>16</cp:revision>
  <dc:subject/>
  <dc:title>Privacy Primer for Educators</dc:title>
</cp:coreProperties>
</file>