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18D-772C-44FC-9B83-82185BCE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9C8-5FC3-483D-92D2-CC42C678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F00-77A1-4D79-B012-086637C3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B15-983D-49F8-AA97-56FB2983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101-D6CE-4C7E-AF41-C46A0CB7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E0C-5E91-4723-84B4-802D8FB4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7EB-AECF-499D-9CD4-5BA386BE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24A-549F-41A2-ACA4-BE51FC1A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1FC-C570-48C1-BCBD-22A34153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D47-4430-4BA6-8282-E7054DA6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A06-3BD0-4A7F-B5CF-5F7F51B9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9C3-E323-42F5-9400-B93B6B71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9785-3BF5-43AE-BD97-73DBF626F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vacy and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2386080" y="4191120"/>
            <a:ext cx="449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Rurik Rory-Naker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Legislation for Edu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Educational Rights and Privacy Act , 1974 (FER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hat educators demonstrat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diligence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tecting student data, information, records, and other sensitive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can be personally held liable for failing to maintain the integrity of such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P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s/guardians have a right to inspect all rec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of access maintained regarding individuals examining the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ls to contents are permit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must be kept confidential—no release unless there is permi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rth date, address, ss#, grades, test results, discipline records, attendance, health records, pictu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actical Privacy Techniques for Teach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Proper Information Security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Awar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Encry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 the Cookie 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rivac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a Second Online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semination of Privacy Practices to Stud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s of protecting privacy is a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kill that schools should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Willard,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issues need to be embedded within the curriculum as readily as technical skil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TC, 200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ssons and natural teaching moments work well for identifying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 as a role model for privacy protection pract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technology is introduced into schools, it is critical to combine the technical skills with the soft (ethical) skills surrounding the m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needs to given to both teachers and students upon this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 must practice privacy techniques daily---to protect the information and serve as a positive role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for Teaching Internet Safety to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safekids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the safety advice and tools, paying particular attention to the  information for child safety, parents of pre-teens and parents of te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vestiate  http://www.netsmartz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wnloadable teaching materials for educators including tip sheets on social networking, cyberbullying, sexting, and cybersecur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lent Resources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tealth Surf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Matt Lak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6350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lett Software Company: Privacy Si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athwaysmodel.com/resources/articles/adams/weblinks.cf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ke Your PC Hacker Proof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Jeff Sengstack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cworld.com/resource/printable/article/0,aid,17759,0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rivac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bility to control the degree to which people and institutions impinge upon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ldreth &amp; Hoyt, 19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claimed by an individual to control the disclosure of personal information about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ms, 2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your privacy expectations of yo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we expect this same level of professionalism from our schoo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nk 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Calls From Telemark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-Mail SP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cery Savings Car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Phone Tamp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ne Lo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place Surveil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common factor that unites these item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523880" y="5715000"/>
            <a:ext cx="6477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Lucida Sans"/>
              </a:rPr>
              <a:t>Personal privacy in jeopardy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Lucida Sans"/>
              <a:ea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privacy really that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3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c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launched an investigation surrounding the ability of unauthorized users to obtain information from celeb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nformation was all obtained in a legal and ethical mann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6240" y="53316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$112 per celebrity....they foun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447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online solicitation and searches, the editors were able to obtain the following information on individuals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362320"/>
          <a:ext cx="8686800" cy="3644640"/>
        </p:xfrm>
        <a:graphic>
          <a:graphicData uri="http://schemas.openxmlformats.org/drawingml/2006/table">
            <a:tbl>
              <a:tblPr/>
              <a:tblGrid>
                <a:gridCol w="4572000"/>
                <a:gridCol w="4114800"/>
              </a:tblGrid>
              <a:tr h="400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rth d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add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me 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cial security numb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ghbors address/ph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rivers rec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cluding physical characteristic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riage rec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oter registration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iographical inform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x li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mpaign contribu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hicles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 estate ow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mmercial loans/deb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vil court fil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102909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rporate 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23"/>
          <p:cNvSpPr/>
          <p:nvPr/>
        </p:nvSpPr>
        <p:spPr>
          <a:xfrm>
            <a:off x="2590920" y="6186600"/>
            <a:ext cx="44956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CQ Researcher, 199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ction of Children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 Inform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147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conducted by Cai and Gantz (2000) indicated that the majority of Web sites targeted at children collect personal information from their under-age us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 also readily provide personal data in return for a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 priz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arlson,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w Internet Study (2009)  reported 93% of teens (12-17) go online while 73% use social networking 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/10 use mobile phones to text message and send pho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rivacy Important for Teacher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120" y="2057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l law mandates that teachers protect the information they gather and record regarding their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ational Center for Education Statistics, 1998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R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reme Court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ilure to do so could result in personal and professional lia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cy Practices—Common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should not be conveyed to other teachers/administrators unless the motive is to enhance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 information should be transmitted only upon requ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s should be released only if there is a statutory requirement or the pupil/parents request the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03:37Z</dcterms:created>
  <dc:creator>Administrator</dc:creator>
  <dc:description/>
  <dc:language>en-US</dc:language>
  <cp:lastModifiedBy>Gayle Thieman</cp:lastModifiedBy>
  <dcterms:modified xsi:type="dcterms:W3CDTF">2013-08-20T06:54:02Z</dcterms:modified>
  <cp:revision>15</cp:revision>
  <dc:subject/>
  <dc:title>Privacy Primer for Educators</dc:title>
</cp:coreProperties>
</file>