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404-51A0-4741-884A-27CA75BF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30A-B508-44A5-9EC5-8DC7CDDA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C36-6B7E-4F64-B7FA-689C066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DE2-7D7D-4F33-B55A-E08BBD49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878-5AEC-464D-8D58-8D84A627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7BC-4FB8-42F6-9FB7-7F3609C0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6BC-A030-4BB6-82FC-CC9C01A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F94-A91A-409A-9116-F22B129A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DB2-E800-4A36-A8DF-8D19EB2C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06A-8044-4781-AD57-CE19078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011-7AD2-4166-9884-0218F42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A2D-AA83-41F5-9AF0-7AA7C97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1B9-86F5-49E6-BE6F-80AE0BF4F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Internet Study (2009)  reported 93% of teens (12-17) go online while 73% use social networking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/10 use mobile phones to text message and send pho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20T06:54:02Z</dcterms:modified>
  <cp:revision>15</cp:revision>
  <dc:subject/>
  <dc:title>Privacy Primer for Educators</dc:title>
</cp:coreProperties>
</file>