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B4E-A79B-46BD-AFC5-E7FA52C0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C66-3943-4FA6-BF17-43E89560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C7B-F1F2-4771-8067-55449520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987-57CD-431F-B580-D7728966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570-30FE-426C-AE86-18C5875F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33D-DE3D-492E-A239-CC44617B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D0E-597D-4C18-805F-202D5ABC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06F-B9C4-4C47-9372-A37C5D23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965-BEF3-4BC2-96E8-6DE84E1C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BA0-2F8F-43B3-B9F9-57C5222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1A2-2E2A-47D0-9432-1E0BBEDC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3A5-93AC-4A57-92A5-D27539C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8079-0CA0-4E3B-BA81-4E88A43F4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your privacy expectations of yo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we expect this same level of professionalism from our schoo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nk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Calls From Telemark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 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cery Savings Ca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Phone Tamp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place Surveil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common factor that unites these item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523880" y="57150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Personal privacy in jeopardy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privacy really that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3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c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launched an investigation surrounding the ability of unauthorized users to obtain information from celeb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nformation was all obtained in a legal and ethical mann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$112 per celebrity....they foun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447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online solicitation and searches, the editors were able to obtain the following information on individuals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362320"/>
          <a:ext cx="8686800" cy="3644640"/>
        </p:xfrm>
        <a:graphic>
          <a:graphicData uri="http://schemas.openxmlformats.org/drawingml/2006/table">
            <a:tbl>
              <a:tblPr/>
              <a:tblGrid>
                <a:gridCol w="4572000"/>
                <a:gridCol w="4114800"/>
              </a:tblGrid>
              <a:tr h="400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rth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cial security numb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ghbors address/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rivers rec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cluding physical characteris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riage rec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oter registration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ographical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x li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mpaign contrib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hicles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 estate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mercial loans/deb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vil court fil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rporate 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3"/>
          <p:cNvSpPr/>
          <p:nvPr/>
        </p:nvSpPr>
        <p:spPr>
          <a:xfrm>
            <a:off x="2590920" y="6186600"/>
            <a:ext cx="44956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CQ Researcher, 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 also readily provide personal data in return for a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priz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arlson,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w Internet Study (2009)  reported 93% of teens (12-17) go online while 73% use social networking 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/10 use mobile phones to text message and send pho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3-08-20T06:54:02Z</dcterms:modified>
  <cp:revision>15</cp:revision>
  <dc:subject/>
  <dc:title>Privacy Primer for Educators</dc:title>
</cp:coreProperties>
</file>