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784E-0EA2-49DD-A734-F7B2CC5E1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F127-B0B4-4E18-91AF-121DD499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392A-3385-4CCF-AC55-3D47A5D01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339B-602A-49BF-A749-6EF781B29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6292-2C0F-4469-A2F2-0E1B6C2A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514D-883D-4A53-8353-27A36E3D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A17C-D985-4DCA-9973-1808F360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14B9-BBA7-4E96-8F2D-72483517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CC3C-C3FC-4345-BF00-18F0B574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78B0-D959-4FAF-8AB1-304B9FBB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03FA-2501-4123-BFC0-68711019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49BA-2FB2-4123-9587-8D932F0A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C865-DFCD-4A0D-B5A1-9EBE746952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981080"/>
            <a:ext cx="73152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ivacy and Educ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2386080" y="4191120"/>
            <a:ext cx="4492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d by Rurik Rory-Naker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uate School of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land State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ust,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vacy Legislation for Educ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mily Educational Rights and Privacy Act , 1974 (FERPA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s that educators demonstrate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e diligence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protecting student data, information, records, and other sensitive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s can be personally held liable for failing to maintain the integrity of such da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RPA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ents/guardians have a right to inspect all recor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rd of access maintained regarding individuals examining the fi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eals to contents are permit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rds must be kept confidential—no release unless there is permis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rth date, address, ss#, grades, test results, discipline records, attendance, health records, pictures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actical Privacy Techniques for Teacher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066680" y="228564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actice Proper Information Security Techn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-Mail Awaren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of Encry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wnload Preca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ose the Cookie J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 Privacy Stat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t up a Second Online Ac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ssemination of Privacy Practices to Stude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damentals of protecting privacy is a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kill that schools should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Willard, 200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vacy issues need to be embedded within the curriculum as readily as technical skil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FTC, 200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 lessons and natural teaching moments work well for identifying the topi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erve as a role model for privacy protection pract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technology is introduced into schools, it is critical to combine the technical skills with the soft (ethical) skills surrounding the med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ention needs to given to both teachers and students upon this topi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s must practice privacy techniques daily---to protect the information and serve as a positive role mod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ources for Teaching Internet Safety to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estiga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ttp://safekids.co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ore the safety advice and tools, paying particular attention to the  information for child safety, parents of pre-teens and parents of tee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nvestiate  http://www.netsmartz.org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or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ownloadable teaching materials for educators including tip sheets on social networking, cyberbullying, sexting, and cybersecur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cellent Resources: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4920" y="214776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Stealth Surfing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y Matt Lak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pcworld.com/resource/printable/article/0,aid,16350,00.as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llett Software Company: Privacy Sit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pathwaysmodel.com/resources/articles/adams/weblinks.cf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Make Your PC Hacker Proof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y Jeff Sengstack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pcworld.com/resource/printable/article/0,aid,17759,00.as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Privac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22093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bility to control the degree to which people and institutions impinge upon one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ldreth &amp; Hoyt, 198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ight claimed by an individual to control the disclosure of personal information about themsel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ams, 2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3352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cribe your privacy expectations of yo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 Offic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we expect this same level of professionalism from our school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533160" y="11430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unk Ma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hone Calls From Telemarke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line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-Mail SP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ocery Savings Card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curity Camer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ll Phone Tamp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hone Lo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orkplace Surveill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at is the common factor that unites these items?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1523880" y="5715000"/>
            <a:ext cx="6477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Lucida Sans"/>
              </a:rPr>
              <a:t>Personal privacy in jeopardy.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Lucida Sans"/>
              <a:ea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 privacy really that importan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n 1993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MacWorl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launched an investigation surrounding the ability of unauthorized users to obtain information from celebrit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nformation was all obtained in a legal and ethical mann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6240" y="53316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r $112 per celebrity....they found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" y="14479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hrough online solicitation and searches, the editors were able to obtain the following information on individuals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2362320"/>
          <a:ext cx="8686800" cy="3644640"/>
        </p:xfrm>
        <a:graphic>
          <a:graphicData uri="http://schemas.openxmlformats.org/drawingml/2006/table">
            <a:tbl>
              <a:tblPr/>
              <a:tblGrid>
                <a:gridCol w="4572000"/>
                <a:gridCol w="4114800"/>
              </a:tblGrid>
              <a:tr h="400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irth da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ome addre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ome pho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cial security number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ighbors address/pho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rivers record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including physical characteristic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rriage recor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oter registration inform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iographical inform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x lie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mpaign contribu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hicles own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al estate own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mmercial loans/deb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ivil court filing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rporate ti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Text Box 23"/>
          <p:cNvSpPr/>
          <p:nvPr/>
        </p:nvSpPr>
        <p:spPr>
          <a:xfrm>
            <a:off x="2590920" y="6186600"/>
            <a:ext cx="44956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CQ Researcher, 1993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llection of Children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 Informa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2147400"/>
            <a:ext cx="777240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y conducted by Cai and Gantz (2000) indicated that the majority of Web sites targeted at children collect personal information from their under-age us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ildren also readily provide personal data in return for a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eat prize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Carlson,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w Internet Study (2009)  reported 93% of teens (12-17) go online while 73% use social networking si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/10 use mobile phones to text message and send pho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is Privacy Important for Teacher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9120" y="20574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ederal law mandates that teachers protect the information they gather and record regarding their student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National Center for Education Statistics, 1998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ERP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P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upreme Court Deci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ailure to do so could result in personal and professional liabil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vacy Practices—Common La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ormation should not be conveyed to other teachers/administrators unless the motive is to enhance perform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pil information should be transmitted only upon reque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rds should be released only if there is a statutory requirement or the pupil/parents request the rele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30T16:03:37Z</dcterms:created>
  <dc:creator>Administrator</dc:creator>
  <dc:description/>
  <dc:language>en-US</dc:language>
  <cp:lastModifiedBy>Gayle Thieman</cp:lastModifiedBy>
  <dcterms:modified xsi:type="dcterms:W3CDTF">2013-08-20T06:54:02Z</dcterms:modified>
  <cp:revision>15</cp:revision>
  <dc:subject/>
  <dc:title>Privacy Primer for Educators</dc:title>
</cp:coreProperties>
</file>