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BD39-0131-4E40-AA9D-72EC6009D5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A5FF-6727-442C-AB70-0569C5B762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3411-8247-4DC0-AD52-177BC52FC3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90C-0EE4-43A0-921D-49190481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737-88F0-4E5C-B860-66E923B1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F37-7B84-400E-90DD-114BA902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A53-66F1-4F1D-9663-2517027B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0D0B-78FB-4389-84A5-70ACFCA7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4E2F-C800-41BE-874D-5988F99C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7CD0-153A-447E-827E-21CCF501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308-45D2-431B-9286-496E60A7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A3CB-6345-417D-BC65-763F0E8F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3EF-470E-4286-8285-08F8CD5D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74CE-8D50-4F6A-B647-46D6E46C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603-A6E8-4F15-B8F9-EC211ABF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EBF3-DB6A-4A09-B67E-BD1AFA01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630A-716A-4684-9AA6-2EF61B1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DE3A-C0AB-4213-A191-5EA5197D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979D-9898-45B5-85A9-A3EBA48D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A6CE-6846-4807-A9AB-007E60BA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1F8D3-C19D-4B25-B1B1-2EF32249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5788-086F-4DBD-B6C8-0B58006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0A1C-ADD4-47EC-BDCB-2E82E84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F091-D9FF-4C37-9431-DF82C8E4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DACE-36B5-4EBE-B0F8-0B795050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F06-3D86-48E0-9576-FA602648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8E9B-F280-40CA-AF02-0C3EF6FE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67B6-6701-4481-9B92-5422F915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FA14-4902-4DBD-AC3C-370A231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3F7F-665A-4517-A65F-88ADC99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02F1-D417-491A-BA8A-5F91490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EB86-03B0-4E75-8CE6-15D1C13F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4DB0-036B-4DFD-9F1E-A997F515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A1E1-59E6-4284-B65E-3F441694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89F4-85C4-473E-A42E-7C5BD046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3BC3-0BEC-4C26-BEC7-B6EE0658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246-ED3B-46F2-84C9-779D7F8C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1C3E-444F-4BB6-BF00-5FF1BF90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3CAD-B1A9-4D11-B1C9-199AE76C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1582-7CD5-4204-A5C6-36C154D0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48CF-1339-47BA-80B7-8C38722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D4C3-2B86-494F-A4F2-69CD3BA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2566-4222-421F-801D-B9D95F7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3755-64B4-4C89-B827-190F6E85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BBB80-7A88-497C-A5E9-9877DFD4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BFA6-0E40-4D94-9C02-0AAF2E1F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8F0-EEA7-4A96-BBC8-4833AA9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28C-18C0-4EAA-AF11-DAB5E850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8A1-6E62-4217-971F-FD780536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D4A-F0E0-4AEB-80E3-74E9849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BE9-6F9A-4546-A0E3-DD4DA82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A1FF-E368-4E2A-932C-5DA71D529BBC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FE36-57F1-4CEB-AC2E-18ADD678F33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53DE-1F37-49E5-A202-A4DB1DABDCE5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DAC7-55F4-442F-89D7-FBFFBA163473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6130-712F-44FD-8C34-6D9C88EE74C4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DACF-3B56-4A67-9637-660016198151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F9EB-D973-4D7D-90DF-0757E04CC313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FEB-12E8-4AC3-B9D9-A25095944C50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1957320"/>
            <a:ext cx="7858080" cy="5651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rthwest Regional NCTE Confer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rtland, OR   March 1, 20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taught in high-poverty secondar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L  (41-53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thnic/linguistic diversity (21%-62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0" y="1676520"/>
            <a:ext cx="40384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i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hl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ase Analysis and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the case assigned to your group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e the school/classroom context  an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perception of students’ pot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organization of instruction around curriculum framing ques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3427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teacher’s skill in scaffolding increasingly complex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Group Discus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ut key findings from the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are personal stories of how you integrate higher-level literacy strategies in your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 povert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ndouts:  Sample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ession Goal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research on low expectations for literacy of students in high-poverty school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content area literacy strategies and Depth of Knowledge (DOK) levels of literacy activit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amine  case examples of high level and low level literacy strategies in high 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are examples of literacy strategies audience members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implications for increasing level of literacy instruction in high-poverty schoo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2-17T20:52:42Z</cp:lastPrinted>
  <dcterms:modified xsi:type="dcterms:W3CDTF">2014-02-18T15:36:24Z</dcterms:modified>
  <cp:revision>73</cp:revision>
  <dc:subject/>
  <dc:title>What Work Samples Reveal  about Preservice Teachers’  Use of Literacy Strategies</dc:title>
</cp:coreProperties>
</file>