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FB1BA-0FAD-4EDB-A98D-61E441A9607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F3DD6-8710-47FC-A637-3D20F73852E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C20BE-8ADF-4D9C-92B9-40EF3E35022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6CBF-385E-4288-9485-354D9A406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8D5C-2B3C-4254-865C-BA4DFA4F1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C07D-6135-4F9B-92B0-AA5726B52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9515-1416-440A-8CDC-89F852C27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E6413-0261-4C9A-8B68-1E2706AF2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F6A7D-AF8D-4594-8C0E-8083CFDD5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25B90-8CC1-4A4C-90DE-24C94E4D5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919F5-CE7D-443D-96A4-1EEF9CC7B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A6489-2A35-41AF-88FC-C9F889D2B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72B11-1F72-4602-99CB-F9F3C9434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BEC77-C7D2-4FB5-B080-D100E5E59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D29F-C900-4DB5-9403-61ACB1FBA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B3BCB-C3FA-4558-86AF-7834D41ED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51025-7504-4333-87D6-65EDDD8D8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BBDBC-3A52-4F47-AD8E-5F6BB1B61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0F8C4-48CD-405A-B17E-6981EF6A3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21CCD-E6E3-4B27-A001-0424A71AE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BB82E-F374-413C-86C5-72A5942B8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39A0A-9881-44B7-B36A-B43647C7D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E9D45-0286-4689-987F-148C3CB54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55076-A6C4-4C3B-9692-FDF0B4B11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E81BB-5006-4864-BA1D-7DB9BCD41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E9A0-6B01-41AA-B83D-6097FBCAE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84F4A-0B52-496A-BE4C-7ED388A7D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62DAA-4BB6-42EB-9CC6-7E21CF8CE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8E6E7-049F-4E2F-ABF4-9C6FA51FE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5D153-E13D-40E1-8D16-8AE5D808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A7679-E1CB-4BA9-8B3F-1D61A49C7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CDCF5-2982-44F3-90C3-42CDB3CB3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44969-1A79-4DD2-A961-EF3B6C343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C0136-1ACD-475C-B48E-021FD3790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58584-5A14-4A6F-A8A2-48E8F2D62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17F80-FA8D-49BA-82F4-1514966F8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4217-B594-47FD-92B2-4C3E0D6D2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6A46F-9637-4DA8-9A95-DE21043FA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3184B-D3AA-4408-9B40-BC28BEECE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0CE09-A688-4A8D-8401-6B4EF2916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4B8DB-5517-440C-840E-2D58D4893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90EBC8-9BD9-42A1-B534-D7D6AD00B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0FC92-DCE0-4076-B7E6-497EB922F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08343-5FE7-4BE1-9331-E03F4748E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C2B69-D21A-456E-950F-9063E021C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25D73-843F-4EBA-A2F4-46762FAAF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DD7D-56D9-43D3-9349-1EC051802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E1E8-5FCF-4046-AD5B-48D3FB2A8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B26B-7042-4AEB-A766-3211941A6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A3F8-9EB5-4B7B-B995-2782EEEBE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135A-4900-43E0-9B87-51861FF0A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7A279-BE0B-47ED-BA1C-AFF390381CE5}" type="datetime">
              <a:rPr b="0" lang="en-US" sz="1200" spc="-1" strike="noStrike">
                <a:solidFill>
                  <a:srgbClr val="045c75"/>
                </a:solidFill>
                <a:latin typeface="Constantia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73928-04B7-4DAE-A283-2124433EA2B9}" type="slidenum">
              <a:rPr b="0" lang="en-US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A072E-1A8F-4FC2-8FBC-831F313B358A}" type="datetime">
              <a:rPr b="0" lang="en-US" sz="1200" spc="-1" strike="noStrike">
                <a:solidFill>
                  <a:srgbClr val="d1eaee"/>
                </a:solidFill>
                <a:latin typeface="Constantia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69DF6-AFF8-4B9B-B2BE-E9031D3856BB}" type="slidenum">
              <a:rPr b="0" lang="en-US" sz="1200" spc="-1" strike="noStrike">
                <a:solidFill>
                  <a:srgbClr val="d1eaee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A767A-2640-4FAA-80EC-8EF446AC2492}" type="datetime">
              <a:rPr b="0" lang="en-US" sz="1200" spc="-1" strike="noStrike">
                <a:solidFill>
                  <a:srgbClr val="d1eaee"/>
                </a:solidFill>
                <a:latin typeface="Constantia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3A6C1-C760-4174-918D-7059FDD3DEA5}" type="slidenum">
              <a:rPr b="0" lang="en-US" sz="1200" spc="-1" strike="noStrike">
                <a:solidFill>
                  <a:srgbClr val="d1eaee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80808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798F3-3089-4C19-B794-6869E5EDF5F0}" type="datetime">
              <a:rPr b="0" lang="en-US" sz="1200" spc="-1" strike="noStrike">
                <a:solidFill>
                  <a:srgbClr val="045c75"/>
                </a:solidFill>
                <a:latin typeface="Constantia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6B424-BD30-4736-A36A-7CB8DBD7E522}" type="slidenum">
              <a:rPr b="0" lang="en-US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3" descr=""/>
          <p:cNvPicPr/>
          <p:nvPr/>
        </p:nvPicPr>
        <p:blipFill>
          <a:blip r:embed="rId1"/>
          <a:stretch/>
        </p:blipFill>
        <p:spPr>
          <a:xfrm>
            <a:off x="530280" y="-1957320"/>
            <a:ext cx="7858080" cy="56512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6840" y="4038480"/>
            <a:ext cx="7854840" cy="24386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ctr">
            <a:no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Gayle Thieman, Portland State University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Susan Lenski, Portland State University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Northwest Regional NCTE Conferenc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Portland, OR   March 1, 2014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90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Case Study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76520"/>
            <a:ext cx="40384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eacher candidates who taught in high-poverty secondary school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RL  (41-53%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thnic/linguistic diversity (21%-62%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0" y="1676520"/>
            <a:ext cx="40384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Jam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huc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heil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il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shle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Case Analysis and Discussion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ad the case assigned to your group.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te the school/classroom context  and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09560" indent="-3427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  <a:ea typeface="ＭＳ Ｐゴシック"/>
              </a:rPr>
              <a:t>teacher’s perception of students’ potentia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09560" indent="-3427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  <a:ea typeface="ＭＳ Ｐゴシック"/>
              </a:rPr>
              <a:t>teacher’s organization of instruction around curriculum framing quest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09560" indent="-3427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  <a:ea typeface="ＭＳ Ｐゴシック"/>
              </a:rPr>
              <a:t>teacher’s skill in scaffolding increasingly complex literacy strateg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Group Discussion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port out key findings from the cas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hare personal stories of how you integrate higher-level literacy strategies in your teach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iscuss implications for increasing level of literacy instruction in high poverty school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Handouts:  Sample Literacy Strateg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Session Goals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047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esent research on low expectations for literacy of students in high-poverty schools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esent content area literacy strategies and Depth of Knowledge (DOK) levels of literacy activitie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xamine  case examples of high level and low level literacy strategies in high poverty schoo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hare examples of literacy strategies audience members us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iscuss implications for increasing level of literacy instruction in high-poverty schoo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NAEP Reading Scores Continue to Decline  while Achievement Gap Widen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648320" y="2422080"/>
            <a:ext cx="403848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chievement Gap in 8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nstantia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grade Reading between lower/higher SES  at state level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RL Eligible  253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t Eligible  27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2437920"/>
            <a:ext cx="403848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mpared to the nation, average 8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nstantia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grade reading scores declined in this stat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overty &amp; lack of social supports for students in metro area where this study took pla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Up Arrow 8"/>
          <p:cNvSpPr/>
          <p:nvPr/>
        </p:nvSpPr>
        <p:spPr>
          <a:xfrm>
            <a:off x="7696080" y="4038480"/>
            <a:ext cx="822600" cy="8226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65093"/>
            </a:solidFill>
            <a:miter/>
          </a:ln>
          <a:effectLst>
            <a:outerShdw dist="38160" dir="5400000" blurRad="0" rotWithShape="0">
              <a:srgbClr val="00204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_x000e_</a:t>
            </a: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Need to address Low Expectations for high poverty, ethically diverse students  (Banks et al 2005)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2514240"/>
            <a:ext cx="403848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udents in lower track classes--high poverty &amp; ethnic diversity-- have fewer opportunities to develop higher order thinking and reasoning skills  (Good &amp; Brophy, 1995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648320" y="2422440"/>
            <a:ext cx="403848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eed to teach culturally responsive teach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mbat </a:t>
            </a:r>
            <a:r>
              <a:rPr b="0" lang="ja-JP" sz="26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ficit orientation</a:t>
            </a:r>
            <a:r>
              <a:rPr b="0" lang="ja-JP" sz="2600" spc="-1" strike="noStrike">
                <a:solidFill>
                  <a:srgbClr val="000000"/>
                </a:solidFill>
                <a:latin typeface="Constantia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eed to both differentiate and accelerate learn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Literacy Strategies (Lee &amp; Spratley, 2010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ctivate prior knowledg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uild vocabular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e knowledge of text structures and genres to predict main ide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ose relevant ques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mpare claims across tex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valuate eviden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Literacy in Social _x0013_Studies  (NCSS, 2010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828440"/>
            <a:ext cx="40384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quence ev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ifferentiate fact vs. opin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mpare similarities and differenc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nalyze cause and effec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xplore complex patter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648320" y="1828440"/>
            <a:ext cx="396216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valuate sources for credibility and validity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e variety of media to access, create, and present inform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terpret and analyze diverse historical and contemporary perspectiv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Higher level activities: Depth of Knowledge (Webb, 2005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9" name="Picture 4" descr=""/>
          <p:cNvPicPr/>
          <p:nvPr/>
        </p:nvPicPr>
        <p:blipFill>
          <a:blip r:embed="rId1"/>
          <a:stretch/>
        </p:blipFill>
        <p:spPr>
          <a:xfrm>
            <a:off x="1336680" y="1935000"/>
            <a:ext cx="647064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Lower DOK level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0512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I Recal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abel ma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fine vocabular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call inform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ake no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raw represent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llustrat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II Skill/Concep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dentify patter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ummarize inform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ke predict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rganize inform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mpare/contras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ause/effec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terpret historical docum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hronolog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Higher DOK Level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III Strategic Think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alyze consequenc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valuate policy proposa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velop logical argum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raw conclus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ite Eviden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IV Extended Think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ynthesize information from multiple sourc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reate new understanding through analysis, synthesis, critique, application of concepts in novel way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6T02:58:48Z</dcterms:created>
  <dc:creator>sjlenski</dc:creator>
  <dc:description/>
  <dc:language>en-US</dc:language>
  <cp:lastModifiedBy>Gayle Thieman</cp:lastModifiedBy>
  <cp:lastPrinted>2014-02-17T20:52:42Z</cp:lastPrinted>
  <dcterms:modified xsi:type="dcterms:W3CDTF">2014-02-18T15:36:24Z</dcterms:modified>
  <cp:revision>73</cp:revision>
  <dc:subject/>
  <dc:title>What Work Samples Reveal  about Preservice Teachers’  Use of Literacy Strategies</dc:title>
</cp:coreProperties>
</file>