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291B-577E-4B11-8B44-2672349D47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CB9F-B339-45B3-B6E1-BF6987D732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115C-D455-405A-9637-C45A61D106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006-0624-4539-8DB1-F799313F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85E3-FA18-4627-9182-BEAD5B1E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F74-C6B3-44AC-B26A-A4593828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0E4-9BB8-4D41-9C77-7AEA48EE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7053-2446-42D2-A931-526585C1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47DD-39F8-456E-BC0E-06E73FE9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348E-68E3-47B8-912C-46A65763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9826-4FFD-46A2-9766-409E519B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C6BD-EFA9-4EA9-87B9-490FB028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8BE5-6748-4831-8E84-741607D3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BCCE-F4AA-4738-AC77-51EF3DF5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270-C079-42BF-B588-C7E05BC6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A01E-48B7-4BD9-872A-4705DEE8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7C99-C81F-486B-A07C-5782056C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0B07-5F96-43BE-873C-4EFB9A74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40B1-3F27-4AAB-896C-B6A1FC60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A4BC-617F-4A45-B98A-D58B7AED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537B0-B973-42B8-ACB8-CB0B2596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9BD71-5259-46FA-9C73-E971AF3E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F6052-5B1E-4921-A899-9DE9CA2F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6978C-C117-42D9-BFD6-2B3C34E7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B0AE3-27AF-49FF-98AE-B0A4953E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1317-F919-4134-A8B1-7487EAE7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48B67-C7BE-471E-888C-48189997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33F23-59C1-4F19-9C44-088EB2B0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7049D-F44A-4347-9F3D-0A266FFB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B29F6-FB8A-40F5-AE46-0F2BDBF2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98F4B-5FA5-4746-A81C-D815B1C4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7F5BA-62C0-47DD-B84D-1748511F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23607-04B7-486D-8999-36F63BD0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6482D-D848-4468-A409-4751EE90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20D99-80A3-4A9A-A49F-C7897CC5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90E84-A68D-4404-9F7F-E5B8724D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41F7-E632-4AA9-BBBB-5856F602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9B5E7-BAB2-4C2F-91DB-BCCA24BA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8407A-2A62-436C-8F87-17769C13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5A3BE-1FF0-4243-A6C6-88A76086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2559C-00EE-455C-B665-DFDD8B50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96AB2-D3AB-4E36-B1B4-8F7BC832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25AEF-4CE9-4F74-91B7-6F8658A1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E30B2-929B-4689-BCB9-0A5955B0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0E58B-64B5-49E9-974E-AF50B5B7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8DD07-9513-48D1-9A59-64CA5418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5AAB-DA37-44A6-98ED-846C1685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FB11-9A91-4373-9C9F-515EB527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919B-B6DC-437E-963F-DBD9832A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A7A-C67F-442A-BC35-39F76E0A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6C07-4407-4452-BB4B-D36C7436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DAF1-D71D-4793-AE84-E4C3477D1F54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711E-4E59-4CE7-B97D-1A80D9E671BA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FF1B-F115-49A4-9DC3-5202F4059F1E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7776-623B-476C-B0EB-4C67038F9659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C765-FAA7-4E25-AD55-AE06A55E3B89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87BE-26D3-41F2-8431-805C94326F82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F9B0-698C-4803-8A55-CA1B61C97EF4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14D5-627C-4034-9C53-CA7E8BCB75F0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3" descr=""/>
          <p:cNvPicPr/>
          <p:nvPr/>
        </p:nvPicPr>
        <p:blipFill>
          <a:blip r:embed="rId1"/>
          <a:stretch/>
        </p:blipFill>
        <p:spPr>
          <a:xfrm>
            <a:off x="530280" y="-1957320"/>
            <a:ext cx="7858080" cy="5651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4038480"/>
            <a:ext cx="7854840" cy="2438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ayle Thieman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san Lenski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orthwest Regional NCTE Conferen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ortland, OR   March 1, 2014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ase Stud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76520"/>
            <a:ext cx="40384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er candidates who taught in high-poverty secondary sch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L  (41-53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thnic/linguistic diversity (21%-62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0" y="1676520"/>
            <a:ext cx="40384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u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ei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hle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ase Analysis and Discuss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d the case assigned to your group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e the school/classroom context  and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09560" indent="-3427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teacher’s perception of students’ potenti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9560" indent="-3427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teacher’s organization of instruction around curriculum framing ques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9560" indent="-3427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teacher’s skill in scaffolding increasingly complex literacy strateg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Group Discuss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ort out key findings from the ca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are personal stories of how you integrate higher-level literacy strategies in your teach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cuss implications for increasing level of literacy instruction in high poverty sch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andouts:  Sample Literacy Strateg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ession Goals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 research on low expectations for literacy of students in high-poverty school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 content area literacy strategies and Depth of Knowledge (DOK) levels of literacy activiti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ine  case examples of high level and low level literacy strategies in high poverty schoo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are examples of literacy strategies audience members u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cuss implications for increasing level of literacy instruction in high-poverty schoo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NAEP Reading Scores Continue to Decline  while Achievement Gap Wide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242208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hievement Gap in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 Reading between lower/higher SES  at state level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L Eligible  25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Eligible  27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24379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d to the nation, average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 reading scores declined in this st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verty &amp; lack of social supports for students in metro area where this study took pla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Up Arrow 8"/>
          <p:cNvSpPr/>
          <p:nvPr/>
        </p:nvSpPr>
        <p:spPr>
          <a:xfrm>
            <a:off x="7696080" y="4038480"/>
            <a:ext cx="822600" cy="822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65093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_x000e_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Need to address Low Expectations for high poverty, ethically diverse students  (Banks et al 2005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5142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in lower track classes--high poverty &amp; ethnic diversity-- have fewer opportunities to develop higher order thinking and reasoning skills  (Good &amp; Brophy, 1995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2422440"/>
            <a:ext cx="40384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ed to teach culturally responsive teach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bat 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cit orientation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ed to both differentiate and accelerate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Strategies (Lee &amp; Spratley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ate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knowledge of text structures and genres to predict main ide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e relevant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claims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evi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in Social _x0013_Studies  (NCSS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8284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quence ev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iate fact vs. opin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similarities and differ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 cause and eff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ore complex patt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48320" y="1828440"/>
            <a:ext cx="3962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sources for credibility and valid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variety of media to access, create, and present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pret and analyze diverse historical and contemporary persp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Higher level activities: Depth of Knowledge (Webb, 200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1336680" y="1935000"/>
            <a:ext cx="64706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ow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051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 Rec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all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ke n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repres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llust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 Skill/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gan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use/eff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historical doc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ronolog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High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I Strategic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lyze consequ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aluate policy propos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conclu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te Evid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V Extended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nthesize information from multiple 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 new understanding through analysis, synthesis, critique, application of concepts in novel w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58:48Z</dcterms:created>
  <dc:creator>sjlenski</dc:creator>
  <dc:description/>
  <dc:language>en-US</dc:language>
  <cp:lastModifiedBy>Gayle Thieman</cp:lastModifiedBy>
  <cp:lastPrinted>2014-02-17T20:52:42Z</cp:lastPrinted>
  <dcterms:modified xsi:type="dcterms:W3CDTF">2014-02-18T15:36:24Z</dcterms:modified>
  <cp:revision>73</cp:revision>
  <dc:subject/>
  <dc:title>What Work Samples Reveal  about Preservice Teachers’  Use of Literacy Strategies</dc:title>
</cp:coreProperties>
</file>