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9899-B154-47EA-AD4E-E449DC2879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E042-A7FF-442F-B636-0E97632E55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5E75-F862-4FBC-A9AC-7791ADFF4C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3C7-2E12-46FC-8D76-BD2779AE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70E-E285-4D13-9BB8-1016DF34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14C-B24B-4A99-93BE-B64E6231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187-DE24-40D6-8838-22F093CB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73E9-C234-4435-BDBD-789F7A7C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7C53-2E27-4B76-9922-753FF43A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7528-EB5D-4AB7-A62F-6677649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7A74-27CF-4AC0-A5C2-FC09966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ECC8-6891-4857-A384-33F7252C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51BC-C802-430D-8591-E90B5309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683-E4B1-410E-9112-3AF9E53E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36E-E052-4A15-BE26-9478D00B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B7BC-5628-4C85-8558-945C165D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14E6-10D9-40C4-B29E-2BBE69E5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735B-32E4-42F4-A4AD-D613248B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0130-4F59-441D-BEEE-AD737A21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B90E-06C9-4077-8486-6908B4D4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FAE0-EA47-4E05-A549-91F6688B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95A5-0F46-4340-B833-E3D0FA6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0D08-EE42-4E25-B3EB-5A1AF4C6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2211-4251-4EBF-B73B-9A5924CF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7D81-521B-48AD-88FC-9D478671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CA2-A599-463C-AF4A-CA1D0C11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014C-FF13-4ECD-A0D1-32FE9CCA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0077-93CA-43E0-B7F7-D0BEE1C5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29AB-71CB-4620-B1EE-42FD6E12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7F44B-5BC0-4F4F-AD6E-40AD5F80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F936-8EEE-479A-8646-7296BA19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C6B9-A2FD-4EFA-B194-D37874DF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FF01-23BA-4855-A263-D749834E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CCDA-D1A6-4BA8-876D-B837B0E9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3512-0554-433F-96F1-49F4DA71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8E3D6-9505-4F3E-B256-D603DCC3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E01-8F21-4321-82BD-7E535D16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ADCE-52A4-4087-AE18-09FC19EE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3EB69-26FD-4A51-A492-D188C116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1D43-7F57-4AAC-9CB6-27519241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4525-DFFB-49AF-A605-4964840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2986-7716-46B5-84E4-0BF4AFE5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4175-1B53-4650-BB6D-E47F0FB5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E50C-0904-40F5-AD48-0C3400EF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D120-985C-45E2-916B-02D99712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366B-D9AC-42CE-9E13-1E916B97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B65-60E7-44F8-8BB6-687295AA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987-6BD6-4134-9EFF-20B4B6D9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0E2-CA5C-4654-B602-65DBD318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7E2-1D6C-4834-9472-5EB5FBD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8DA-E0D2-4624-BBAA-E6D7CAB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6E16-B9FE-431A-8473-0A8A2960A763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651E-7CCB-45D2-B0DC-C56B01732436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8BCF-C6E8-4664-ADFF-59C81D42CE76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1037-59EE-421A-BE90-05404174E96F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9BDB-9853-4B7F-8703-42F11A4D4DF5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D374-5A79-4A22-BAFC-1F06DAF4916C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2133-43FB-47E8-86B6-825AC46A195F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A4FF-E809-411A-9AB3-E6EC1611DD74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1957320"/>
            <a:ext cx="7858080" cy="5651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thwest Regional NCTE Confer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rtland, OR   March 1, 20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taught in high-poverty secondar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L  (41-53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ic/linguistic diversity (21%-62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i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h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Analysis and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the case assigned to your group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e the school/classroom context  an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perception of students’ poten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organization of instruction around curriculum framing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skill in scaffolding increasingly complex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Group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ut key findings from the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are personal stories of how you integrate higher-level literacy strategies in your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 povert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ndouts:  Sample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ession Goal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research on low expectations for literacy of students in high-poverty school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content area literacy strategies and Depth of Knowledge (DOK) levels of literacy activit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ine  case examples of high level and low level literacy strategies in high 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are examples of literacy strategies audience members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-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2-17T20:52:42Z</cp:lastPrinted>
  <dcterms:modified xsi:type="dcterms:W3CDTF">2014-02-18T15:36:24Z</dcterms:modified>
  <cp:revision>73</cp:revision>
  <dc:subject/>
  <dc:title>What Work Samples Reveal  about Preservice Teachers’  Use of Literacy Strategies</dc:title>
</cp:coreProperties>
</file>