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95D-16A8-4723-BAC0-97F5E560F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A364-44BC-4A0D-8F22-11301D3D27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A3E-5845-44FF-BDB1-CC7FF72F75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F7A-E5B3-4DAD-8EC7-7FD3A5B8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472-4A19-4A27-88D5-C6CC2FB6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BAE-0842-479F-B730-8D4DC758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37C-880D-41D7-967C-9B9A6866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E079-B57A-4748-8FB0-0065E7BA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8266-F0D6-4AB7-BEF8-E08EFCD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FA6A-8BE2-4373-BC0E-B777873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A2CD-EE8E-4C2F-8A1D-5286441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BFB9-BB59-4ED7-AABE-A1C5EF20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465A-48C4-4663-89E4-F23A5848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7608-6315-4CC3-B0E2-1780155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6F0-5B07-4C83-A4C0-99366DEA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822-FA7A-45D9-8195-5907037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F231-3238-4B27-8472-7B04413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B96C-E0C0-4489-8143-03C194AB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3F04-8FB9-4D44-8FFA-14D1B6C5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7CC6-6AEC-44A0-B8F2-C1852EFD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DD7F-6714-45E1-8E19-2D4AAD19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FB2F-1148-49B0-9BC4-25B2FECA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51FD-BB61-42F1-98C6-5B8880DE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FE93-500A-4DF2-A2A7-45085925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2847-5054-4F2F-90A4-C7F2567A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644-62E1-41A2-A910-FB5C9532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FD0B-B854-4C3D-980F-286DC11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17F1-9AE9-44E8-B08F-08D850B9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0C80-23E6-49FB-B8B6-62611F4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F826-E84A-47F4-BCE0-7444803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5329-25CF-407A-A95D-17F37729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3431-2430-412E-9C2E-03D6519A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6C2A-FAAA-43E0-9866-1806341B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0120-7495-43DB-A4EF-576A6054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3C026-4D53-4887-A614-930B963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D532-DB48-4C0C-8E3B-A5F8DF3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248-ADF0-4232-A148-9E787DF9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7F40-C8AC-4325-B85A-425798D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3306-73A5-4412-9485-26C07070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FFB8-1D45-4592-9781-9F3AC1D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7910-814D-4477-B7EE-ED1C6FF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D024-7D7E-49B4-AF2C-5828D12C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137F-8CA4-4852-9EC3-71DBE6F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CDE8-6BAC-40E0-B655-DBB42DC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652C-D11E-42B9-8B35-367E06C5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F849-B7AA-4318-B87B-BCD021EF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4AC-8A53-413E-B985-6A6976D6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409-808A-426C-8FE8-A48C5CE6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93C-11C4-442A-BD71-88B41D0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7CD-D9A5-4040-860F-5C85A6A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550-6391-4F55-AF1F-7AB476A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260F-964D-4E18-9AFD-2EABB9B3EE76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53D-A3B0-4F37-88C3-183A536FDE83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20E-5EF9-489B-B100-52102B64A7D3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0D7-DD2B-4605-9133-CB6E81E1E809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DD58-3BFA-40B0-9ED0-87AEF5DB499C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C9AB-BBB7-4FAC-A509-6B3C9BB4FE21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0E3-736D-449B-AD65-5374E6DF7015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D1B8-0553-4E6B-B597-18FF0AA9239D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1957320"/>
            <a:ext cx="7858080" cy="5651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thwest Regional NCTE Confer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rtland, OR   March 1, 20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taught in high-poverty second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L  (41-53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ic/linguistic diversity (21%-62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i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h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Analysis and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the case assigned to your group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e the school/classroom context  an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perception of students’ 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organization of instruction around curriculum framing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skill in scaffolding increasingly complex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Group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key findings from the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are personal stories of how you integrate higher-level literacy strategies in you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 povert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ndouts:  Sample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ssion Goal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research on low expectations for literacy of students in high-poverty school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content area literacy strategies and Depth of Knowledge (DOK) levels of literacy activ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  case examples of high level and low level literacy strategies in high 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are examples of literacy strategies audience members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-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2-17T20:52:42Z</cp:lastPrinted>
  <dcterms:modified xsi:type="dcterms:W3CDTF">2014-02-18T15:36:24Z</dcterms:modified>
  <cp:revision>73</cp:revision>
  <dc:subject/>
  <dc:title>What Work Samples Reveal  about Preservice Teachers’  Use of Literacy Strategies</dc:title>
</cp:coreProperties>
</file>