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4F38-9409-4F33-BA53-2F0805D012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BCBA-5D3C-4D0E-8C96-B9E1BD8BF2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4F46-8AD9-4DFF-950D-A52102DEE6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A5E-A820-4EB6-A365-1FE3298A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EE22-B76D-4F70-9609-6566299C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B1F-13CC-49A5-BC9E-1D0B7F0E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70E-CA9A-4442-8EFF-39FC650D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11FF-B3A8-4B67-B72C-97B2F96D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6658-93DD-4867-B198-591DEABE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AB63-BF7B-4296-A788-E2CEEC9D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A798-BE6E-4879-8F2F-A29DF7F4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9206-9391-474C-A9AB-F1E32038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633C-8B19-43D0-BA9C-2FF09F26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CE2E-A826-4DE2-88A9-BFCEFD08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B55-7330-4635-B9E4-5C638D98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36FA-A082-443E-A693-ED774AAE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29F1-E314-4859-9045-D57448CB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CB86-6B5A-4CD3-9953-BDC8E4CF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1375-2C92-40BC-9850-29010D59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C347-5199-418B-BB0D-F6308334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6839A-4E68-43A4-82B8-15361712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35598-22D6-476F-8476-062EB025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A8CE6-016F-4A14-A3B1-6B0D39AC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241E2-161E-4FBA-88EB-5681357A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97D4B-BC8B-4C3C-84FD-1863D5A3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288A-ED81-4A1E-B372-3F7FF192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2B4B6-77C8-4E36-8993-80115245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902E0-7381-4404-BD13-69AD6EA1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F2726-EA79-4739-A55A-00F1F210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1C033-D646-43CF-92B1-9D166065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8AA7E-0FAD-4874-871B-67BABA60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DE4BD-CE16-45B5-B5BE-4F116247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D5AAB-3BDE-4E96-9B02-7196D9C5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E2F81-DBD6-47FB-A1F9-192C3AF3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B5E89-1F8D-444D-B56F-9D406313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6AF48-862D-4547-9195-2A779C21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EB6-F601-485F-86B7-F78C1CA1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C20FD-94B3-4E5A-8B56-0612F9BA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609AF-86A0-42C3-B3E5-3CC25D1E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33D76-4136-4BC9-A5CD-AFF6474A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3677F-621E-46E6-9739-5793335B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95BEE-4B43-4571-8C9B-E122DCE4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6A6A5-8FDC-4521-B371-9ED3AD55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41401-6563-428B-B873-2082A329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1355F-3595-4F07-BB20-05E2592F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21FCE-891B-4AC8-8128-5397E9AD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9FC8-5396-4F41-905F-EEC4054C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6E72-101E-4DD1-95A9-52E854E0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6DD-A54F-4E89-9F6D-ABB927FD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48C-20A1-4D99-A0A0-34DD9048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D9F7-0092-4677-8DA5-1962A4AD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CBAC-B36C-40D1-9A55-D7046D9EB3F5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E70F-8C31-423E-80DB-B6E16FC438D6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ABC7-93D6-4353-B656-64FC6A1D6F39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5926-04B5-4B01-A437-A8739C016873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2310-FB9D-4299-90BF-3E6CB9C2BB59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AC8A-D971-40A8-9054-A34D7437CC60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E62B-8B19-4FE2-AD19-B41D3037E1A5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ECC2-9E77-4BDE-8D54-64F886BF644C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3" descr=""/>
          <p:cNvPicPr/>
          <p:nvPr/>
        </p:nvPicPr>
        <p:blipFill>
          <a:blip r:embed="rId1"/>
          <a:stretch/>
        </p:blipFill>
        <p:spPr>
          <a:xfrm>
            <a:off x="530280" y="-1957320"/>
            <a:ext cx="7858080" cy="5651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4038480"/>
            <a:ext cx="7854840" cy="2438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ayle Thieman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san Lenski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orthwest Regional NCTE Confere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ortland, OR   March 1, 2014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ase Stud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76520"/>
            <a:ext cx="40384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er candidates who taught in high-poverty secondary sch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L  (41-53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thnic/linguistic diversity (21%-62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0" y="1676520"/>
            <a:ext cx="40384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u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ei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hle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ase Analysis and Discuss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d the case assigned to your group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e the school/classroom context  and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09560" indent="-3427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teacher’s perception of students’ potenti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9560" indent="-3427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teacher’s organization of instruction around curriculum framing ques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9560" indent="-3427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teacher’s skill in scaffolding increasingly complex literacy strateg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Group Discuss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 out key findings from the ca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are personal stories of how you integrate higher-level literacy strategies in your teac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cuss implications for increasing level of literacy instruction in high poverty sch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andouts:  Sample Literacy Strate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ession Goals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 research on low expectations for literacy of students in high-poverty school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 content area literacy strategies and Depth of Knowledge (DOK) levels of literacy activit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ine  case examples of high level and low level literacy strategies in high poverty schoo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are examples of literacy strategies audience members u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cuss implications for increasing level of literacy instruction in high-poverty schoo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NAEP Reading Scores Continue to Decline  while Achievement Gap Wide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242208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hievement Gap in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 Reading between lower/higher SES  at state level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L Eligible  25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Eligible  27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4379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d to the nation, average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 reading scores declined in this st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verty &amp; lack of social supports for students in metro area where this study took pla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Up Arrow 8"/>
          <p:cNvSpPr/>
          <p:nvPr/>
        </p:nvSpPr>
        <p:spPr>
          <a:xfrm>
            <a:off x="7696080" y="4038480"/>
            <a:ext cx="822600" cy="822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65093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_x000e_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Need to address Low Expectations for high poverty, ethically diverse students  (Banks et al 2005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5142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in lower track classes--high poverty &amp; ethnic diversity-- have fewer opportunities to develop higher order thinking and reasoning skills  (Good &amp; Brophy, 1995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2422440"/>
            <a:ext cx="40384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ed to teach culturally responsive teac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bat 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cit orientation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ed to both differentiate and accelerate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Strategies (Lee &amp; Spratley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ate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knowledge of text structures and genres to predict main id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e relevant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claims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in Social _x0013_Studies  (NCSS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8284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quence ev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e fact vs. opin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similarities and differ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 cause and eff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ore complex patt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48320" y="1828440"/>
            <a:ext cx="3962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sources for credibility and valid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variety of media to access, create, and present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ret and analyze diverse historical and contemporary persp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Higher level activities: Depth of Knowledge (Webb, 200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1336680" y="1935000"/>
            <a:ext cx="64706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ow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051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Rec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all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ke n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repres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llust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 Skill/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use/eff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historical doc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ronolo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High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I Strategic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lyze consequ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aluate policy propos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conclu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te Evid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V Extended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nthesize information from multiple 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 new understanding through analysis, synthesis, critique, application of concepts in novel w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58:48Z</dcterms:created>
  <dc:creator>sjlenski</dc:creator>
  <dc:description/>
  <dc:language>en-US</dc:language>
  <cp:lastModifiedBy>Gayle Thieman</cp:lastModifiedBy>
  <cp:lastPrinted>2014-02-17T20:52:42Z</cp:lastPrinted>
  <dcterms:modified xsi:type="dcterms:W3CDTF">2014-02-18T15:36:24Z</dcterms:modified>
  <cp:revision>73</cp:revision>
  <dc:subject/>
  <dc:title>What Work Samples Reveal  about Preservice Teachers’  Use of Literacy Strategies</dc:title>
</cp:coreProperties>
</file>