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504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D056-DDAE-49D2-8081-95656A93B8CC}" type="datetime">
              <a:rPr b="0" lang="en-US" sz="1200" spc="-1" strike="noStrike">
                <a:solidFill>
                  <a:srgbClr val="c0504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504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3BD8-5583-40F7-82A2-08C362D3B3BF}" type="slidenum">
              <a:rPr b="0" lang="en-US" sz="1200" spc="-1" strike="noStrike">
                <a:solidFill>
                  <a:srgbClr val="c050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C548-360E-453A-97CA-24B44CD90A3D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BE0F-B6B8-4E70-917D-24001E16BD43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4F5-DBFF-47FA-BCF9-10ADC578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CF9-10BA-4204-B16E-D12B6A44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A97-5223-4A92-B0CF-545C1C65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F54-AAB8-4679-B72B-B644CAC2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C89-0A2A-4461-A538-393656AB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D72-1810-4C42-AF4C-89D5C53A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ED5-7E67-4899-95C3-75AAB5A4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A13-DEE5-42EE-9592-9DD40D62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965-9F90-4C8F-8A5B-AECE11A7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C51-0EBC-47A9-9240-CB307D97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E14-9DEE-45FF-87CA-14CE9279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E4E-F0C9-4115-B728-A7D1AC70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408F-ACA3-4A5E-9285-963D77559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arch-institute.org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be0e3"/>
                </a:solidFill>
                <a:latin typeface="Australian Sunrise"/>
              </a:rPr>
              <a:t>Middle School Learners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80060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263040" y="324648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citizenschools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 Key Issues Related to 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lescents’ physical development often grows faster than cognitiv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rom concrete to formal operations (Pia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rapid growth students require healthy meals and a lot of sleep (often they don’t get thi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be more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 awk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rriculum that models healthy eating and sleeping habits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e from www.dailyclipart.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Social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lescents often struggle with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groups and peer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 behavior to deal with stressors or fi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strong adult relationships, involvement with community, and opportunity for in-school counseling should be imbedded in school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mayfield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ay lack confidence/esteem at this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ploratory/discovery based curriculum encourages students to discover untapped talents, build confidences, and stay busy…important for avoiding high risk behavi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learning projects encourage students to be part of the community, develop positive community relationships and goals for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austrianinformation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ternal 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elationships and opportunities that surround young people with the support and situations that guide them to behave in healthy ways and make wise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support.jpg"/>
          <p:cNvPicPr/>
          <p:nvPr/>
        </p:nvPicPr>
        <p:blipFill>
          <a:blip r:embed="rId1"/>
          <a:stretch/>
        </p:blipFill>
        <p:spPr>
          <a:xfrm>
            <a:off x="4114800" y="38098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nal 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ose commitments, values, competencies and self-perceptions that, when nurtured, provide the “internal compass” that guides a young person’s behavior and choices so that he or she becomes self regul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values.jpg"/>
          <p:cNvPicPr/>
          <p:nvPr/>
        </p:nvPicPr>
        <p:blipFill>
          <a:blip r:embed="rId1"/>
          <a:stretch/>
        </p:blipFill>
        <p:spPr>
          <a:xfrm>
            <a:off x="5791320" y="4114800"/>
            <a:ext cx="266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 Develop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s for Middle &amp;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Y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earch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arch Institu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rch-institut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: Your turn 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29494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 for Your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ich asset categories does the scenario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at assets does this studen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at assets does this student l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How can you improve your curriculum to address this student’s nee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22:03:47Z</dcterms:created>
  <dc:creator>User</dc:creator>
  <dc:description/>
  <dc:language>en-US</dc:language>
  <cp:lastModifiedBy>Cynthia Ann Munyon</cp:lastModifiedBy>
  <dcterms:modified xsi:type="dcterms:W3CDTF">2009-06-12T03:54:37Z</dcterms:modified>
  <cp:revision>7</cp:revision>
  <dc:subject/>
  <dc:title>Middle School Learners</dc:title>
</cp:coreProperties>
</file>