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EB45-3276-45AC-A75A-468E07E70911}" type="datetime">
              <a:rPr b="0" lang="en-US" sz="1200" spc="-1" strike="noStrike">
                <a:solidFill>
                  <a:srgbClr val="c0504d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504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C04-954C-4533-ADA9-5AABCCBDDF7E}" type="slidenum">
              <a:rPr b="0" lang="en-US" sz="1200" spc="-1" strike="noStrike">
                <a:solidFill>
                  <a:srgbClr val="c050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E929-D3E8-4AB1-9157-D1D5333D7DFB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92C-29ED-4F6D-BC52-DD0350C6B600}" type="slidenum">
              <a:rPr b="0" lang="en-US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C3F-E4FA-4F56-AB30-4D2E9327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AA1-9FA3-4B8F-ADFB-AD1AB5F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450-10A4-437D-89AB-86535327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36A-030F-4B6F-B993-941264FC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ED2-23AD-4AE4-A2C1-B83620C4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8D3-42CA-4412-9D64-039E13B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6EA-C791-4AB9-93E6-66049355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0C3-C2F1-4BBE-A5A5-A3E900A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E9F-7732-4BB8-8CC2-059E63C1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C8B-0D96-4CDD-A7E3-2F604BA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0CE-E933-4FAC-91A6-B3349A5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A37-64E0-4684-AF9A-6F7EDED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1CCE-B8D6-46B1-B122-87B08887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arch-institute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be0e3"/>
                </a:solidFill>
                <a:latin typeface="Australian Sunrise"/>
              </a:rPr>
              <a:t>Middle School Learners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8006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63040" y="324648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citizenschool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Key Issues Related to 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’ physical development often grows faster than cognitiv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concrete to formal operations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apid growth students require healthy meals and a lot of sleep (often they don’t get thi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mo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awk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urriculum that models healthy eating and sleeping habits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e from www.dailyclipart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Soci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lescents often struggle with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groups and pe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 behavior to deal with stressors or f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strong adult relationships, involvement with community, and opportunity for in-school counseling should be imbedded in school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mayfiel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may lack confidence/esteem at this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loratory/discovery based curriculum encourages students to discover untapped talents, build confidences, and stay busy…important for avoiding high risk behavi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learning projects encourage students to be part of the community, develop positive community relationships and goals for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austrianinformation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lationships and opportunities that surround young people with the support and situations that guide them to behave in healthy ways and make wise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support.jpg"/>
          <p:cNvPicPr/>
          <p:nvPr/>
        </p:nvPicPr>
        <p:blipFill>
          <a:blip r:embed="rId1"/>
          <a:stretch/>
        </p:blipFill>
        <p:spPr>
          <a:xfrm>
            <a:off x="4114800" y="38098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nal ass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ose commitments, values, competencies and self-perceptions that, when nurtured, provide the “internal compass” that guides a young person’s behavior and choices so that he or she becomes self regul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alues.jpg"/>
          <p:cNvPicPr/>
          <p:nvPr/>
        </p:nvPicPr>
        <p:blipFill>
          <a:blip r:embed="rId1"/>
          <a:stretch/>
        </p:blipFill>
        <p:spPr>
          <a:xfrm>
            <a:off x="5791320" y="4114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y Develop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s for Middle &amp;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earch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arch Institu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rch-institut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: Your turn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29494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 for You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ich asset categories does the scenario add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What assets does this student l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empus Sans ITC"/>
              </a:rPr>
              <a:t>How can you improve your curriculum to address this student’s nee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22:03:47Z</dcterms:created>
  <dc:creator>User</dc:creator>
  <dc:description/>
  <dc:language>en-US</dc:language>
  <cp:lastModifiedBy>Cynthia Ann Munyon</cp:lastModifiedBy>
  <dcterms:modified xsi:type="dcterms:W3CDTF">2009-06-12T03:54:37Z</dcterms:modified>
  <cp:revision>7</cp:revision>
  <dc:subject/>
  <dc:title>Middle School Learners</dc:title>
</cp:coreProperties>
</file>