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504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5C4B-2F0A-4862-AC76-B25819C1F052}" type="datetime">
              <a:rPr b="0" lang="en-US" sz="1200" spc="-1" strike="noStrike">
                <a:solidFill>
                  <a:srgbClr val="c0504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504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FC4B-AA69-4FE1-B88C-9DAEF4289AB0}" type="slidenum">
              <a:rPr b="0" lang="en-US" sz="1200" spc="-1" strike="noStrike">
                <a:solidFill>
                  <a:srgbClr val="c050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8D89-7A02-4F06-8967-6DD473393FB9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B318-B12F-401D-8F64-46F0B38B5D74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8C3-E1B5-4768-AC4F-0BD7E2EC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06C-8DFB-4470-8A8E-607AE505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9CE-F3DB-4E9E-99AD-4107019B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072-8CF6-4CED-8885-57FFCBED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B16-19AC-4BCF-B535-34972254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A09-89C9-47CD-B4B3-20FE81C8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7BD-C6A5-46E0-AC97-ED9F270B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1F3-3A6A-49E9-B56C-B86B6DC8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173-07CC-41BD-B8B7-C5BFB3E9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410-8E8C-4C0C-843E-AAFB4F5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3C7-2BEA-4A80-BF49-6BF027B3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516-A9E6-4655-96DA-3B2C244D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7EE6-0898-4566-93B1-27D733B6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arch-institute.org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be0e3"/>
                </a:solidFill>
                <a:latin typeface="Australian Sunrise"/>
              </a:rPr>
              <a:t>Middle School Learners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80060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263040" y="324648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citizenschools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 Key Issues Related to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lescents’ physical development often grows faster than cognitiv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rom concrete to formal operations (Pia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rapid growth students require healthy meals and a lot of sleep (often they don’t get thi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be mo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 awk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riculum that models healthy eating and sleeping habits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e from www.dailyclipart.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Soci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lescents often struggle with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groups and peer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 behavior to deal with stressors or fi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strong adult relationships, involvement with community, and opportunity for in-school counseling should be imbedded in school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mayfield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ay lack confidence/esteem at this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ploratory/discovery based curriculum encourages students to discover untapped talents, build confidences, and stay busy…important for avoiding high risk behavi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learning projects encourage students to be part of the community, develop positive community relationships and goals for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austrianinformation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ter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elationships and opportunities that surround young people with the support and situations that guide them to behave in healthy ways and make wise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upport.jpg"/>
          <p:cNvPicPr/>
          <p:nvPr/>
        </p:nvPicPr>
        <p:blipFill>
          <a:blip r:embed="rId1"/>
          <a:stretch/>
        </p:blipFill>
        <p:spPr>
          <a:xfrm>
            <a:off x="4114800" y="38098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ose commitments, values, competencies and self-perceptions that, when nurtured, provide the “internal compass” that guides a young person’s behavior and choices so that he or she becomes self regul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values.jpg"/>
          <p:cNvPicPr/>
          <p:nvPr/>
        </p:nvPicPr>
        <p:blipFill>
          <a:blip r:embed="rId1"/>
          <a:stretch/>
        </p:blipFill>
        <p:spPr>
          <a:xfrm>
            <a:off x="5791320" y="4114800"/>
            <a:ext cx="266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 Develop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s for Middle &amp;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Y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earc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arch Institu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rch-institut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: Your turn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9494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 for Your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ich asset categories does the scenario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at assets does this studen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at assets does this student l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How can you improve your curriculum to address this student’s nee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22:03:47Z</dcterms:created>
  <dc:creator>User</dc:creator>
  <dc:description/>
  <dc:language>en-US</dc:language>
  <cp:lastModifiedBy>Cynthia Ann Munyon</cp:lastModifiedBy>
  <dcterms:modified xsi:type="dcterms:W3CDTF">2009-06-12T03:54:37Z</dcterms:modified>
  <cp:revision>7</cp:revision>
  <dc:subject/>
  <dc:title>Middle School Learners</dc:title>
</cp:coreProperties>
</file>