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0504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5191-1538-4B98-A6EC-340C7B97E9DA}" type="datetime">
              <a:rPr b="0" lang="en-US" sz="1200" spc="-1" strike="noStrike">
                <a:solidFill>
                  <a:srgbClr val="c0504d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0504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A876-02D8-4518-8595-88D8BF9B339B}" type="slidenum">
              <a:rPr b="0" lang="en-US" sz="1200" spc="-1" strike="noStrike">
                <a:solidFill>
                  <a:srgbClr val="c050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050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047C-96F1-479A-8CAF-4214CDE1B08E}" type="slidenum">
              <a:rPr b="0" lang="en-US" sz="12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0D83-53B9-43C0-B5E0-97F82C82AA7B}" type="slidenum">
              <a:rPr b="0" lang="en-US" sz="12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D517-25FD-4906-B280-628F87F63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18D9-A897-4C69-8181-2E5D8B8C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8371-A83E-49F2-AFFA-80073BE9E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32F8-4DDD-451A-AFC6-2B76B0FEE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CECD-0988-43FD-8754-E458B9D6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6AD8-EF61-4C0D-9B11-34589B99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0DA0-2149-4ED3-A28D-D086D51F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4A5A-A961-4BD6-8577-D7BCB5F4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147F-BDCD-4126-921F-AD7E5D0B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4A83-CCED-44C4-83B5-58591973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A924-F967-46B0-8BFF-D32C9EFC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6489-586E-44F6-B942-B20FD5F7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097A-9A4D-4CB6-A293-06D7B2200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050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earch-institute.org/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be0e3"/>
                </a:solidFill>
                <a:latin typeface="Australian Sunrise"/>
              </a:rPr>
              <a:t>Middle School Learners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438280" y="3809880"/>
            <a:ext cx="4800600" cy="259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3263040" y="324648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www.citizenschools.or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3 Key Issues Related to Curricul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mental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Fo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ing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ment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olescents’ physical development often grows faster than cognitiv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ing from concrete to formal operations (Piag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e to rapid growth students require healthy meals and a lot of sleep (often they don’t get this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t to be more in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l awk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urriculum that models healthy eating and sleeping habits is ess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                                       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e from www.dailyclipart.n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Social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olescents often struggle with 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groups and peer accep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 behavior to deal with stressors or fit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ing strong adult relationships, involvement with community, and opportunity for in-school counseling should be imbedded in school curricu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mayfield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earning Sty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may lack confidence/esteem at this 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ploratory/discovery based curriculum encourages students to discover untapped talents, build confidences, and stay busy…important for avoiding high risk behavio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 learning projects encourage students to be part of the community, develop positive community relationships and goals for th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www.austrianinformation.or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xternal ass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 relationships and opportunities that surround young people with the support and situations that guide them to behave in healthy ways and make wise ch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support.jpg"/>
          <p:cNvPicPr/>
          <p:nvPr/>
        </p:nvPicPr>
        <p:blipFill>
          <a:blip r:embed="rId1"/>
          <a:stretch/>
        </p:blipFill>
        <p:spPr>
          <a:xfrm>
            <a:off x="4114800" y="3809880"/>
            <a:ext cx="22860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ternal ass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ose commitments, values, competencies and self-perceptions that, when nurtured, provide the “internal compass” that guides a young person’s behavior and choices so that he or she becomes self regula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values.jpg"/>
          <p:cNvPicPr/>
          <p:nvPr/>
        </p:nvPicPr>
        <p:blipFill>
          <a:blip r:embed="rId1"/>
          <a:stretch/>
        </p:blipFill>
        <p:spPr>
          <a:xfrm>
            <a:off x="5791320" y="4114800"/>
            <a:ext cx="2666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y Developm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ts for Middle &amp;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Y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research 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arch Institut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earch-institute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: Your turn to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2"/>
          <a:stretch/>
        </p:blipFill>
        <p:spPr>
          <a:xfrm>
            <a:off x="5257800" y="1676520"/>
            <a:ext cx="294948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Questions for Your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empus Sans ITC"/>
              </a:rPr>
              <a:t>Which asset categories does the scenario addr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empus Sans ITC"/>
              </a:rPr>
              <a:t>What assets does this student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empus Sans ITC"/>
              </a:rPr>
              <a:t>What assets does this student la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empus Sans ITC"/>
              </a:rPr>
              <a:t>How can you improve your curriculum to address this student’s need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1T22:03:47Z</dcterms:created>
  <dc:creator>User</dc:creator>
  <dc:description/>
  <dc:language>en-US</dc:language>
  <cp:lastModifiedBy>Cynthia Ann Munyon</cp:lastModifiedBy>
  <dcterms:modified xsi:type="dcterms:W3CDTF">2009-06-12T03:54:37Z</dcterms:modified>
  <cp:revision>7</cp:revision>
  <dc:subject/>
  <dc:title>Middle School Learners</dc:title>
</cp:coreProperties>
</file>