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511-1EA5-4C3A-B293-FF98C6E2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7DA-88A6-45E4-A0D8-9F34A98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54E-C06F-4952-8DB9-636CE97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79D-2DCD-4877-9560-24783EC2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2266-DD1C-48AD-98F6-5E56BA1F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4928-DB67-4748-A75E-BE39A4E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C56-7767-44D5-9ABF-C9368DB2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DA6A-96BB-4FE6-8F83-D976E40A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E9C1-3648-44F5-9551-6382A9BF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6049-E114-49A4-BF8E-C1DF3C2C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D352-D1F6-48C3-9B1D-B2F8299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798-2C5E-44B5-8068-7E6A3B18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405A-9B15-4289-B60E-A8BBC05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A0F4-07C7-44D5-B3CB-43EADBE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B38-D44B-4ADC-A4C9-495FCEA7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8AE8-4474-4707-BA96-B737E1D2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CBD-5FEB-4C5E-8E3C-81E28B87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710AB-1993-4712-841D-7E381882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E6FB-3B78-4BE9-93A8-F935F9E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2761-D421-48A2-B0B2-1508ED5F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C9EE-66AB-48A1-9ABD-56EF8AF0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594B-1823-49E1-ACAA-55BE377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486-04DE-4EF1-978E-455D2CD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303A-5B1A-404B-AAF9-4F127CB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A118-3AAA-4FCA-A08A-FB3F3166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DF46-884B-47C6-8F19-E13E013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0D0B-D07A-4E99-8519-B6125DD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03AD-ED54-4913-A675-B51DBCC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315E-77B2-475C-9770-CFE2334A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3FAD-B68D-4FC9-A2E8-CBCBF9F7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88F0D-2E56-4348-9F9B-6FC4668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328BD-90CD-4AA4-9E6E-83B6DB6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55CEC-116B-49EB-A38C-66D82EF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543-4B34-4636-986D-986468F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63D72-AAFA-4822-AF31-4A489C2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43554-0B56-44DA-8088-0E31C835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8A73E-FF97-4091-A3B0-4684C99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4BFA9-E350-4496-A5C9-DA673BB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77CDE-2CBE-484E-8354-A430FD6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AFF44-A147-4918-AF48-96A4EE9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A1ECA-84DF-4ABF-BAC1-E7E99177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27984-BA37-417D-96FF-99A5D10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D8370-5CCE-4800-935D-B6F0A7D1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5807C-7672-4A4A-B43B-2B5B4991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D64-1B83-42EA-8BD4-B383692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807E6-768C-4341-89DC-23C92211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253B2-0D89-41DE-9AA4-9200DA2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12191-1EC0-46ED-AA83-4F885F64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4B2D6-4E67-4ADB-AF72-F06190B6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16197-1EBB-4594-98B4-10443391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C8F5D-3D7A-4EC9-9A71-F906E0E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A44D8-D7FB-41F5-934E-F1B8138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20C1E-A5C0-4F9A-9623-E5007CF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25DD3-4753-47E8-B534-A9C4BF54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F72D8-150E-4426-91D1-F4AE2D2B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AB3-D148-45DC-93AE-8CCD6725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720E8-6F63-431B-BD76-623C208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8A2-B288-44ED-9088-1AE303E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0C6-A57D-4D99-9A94-25B91FC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79F-CD50-4D3C-BDE3-3ED33EC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E77-A4B3-4454-BF7F-694F44B01F2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A7C-2D10-43BA-AB56-AB2EA4F24F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77C-2AF2-4E16-B148-028101C16EA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284-631B-4D9D-A010-944060CD84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CD2-0CB2-416A-BC71-83270F86E2BE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0B13-1ACF-4E57-B07F-B33F100B0D7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F590-7B2F-4FF3-9B71-8B4B20D1457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10B3-9E51-426C-AF0E-B2EDC0EF27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E982-C894-423D-A136-0904F659F70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255-56AD-453C-B8C3-740ACB1DE8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IDDLE SCHOOL CURRICULA: 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roup Member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uad A., Allison A., Erick F., Christina M., Mario O., Meghan 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352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1990, the Search Institute created a framework representing the 40 most important developmental assets for young peop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ssets are divided into two categori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160" y="15998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ernal developmental assets refer to environmental influences during growt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Community, Church, Extracurricular activities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VELOPMENTAL ASSE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nal developmental assets refer to the personal qualities that any individual must strive to obt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s: Honesty, Integrity, Responsibility, et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2362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 TRANSITIONAL PERI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Text Box 1027"/>
          <p:cNvSpPr/>
          <p:nvPr/>
        </p:nvSpPr>
        <p:spPr>
          <a:xfrm>
            <a:off x="457200" y="167652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of middle childhood is an important time of transition from the home to the wider social commun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Erikson, 1968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t this stage begin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ir id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the (social) world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locate their (social) role an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rikson, E. (1968). </a:t>
            </a:r>
            <a:r>
              <a:rPr b="0" i="1" lang="en-US" sz="16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Identity, youth, and crisi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: W. W. Norton and Company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INTERNAL DEVELOPMENTAL ASSE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representation, our group has selected the following subcategori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18687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T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1:26:42Z</dcterms:created>
  <dc:creator>Erick y Magda</dc:creator>
  <dc:description/>
  <dc:language>en-US</dc:language>
  <cp:lastModifiedBy>Gayle Thieman</cp:lastModifiedBy>
  <dcterms:modified xsi:type="dcterms:W3CDTF">2009-06-09T03:51:20Z</dcterms:modified>
  <cp:revision>15</cp:revision>
  <dc:subject/>
  <dc:title>Middle School Curricula: Developmental Assets</dc:title>
</cp:coreProperties>
</file>