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887-0D41-4C41-BE92-0A9D57F9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C25-9BBF-44FD-A3DE-EB3E7DA3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84B-3000-4C5E-9A16-996DB127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40E-C9DA-4371-800F-A84C9EA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0CC-7B65-43A9-848E-34A2BCCD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77D-059B-4643-9CF4-AAF768C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17E-70BE-4B9E-BAF0-2AACBEB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B63-317D-42B8-A49D-78A445B5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2F9-2C8D-4006-8527-4F5A4B9E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5D6B-77C2-4665-988F-1899E08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0BE-1003-4EB6-AD80-5A75F05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8A9-BAAE-44A1-A024-E7E3C0A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7501-AF53-4334-8877-617BD09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2E7-3059-4B95-9B99-383F88E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56C-2E89-4128-B982-E502C867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427-142D-4B12-A566-6B67BCD1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4AA-D34D-4B61-A2FC-980A42FA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A253-1174-4EF3-B31C-8C87B92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257F-CCA0-4EAE-ACC7-1A27DCB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DD35-7BCA-4A12-994E-CDAC2CE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57BB-D8F9-41BF-9597-C95C1576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ECFB-0C58-4E16-A80D-C6EA148B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4F6-87A2-49C0-B493-E701FB4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F65F-A74A-4D5F-B928-40AAF8F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BB7E-478E-496F-8C6B-04C006C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8D8C-04F4-4978-B776-205B1AE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7CC1-5880-483C-A95F-AE6DF18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4F5A-F6FA-4795-949B-EF169E2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9C2A-0F7C-4C3A-9368-FB3806FD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67DC-C753-4C71-8828-4B07552F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C14BB-F37E-40A3-A808-2CF0B6B1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9EC7D-376E-49B5-BCE1-F4985B76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DEFDF-10F7-4425-AD84-E9F1C40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8A9-1944-461D-942A-4939B25D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6BE7C-7018-4DEE-8EEE-F7C0269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80C39-92E3-41A1-B23F-540011F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94DD3-FD30-4374-BA3F-6B6838F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DA095-1C96-46BE-8849-4E2950F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3817A-218D-4435-84C9-9378EC8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E544C-DF95-49D7-9E63-7740A4B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C857B-0F0A-4699-942D-23C9F12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E73C4-BBA6-4F81-95AD-C0A15972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94596-E300-4B28-B694-20635F5E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ED409-9EAD-417A-8C43-917FA884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16D-8982-450A-8E43-DFEAE3E7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C642E-0D99-489B-88B3-D8B0B101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F3023-EA5E-4EA2-869B-3A0BE88E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E8351-BB15-44C1-AEE2-D5C5C447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E42E7-7E7F-482E-A56E-6470CEC7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5B0A9-0563-4A51-8EED-7F5FB3A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FBA3D-015D-4B90-BEB9-ABE4D0F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A5AA1-5231-40EE-9996-9EA03FD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34C3D-DEC9-4FB7-97F9-3CD6410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5436B-7365-4E7A-83CB-12807C76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48DD0-AE39-48CA-B60B-C0BD1B3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69B-275A-42C9-B599-7151B032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3A1C7-703E-4885-854F-47DE3E43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C62-D3DE-4A3C-90FA-3565C2F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5DB-3B31-45A7-AF5B-C0D9A3C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DE6-CF36-4EC7-A37A-92BE289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A348-C5F8-494F-99CF-2BB4F8F4066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A268-279F-4302-A773-8EED083059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95B7-17A6-4418-8FC0-984ECBEE8EB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4D6-28A2-4D51-9C00-4E137FCB5A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6657-982E-4964-848F-486A7CBDC2D2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991-F859-47C3-A903-A734577B30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8AC-FF0D-45A8-9EE2-8C5D6D2E0A1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B63-D8EA-4315-8F0C-C9DA6E43D2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A592-2B92-42EE-B393-A9B90730651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C935-CD25-484B-BF44-F1036AD4B2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IDDLE SCHOOL CURRICULA: 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uad A., Allison A., Erick F., Christina M., Mario O., Meghan 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352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1990, the Search Institute created a framework representing the 40 most important developmental assets for young peop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ssets are divided into two categori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160" y="15998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ernal developmental assets refer to environmental influences during growt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Community, Church, Extracurricular activities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al developmental assets refer to the personal qualities that any individual must strive to obt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Honesty, Integrity, Responsibility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2362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 TRANSITIONAL PERI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Text Box 1027"/>
          <p:cNvSpPr/>
          <p:nvPr/>
        </p:nvSpPr>
        <p:spPr>
          <a:xfrm>
            <a:off x="457200" y="167652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of middle childhood is an important time of transition from the home to the wider social commun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Erikson, 1968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t this stage begi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id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the (social) world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locate their (social) role a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rikson, E. (1968). </a:t>
            </a:r>
            <a:r>
              <a:rPr b="0" i="1" lang="en-US" sz="1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Identity, youth, and cri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: W. W. Norton and Compan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INTERNAL DEVELOPMENTAL ASSE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representation, our group has selected the following subcategori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18687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T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1:26:42Z</dcterms:created>
  <dc:creator>Erick y Magda</dc:creator>
  <dc:description/>
  <dc:language>en-US</dc:language>
  <cp:lastModifiedBy>Gayle Thieman</cp:lastModifiedBy>
  <dcterms:modified xsi:type="dcterms:W3CDTF">2009-06-09T03:51:20Z</dcterms:modified>
  <cp:revision>15</cp:revision>
  <dc:subject/>
  <dc:title>Middle School Curricula: Developmental Assets</dc:title>
</cp:coreProperties>
</file>