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4D1F4-A800-4220-9731-53311A7C1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08689-CC55-4808-BF70-88A9FF7F5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46FA5-398E-410C-95DF-88FA05597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ADAFD-D167-4BD5-BA19-A87DD1C76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FE28F-3306-4E2E-8D48-D9AD96FB2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08700-4E60-4917-98A0-D892A1548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24E04-2135-4AB5-A1B9-966184E0D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BDB4A-C526-4C2C-ACA0-0572B9896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8E352-63ED-4D1C-BBE7-3AB675A28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BB559-6B4D-4BC3-BD71-92FC769B2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EC00E-04E0-4A96-8C19-C5EC44186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3C341-9BB7-42D9-8240-E43EE7660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FD308-F2E5-401E-9CA2-028239098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AE074-FE89-42E9-B400-0771D9E41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C5461-E1D4-4B96-8267-DF9608520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DB48A-2E6E-4E87-8611-7B58760EF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B688D-4D46-4CFD-B8FD-F52BCDA45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7CD84D-FD81-4C35-9FB4-B7AB118A0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048371-732D-434D-9A5C-14BB614C6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3F3F5F-4A3A-4396-B135-1AD48A060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9026AD-EB37-4AAB-A3AD-D6689184A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975AF6-FDAB-4468-A4B9-BA60B8835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D6805-AC2C-4E64-A2D1-A20EFD091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92B4C0-A2D2-4E67-B444-3F5E05D49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C391B7-E1A6-495E-95F6-03B883E91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F05FE1-4180-4CD1-82F2-6FA937CE7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929240-4D4B-4814-AA1C-B8A1EFF34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075524-0D85-42FE-B477-5F0319AF4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B63922-FDFB-4E95-905A-5DE6FCD99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CE2230-FE85-46F5-9FB3-362E40FF8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1A2C643-4193-4ED9-983B-00E6AAAB7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BA84F90-5FC6-468B-AA8B-7893E331B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8D102A0-2F5E-4DF0-9F97-3297A26D2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70747-041C-4DD5-BBE6-1A4C7E5E5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40A3699-EF85-4268-A29D-3C5A2FE70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F8EAEF2-1724-4668-917C-A697D3F1C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4320D03-7C1E-4405-A40E-5225E2023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389E752-EA86-422D-805B-CF5CDB956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6FF0ACE-DC72-4547-9693-457C036E4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73DAF19-125B-4B78-AC73-FC868518C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87BA7D2-9F19-4A71-86A8-575AD3FA7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1FD3DA5-589D-4223-9B56-13DD9E927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F176E34-509C-499B-B76F-5ADA9A728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4D68BAB-A696-42EE-AFB1-2659FC199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F5520-69A7-4B55-AE66-D74E4D97B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843C1C4-E92F-4D04-A0A0-69BE34986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34A5734-874E-4D3C-A664-49031EDA1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F5031BA-D674-4F89-B737-79CCAB485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3307081-9D94-47EC-AE0B-F8A76C9FB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E3B4A73-C652-469E-8F7B-F9C20E674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9DFD307-7F8D-41C2-9EC0-2CFD08FD4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346EA72-F2A4-4E3F-9789-7B481F3CD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17670A0-4899-4A63-90BA-217DF697D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6003A92-1FA6-4EEC-BA38-C068488B3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AF9D038-1EDF-43F4-8387-7B85ADE16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E71E8-D615-43A2-A073-7FBD49629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F8EBC5C-DA43-4153-8286-1A05B1F67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3CDDA-5B89-4A6E-92BD-A15A0A9C3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49657-976B-4609-AD20-5FE48DDF2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E4E9A-A7CD-4580-ABFF-A79355EFD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B7852-6C61-48E1-822B-5C661E0DBD6B}" type="datetime"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F7B28-D8EB-4C62-8753-E0BD110D5EED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9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1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3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traight Connector 10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traight Connector 17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traight Connector 19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traight Connector 15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1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traight Connector 21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0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22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23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25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24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85256-73C2-41DC-B2A4-77EDFD7FA338}" type="datetime"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41B65-6382-4AAD-B930-B5BBB4670C99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8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9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0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1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2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3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traight Connector 14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traight Connector 15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traight Connector 16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Oval 1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19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Oval 2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Oval 21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Oval 22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traight Connector 25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39CFD-8B41-4BDC-9FBD-4A97741686DA}" type="datetime">
              <a:rPr b="0" lang="en-US" sz="1200" spc="-1" strike="noStrike">
                <a:solidFill>
                  <a:srgbClr val="fff39d"/>
                </a:solidFill>
                <a:latin typeface="Century Schoolbook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DB82D-6427-4397-BB51-531000ED7676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Straight Connector 9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traight Connector 7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traight Connector 8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Straight Connector 10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11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traight Connector 12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Oval 1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10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B533E-1CB7-4355-BF4D-51D2EBC1D8E5}" type="datetime"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sldNum" idx="11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ACEE5-3650-4406-A5BC-EB6A8D004410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ftr" idx="1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Straight Connector 8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12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traight Connector 9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10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Straight Connector 11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Straight Connector 18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Straight Connector 19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36CAA-2C2A-423F-800F-AC8FBD1AE821}" type="datetime"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0676B-6737-43D1-8C06-4130E730DB50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75f6d"/>
                </a:solidFill>
                <a:latin typeface="Century Schoolbook"/>
              </a:rPr>
              <a:t>MIDDLE SCHOOL CURRICULA: DEVELOPMENTAL ASSET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Group Members: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Suad A., Allison A., Erick F., Christina M., Mario O., Meghan S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259" name="Picture 3" descr=""/>
          <p:cNvPicPr/>
          <p:nvPr/>
        </p:nvPicPr>
        <p:blipFill>
          <a:blip r:embed="rId1"/>
          <a:stretch/>
        </p:blipFill>
        <p:spPr>
          <a:xfrm>
            <a:off x="7315200" y="685800"/>
            <a:ext cx="135252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DEVELOPMENTAL ASSET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533160" y="152388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n 1990, the Search Institute created a framework representing the 40 most important developmental assets for young people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ese assets are divided into two categories: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External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Internal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DEVELOPMENTAL ASSET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533160" y="1599840"/>
            <a:ext cx="739116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External developmental assets refer to environmental influences during growth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Examples: Community, Church, Extracurricular activities, etc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264" name="Picture 4" descr=""/>
          <p:cNvPicPr/>
          <p:nvPr/>
        </p:nvPicPr>
        <p:blipFill>
          <a:blip r:embed="rId1"/>
          <a:stretch/>
        </p:blipFill>
        <p:spPr>
          <a:xfrm>
            <a:off x="2743200" y="3733920"/>
            <a:ext cx="285768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DEVELOPMENTAL ASSET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6840" y="1600200"/>
            <a:ext cx="746748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nternal developmental assets refer to the personal qualities that any individual must strive to obtain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Examples: Honesty, Integrity, Responsibility, etc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267" name="Picture 2" descr=""/>
          <p:cNvPicPr/>
          <p:nvPr/>
        </p:nvPicPr>
        <p:blipFill>
          <a:blip r:embed="rId1"/>
          <a:stretch/>
        </p:blipFill>
        <p:spPr>
          <a:xfrm>
            <a:off x="2666880" y="4038480"/>
            <a:ext cx="2362320" cy="24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  <a:ea typeface="Times New Roman"/>
              </a:rPr>
              <a:t>A TRANSITIONAL PERIOD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9" name="Text Box 1027"/>
          <p:cNvSpPr/>
          <p:nvPr/>
        </p:nvSpPr>
        <p:spPr>
          <a:xfrm>
            <a:off x="457200" y="1676520"/>
            <a:ext cx="7848720" cy="47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eriod of middle childhood is an important time of transition from the home to the wider social communit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d4d4d"/>
                </a:solidFill>
                <a:latin typeface="Times New Roman"/>
                <a:ea typeface="Times New Roman"/>
              </a:rPr>
              <a:t>(Erikson, 1968)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ildren at this stage begin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 their identit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alyze the (social) world around th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y to locate their (social) role and positio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Erikson, E. (1968). </a:t>
            </a:r>
            <a:r>
              <a:rPr b="0" i="1" lang="en-US" sz="1600" spc="-1" strike="noStrike">
                <a:solidFill>
                  <a:srgbClr val="000000"/>
                </a:solidFill>
                <a:latin typeface="Times-Italic"/>
                <a:ea typeface="Times New Roman"/>
              </a:rPr>
              <a:t>Identity, youth, and crisis.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York: W. W. Norton and Company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  <a:ea typeface="Times New Roman"/>
              </a:rPr>
              <a:t>INTERNAL DEVELOPMENTAL ASSETS</a:t>
            </a: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456840" y="1600200"/>
            <a:ext cx="746748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r representation, our group has selected the following subcategories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sitive Valu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ocial Competenci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sitive Identity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272" name="Picture 2" descr=""/>
          <p:cNvPicPr/>
          <p:nvPr/>
        </p:nvPicPr>
        <p:blipFill>
          <a:blip r:embed="rId1"/>
          <a:stretch/>
        </p:blipFill>
        <p:spPr>
          <a:xfrm>
            <a:off x="6324480" y="3352680"/>
            <a:ext cx="1868760" cy="25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EXTR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4T01:26:42Z</dcterms:created>
  <dc:creator>Erick y Magda</dc:creator>
  <dc:description/>
  <dc:language>en-US</dc:language>
  <cp:lastModifiedBy>Gayle Thieman</cp:lastModifiedBy>
  <dcterms:modified xsi:type="dcterms:W3CDTF">2009-06-09T03:51:20Z</dcterms:modified>
  <cp:revision>15</cp:revision>
  <dc:subject/>
  <dc:title>Middle School Curricula: Developmental Assets</dc:title>
</cp:coreProperties>
</file>