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5CC-FDBC-4383-A2E4-702DD709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A9F-7864-4765-8C28-6C7266C9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35D5-43F8-4E88-8157-BA20C969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1462-4C35-49FB-B7FE-50AD294A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BCDD-F0F5-4BD2-A315-DCD2619A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A89E-60F8-422D-8154-C0A4A050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22BC-8FED-485A-8CDE-D057F495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7862-4B7B-421B-9CCC-F0866B68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3F6F-BD16-4319-9FA7-A16F3EA8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E080-8FD4-44D6-8640-3256B573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16FB-0D1B-466B-A019-F8DD833D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303-0DDC-4E5B-B9EF-D5DC51A3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91FF-05C2-4BBA-99C5-B4201F95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A222-6F5C-42BE-8233-4D08AEC0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53D3-0C26-4C3C-A17E-E7E7D70D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E241-BF41-43C5-8AEC-3C70932E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715C-BB4D-45BA-A1FF-B30E0E35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27718-A076-4ED2-807C-A680AFE3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70CE9-9C1C-4BD8-9306-A28ADBF9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0F1E8-82F9-42C5-8726-80FEDCE1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AAEB4-DDB8-42E4-A2E5-1D18AB5F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FA240-2E90-4900-B4A5-0D69AD58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0A4-FD09-4AB7-A450-61A932FC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40EDC-9B64-4FCD-82F2-9C77F677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F0F24-9ED8-48FD-8C51-245D18AB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67A32-3F88-4DAC-BE33-CFD65CFD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1D112-53FB-4825-BA33-BBFFA366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3F63D-22C0-476E-9FE0-541AF35A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376E8-790B-44C0-9BFD-BBA535AF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02E4E-2AA1-47F8-8EF3-2FF3884E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4B8675-435D-45AC-AD23-FBA35C8A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94D1CA-8938-4FE7-AAF0-164D4EE9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15910D-A8CF-47DF-8193-28129E18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CBC2-8C66-4E33-8D0F-0A7D68E1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BE22DB-CABE-4578-9D06-42C6413A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C0AD07-8EB6-41D1-A687-26D9E6DC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FFB651-21D4-42F2-83B5-8B29DAB9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C6AAB8-8AFC-45CF-B6B1-BE40DF28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1F8CBB-91A0-40EE-B827-81DF0FF8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07A69D-FB63-4E16-96E4-D9C3202C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F2AE48-1F7E-423D-AE87-818BA267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C9C86E-0938-413F-AC94-E6C65426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D93777-31F3-400F-B198-BDB795F4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44287-CA2A-4B3A-94C3-30C50F5C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5D3-28BF-4786-92F5-C83837AF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B4848A-1704-4875-8804-BFDA4C98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098F8B-4B23-4DEF-993E-2530957E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39929-4C68-4271-8E05-96EB7A3F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E9C60E-9006-4B46-9B82-67661A72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74EBAC-3791-44F9-AEA6-D866AA35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D2B92D-619F-4550-A948-D64A9AF1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BBC7D7-123B-4310-B508-D7C16807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1F05B2-0412-4CAD-A2A6-C7C252AB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BE63D1-1300-4C6A-98B3-3FC361D5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095B8A-78E6-4E66-9D99-014DCC69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D6B-3804-4616-A7DF-6A94FF21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2F5D72-E675-4794-A9AE-1CA513A5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7D4-DC28-4C82-8F5E-0C0422AB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03AA-A5DA-4EAE-9DB4-17898DFD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A05-8573-406F-9430-4A7468C7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CB4F-C710-4200-B3BE-AC751E9F6B96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47C4-330C-458D-83CC-4C08EB02BBC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1E4B-03DB-4B76-AFE8-902911A8C825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CB9C-B37D-45BA-877B-C6F2D67BBF8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34BD-A0D9-466C-86FA-231B27131D69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6871-AE51-4F72-B275-286708193CD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E749-6180-410F-8C02-C66759A9527B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03E7-1219-4C29-BB84-2C28216B772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CF08-2AD0-4DF9-B606-788979FB7176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0ADC-31F6-4E49-96A9-70B621C094D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MIDDLE SCHOOL CURRICULA: DEVELOPMENTAL ASSE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Group Member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Suad A., Allison A., Erick F., Christina M., Mario O., Meghan 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7315200" y="685800"/>
            <a:ext cx="1352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VELOPMENTAL ASSE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3160" y="15238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1990, the Search Institute created a framework representing the 40 most important developmental assets for young peop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se assets are divided into two categorie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tern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VELOPMENTAL ASSE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33160" y="1599840"/>
            <a:ext cx="73911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ternal developmental assets refer to environmental influences during growth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s: Community, Church, Extracurricular activities, et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2743200" y="37339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VELOPMENTAL ASSE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ernal developmental assets refer to the personal qualities that any individual must strive to obtai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s: Honesty, Integrity, Responsibility, et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2666880" y="4038480"/>
            <a:ext cx="23623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A TRANSITIONAL PERIOD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Text Box 1027"/>
          <p:cNvSpPr/>
          <p:nvPr/>
        </p:nvSpPr>
        <p:spPr>
          <a:xfrm>
            <a:off x="457200" y="1676520"/>
            <a:ext cx="784872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eriod of middle childhood is an important time of transition from the home to the wider social commun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Erikson, 1968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t this stage begin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heir id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e the (social) world arou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locate their (social) role and pos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Erikson, E. (1968). </a:t>
            </a:r>
            <a:r>
              <a:rPr b="0" i="1" lang="en-US" sz="1600" spc="-1" strike="noStrike">
                <a:solidFill>
                  <a:srgbClr val="000000"/>
                </a:solidFill>
                <a:latin typeface="Times-Italic"/>
                <a:ea typeface="Times New Roman"/>
              </a:rPr>
              <a:t>Identity, youth, and crisi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York: W. W. Norton and Company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INTERNAL DEVELOPMENTAL ASSET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representation, our group has selected the following subcategori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itive Valu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cial Competenc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itive Ident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6324480" y="3352680"/>
            <a:ext cx="18687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T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1:26:42Z</dcterms:created>
  <dc:creator>Erick y Magda</dc:creator>
  <dc:description/>
  <dc:language>en-US</dc:language>
  <cp:lastModifiedBy>Gayle Thieman</cp:lastModifiedBy>
  <dcterms:modified xsi:type="dcterms:W3CDTF">2009-06-09T03:51:20Z</dcterms:modified>
  <cp:revision>15</cp:revision>
  <dc:subject/>
  <dc:title>Middle School Curricula: Developmental Assets</dc:title>
</cp:coreProperties>
</file>