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795-1D55-4140-A4AB-CAA8DD32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C98-27C2-4F56-9958-A329687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097-BBBA-45E0-94ED-B8D03C43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826-E1C3-4527-A70F-39CF09A7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530-4166-48F5-8B2B-F13BB1E9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F66-600E-4849-91FB-13E8F3C0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BAC-CD4D-4E1A-9355-1B8848F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D18-9EBE-4539-944E-6860D61A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71A-E08D-41B2-ADB4-56FE311A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382-EC25-438B-85E0-439BBD11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315-28F5-4B73-B519-2926F69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622-6EE5-4DA9-9211-7548237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346-84BF-4133-AC85-562BFA9E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lesson plan; design instruction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collaborate in teams to support less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Thieman</cp:lastModifiedBy>
  <dcterms:modified xsi:type="dcterms:W3CDTF">2013-07-25T06:47:52Z</dcterms:modified>
  <cp:revision>6</cp:revision>
  <dc:subject/>
  <dc:title>Meaningful and Authentic Learning</dc:title>
</cp:coreProperties>
</file>