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7A10-EC0C-4DC5-95A2-1E585860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EE1B-FFAC-4FA1-BE7B-7471313B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9E91-F9EC-4F43-95DE-4B7FB18D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8D8E-11A5-457E-ABFD-EC380566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BDFA-A434-49E8-A01A-F70FE6EA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3E54-2C84-47BF-8DFF-A5AD5FC8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0BBF-F59A-4674-8448-FFD4EC7A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95D7-F9BF-4B1E-94B1-8EBBA83F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29F6-6E4F-45A5-B6E6-1B6C72B0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6DE2-4B9D-43FC-97F5-07E50614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770-771C-4A98-834A-9B7CA9BF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4F5-829A-44B5-B06B-44CD3850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E72B-8327-429B-9A1F-A8094F6DF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aningful and Authentic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arning to Solve Problems wit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513: Dr. Thie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2438280" y="3886200"/>
            <a:ext cx="4419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sciplinary Content an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experiment, observe results, modify or manipulate thei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–try new technologies &amp; teaching strategies &amp; see wha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j0305257"/>
          <p:cNvPicPr/>
          <p:nvPr/>
        </p:nvPicPr>
        <p:blipFill>
          <a:blip r:embed="rId1"/>
          <a:stretch/>
        </p:blipFill>
        <p:spPr>
          <a:xfrm>
            <a:off x="6172200" y="2666880"/>
            <a:ext cx="1897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stru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nstruct meaning by reflecting on their experience, and developing new schema to accommodate discrepant information; organizing information; considering alternatives; developing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  Backwards Curriculum Design; Enduring Understanding, Essential Questions   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ten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actively engaged in intentional decision making:  goal; strategies;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reflect on thei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: choose the topic &amp; curriculum standards for your lesson plan; design instruction &amp; assess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uthe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knowledge &amp; skills through real world tasks, problem based learning in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, mess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unit/lesson design are at heart of what teacher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j0335112"/>
          <p:cNvPicPr/>
          <p:nvPr/>
        </p:nvPicPr>
        <p:blipFill>
          <a:blip r:embed="rId1"/>
          <a:stretch/>
        </p:blipFill>
        <p:spPr>
          <a:xfrm>
            <a:off x="1371600" y="1981080"/>
            <a:ext cx="23144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operative/Convers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ork collaboratively in groups, develop multiple perspectives &amp; solutions; audience beyond the classroom or school; substantive oral, written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: collaborate in teams to support lesso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j0233018"/>
          <p:cNvPicPr/>
          <p:nvPr/>
        </p:nvPicPr>
        <p:blipFill>
          <a:blip r:embed="rId1"/>
          <a:stretch/>
        </p:blipFill>
        <p:spPr>
          <a:xfrm>
            <a:off x="5380200" y="2556000"/>
            <a:ext cx="25747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isciplinary Content &amp;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: subject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ry genres, cause &amp; effect, number theory, properties of matter, chronology, historical evidence, scientific data, public issues, visual &amp; performing 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: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ve or expository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03:04:40Z</dcterms:created>
  <dc:creator>thiemag</dc:creator>
  <dc:description/>
  <dc:language>en-US</dc:language>
  <cp:lastModifiedBy>Gayle Thieman</cp:lastModifiedBy>
  <dcterms:modified xsi:type="dcterms:W3CDTF">2013-07-25T06:47:52Z</dcterms:modified>
  <cp:revision>6</cp:revision>
  <dc:subject/>
  <dc:title>Meaningful and Authentic Learning</dc:title>
</cp:coreProperties>
</file>