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EB6C-775A-4DDC-90DC-31E3D4B2E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84F4-BBDE-4B11-8B6E-E1DB8BD9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08AD-6AFB-47A7-AD1B-270414A2E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D967-3593-4CA2-8A79-6BC1A3C3B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1D04-7CFC-40CB-B58F-CFDEECF7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7CBF-6D1A-4034-80A8-3ED95014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737F-C777-47FE-9B24-011A5289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C7E3-92C8-44DE-BA3D-4AED251F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D182-2E30-4B65-9BEC-37A8C10D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EE03-5631-42E8-8B3B-F9C0EC50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71A9-F20E-450B-AAC6-81A19E86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B894-010F-4662-B036-1027345C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2D77-F360-44E2-B1E8-4122AE9F4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aningful and Authentic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earning to Solve Problems with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 513: Dr. Thie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3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581280" y="1143000"/>
            <a:ext cx="198144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838080" y="2362320"/>
            <a:ext cx="297180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N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4952880" y="2209680"/>
            <a:ext cx="3200400" cy="106704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TR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838080" y="5105520"/>
            <a:ext cx="3200400" cy="83808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EN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5105520" y="5029200"/>
            <a:ext cx="312408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0"/>
          <p:cNvSpPr/>
          <p:nvPr/>
        </p:nvSpPr>
        <p:spPr>
          <a:xfrm flipH="1">
            <a:off x="838080" y="121932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1"/>
          <p:cNvSpPr/>
          <p:nvPr/>
        </p:nvSpPr>
        <p:spPr>
          <a:xfrm>
            <a:off x="838080" y="33526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3"/>
          <p:cNvSpPr/>
          <p:nvPr/>
        </p:nvSpPr>
        <p:spPr>
          <a:xfrm>
            <a:off x="4038480" y="5943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5"/>
          <p:cNvSpPr/>
          <p:nvPr/>
        </p:nvSpPr>
        <p:spPr>
          <a:xfrm flipH="1" flipV="1">
            <a:off x="8153280" y="3200400"/>
            <a:ext cx="763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6"/>
          <p:cNvSpPr/>
          <p:nvPr/>
        </p:nvSpPr>
        <p:spPr>
          <a:xfrm>
            <a:off x="5562720" y="1143000"/>
            <a:ext cx="25905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3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3581280" y="1143000"/>
            <a:ext cx="198144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838080" y="2362320"/>
            <a:ext cx="297180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N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4952880" y="2209680"/>
            <a:ext cx="3200400" cy="106704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TR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838080" y="5105520"/>
            <a:ext cx="3200400" cy="83808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EN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5105520" y="5029200"/>
            <a:ext cx="312408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 flipH="1">
            <a:off x="838080" y="121932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838080" y="33526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1"/>
          <p:cNvSpPr/>
          <p:nvPr/>
        </p:nvSpPr>
        <p:spPr>
          <a:xfrm>
            <a:off x="4038480" y="5943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2"/>
          <p:cNvSpPr/>
          <p:nvPr/>
        </p:nvSpPr>
        <p:spPr>
          <a:xfrm flipH="1" flipV="1">
            <a:off x="8153280" y="3200400"/>
            <a:ext cx="763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3"/>
          <p:cNvSpPr/>
          <p:nvPr/>
        </p:nvSpPr>
        <p:spPr>
          <a:xfrm>
            <a:off x="5562720" y="1143000"/>
            <a:ext cx="25905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4"/>
          <p:cNvSpPr/>
          <p:nvPr/>
        </p:nvSpPr>
        <p:spPr>
          <a:xfrm>
            <a:off x="2438280" y="3886200"/>
            <a:ext cx="44197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isciplinary Content and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experiment, observe results, modify or manipulate their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TEP –try new technologies &amp; teaching strategies &amp; see what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j0305257"/>
          <p:cNvPicPr/>
          <p:nvPr/>
        </p:nvPicPr>
        <p:blipFill>
          <a:blip r:embed="rId1"/>
          <a:stretch/>
        </p:blipFill>
        <p:spPr>
          <a:xfrm>
            <a:off x="6172200" y="2666880"/>
            <a:ext cx="1897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nstru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onstruct meaning by reflecting on their experience, and developing new schema to accommodate discrepant information; organizing information; considering alternatives; developing hypothe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TEP  Backwards Curriculum Design; Enduring Understanding, Essential Questions   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Intent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are actively engaged in intentional decision making:  goal; strategies;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reflect on their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TEP: choose the topic &amp; curriculum standards for your lesson plan; design instruction &amp; assessment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uthen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 knowledge &amp; skills through real world tasks, problem based learning in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, messy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TEP unit/lesson design are at heart of what teacher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j0335112"/>
          <p:cNvPicPr/>
          <p:nvPr/>
        </p:nvPicPr>
        <p:blipFill>
          <a:blip r:embed="rId1"/>
          <a:stretch/>
        </p:blipFill>
        <p:spPr>
          <a:xfrm>
            <a:off x="1371600" y="1981080"/>
            <a:ext cx="231444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ooperative/Convers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ork collaboratively in groups, develop multiple perspectives &amp; solutions; audience beyond the classroom or school; substantive oral, written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TEP: collaborate in teams to support lesso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j0233018"/>
          <p:cNvPicPr/>
          <p:nvPr/>
        </p:nvPicPr>
        <p:blipFill>
          <a:blip r:embed="rId1"/>
          <a:stretch/>
        </p:blipFill>
        <p:spPr>
          <a:xfrm>
            <a:off x="5380200" y="2556000"/>
            <a:ext cx="257472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isciplinary Content &amp;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: subject m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ary genres, cause &amp; effect, number theory, properties of matter, chronology, historical evidence, scientific data, public issues, visual &amp; performing 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: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ing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ve or expository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vie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9T03:04:40Z</dcterms:created>
  <dc:creator>thiemag</dc:creator>
  <dc:description/>
  <dc:language>en-US</dc:language>
  <cp:lastModifiedBy>Gayle Thieman</cp:lastModifiedBy>
  <dcterms:modified xsi:type="dcterms:W3CDTF">2013-07-25T06:47:52Z</dcterms:modified>
  <cp:revision>6</cp:revision>
  <dc:subject/>
  <dc:title>Meaningful and Authentic Learning</dc:title>
</cp:coreProperties>
</file>