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628E-62AE-48B7-AAE0-7B8E96E6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360A-14F9-4EDF-B78E-692189EE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F7A9-3C79-4C59-AFAC-C641C499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E2B2-FC1D-4092-AA6D-057BF93E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6866-BCC2-4F78-8CCE-FD901413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4EE8-3B87-47AE-8C83-034A464A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E7B4-8303-48FE-88BC-BA91424D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A896-8225-4BAD-BF53-9BBA823B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E44A-76E5-45F7-8402-9B8C9458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1E18-0553-46C7-A6DF-317B57CF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7E03-D4BE-43FA-A048-2DEBD120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8F42-F789-4C92-90A3-CBFA0159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BCD4-AECC-41F6-A17B-5F52ECE87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aningful and Authentic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arning to Solve Problems with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513: Dr. Thie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143000"/>
            <a:ext cx="198144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362320"/>
            <a:ext cx="297180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2209680"/>
            <a:ext cx="3200400" cy="106704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105520"/>
            <a:ext cx="3200400" cy="8380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5029200"/>
            <a:ext cx="312408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838080" y="12193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8153280" y="3200400"/>
            <a:ext cx="763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1143000"/>
            <a:ext cx="2590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143000"/>
            <a:ext cx="198144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362320"/>
            <a:ext cx="297180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2209680"/>
            <a:ext cx="3200400" cy="106704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5105520"/>
            <a:ext cx="3200400" cy="8380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05520" y="5029200"/>
            <a:ext cx="312408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838080" y="12193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8153280" y="3200400"/>
            <a:ext cx="763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1143000"/>
            <a:ext cx="2590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3886200"/>
            <a:ext cx="4419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sciplinary Content and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experiment, observe results, modify or manipulate their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 –try new technologies &amp; teaching strategies &amp; see wha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72200" y="2666880"/>
            <a:ext cx="1897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stru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onstruct meaning by reflecting on their experience, and developing new schema to accommodate discrepant information; organizing information; considering alternatives; developing 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TEP  Backwards Curriculum Design; Enduring Understanding, Essential Questions   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ten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re actively engaged in intentional decision making:  goal; strategies;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reflect on their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TEP: choose the topic &amp; curriculum standards for your mini unit; design lessons &amp; assessmen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uthen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knowledge &amp; skills through real world tasks, problem based learning in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, mess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 unit/lesson design are at heart of what teacher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23144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operative/Convers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ork collaboratively in groups, develop multiple perspectives &amp; solutions; audience beyond the classroom or school; substantive oral, written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: working in teams to develop mini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80200" y="2556000"/>
            <a:ext cx="257472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isciplinary Content &amp;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: subject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ry genres, cause &amp; effect, number theory, properties of matter, chronology, historical evidence, scientific data, public issues, visual &amp; performing 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: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ve or expository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03:04:40Z</dcterms:created>
  <dc:creator>thiemag</dc:creator>
  <dc:description/>
  <dc:language>en-US</dc:language>
  <cp:lastModifiedBy>Gayle Y. Thieman</cp:lastModifiedBy>
  <dcterms:modified xsi:type="dcterms:W3CDTF">2003-07-29T05:11:58Z</dcterms:modified>
  <cp:revision>5</cp:revision>
  <dc:subject/>
  <dc:title>Meaningful and Authentic Learning</dc:title>
</cp:coreProperties>
</file>