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D58-7888-4356-9BA3-19BB2383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F35-51CF-4811-8C47-3BC4CF5E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9AA-1B9A-4680-A7E9-E69601F1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37A-81F4-458F-A943-8F613681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ED8-B2FE-47C3-9D62-21AACD38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1FA-969D-43EE-AE1A-55BF08B7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048-CE39-4C94-AF4E-565B26CC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492-C4D4-49BF-B8BD-09209A5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347-65D6-4C41-B8EB-CEEEB13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11F-E687-4E11-A35E-9CE27CBA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D7A-5D0B-49FD-ADAA-EF7D6C5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776-3C06-4541-9997-6DC6B65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B53-16E2-4F1F-91E0-22A8746D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Y. Thieman</cp:lastModifiedBy>
  <dcterms:modified xsi:type="dcterms:W3CDTF">2003-07-29T05:11:58Z</dcterms:modified>
  <cp:revision>5</cp:revision>
  <dc:subject/>
  <dc:title>Meaningful and Authentic Learning</dc:title>
</cp:coreProperties>
</file>