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media/image2.pct" ContentType="image/x-pict"/>
  <Override PartName="/ppt/media/image3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2BDDC-74E7-40D7-9F6D-E902C2961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BB94B-9981-47A3-AEEB-8F99DD253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D1731-AB70-4AAF-B9D2-F284315AD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7A120-E5FD-4316-B353-F2530100B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CD9A9-3EE4-4B3D-AB40-42666F420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8F268-C5BA-47DB-913C-114EE9949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92885-4BDF-4D70-BF81-8BC5C2E1A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BC435-E530-444C-8F38-6A0A2F58B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BE565-B188-49C9-924C-9961BDFEB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3DC74-A07A-4BF3-8130-AFD598D85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2FF00-9945-4E85-A411-E31CFD920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A13A0-4AA4-4BEC-900F-C6773962F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33FD3-58A6-43C5-A068-920D00159F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aningful and Authentic Lear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Learning to Solve Problems with 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I 513: Dr. Thiem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36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80880" y="60948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581280" y="1143000"/>
            <a:ext cx="1981440" cy="91440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38080" y="2362320"/>
            <a:ext cx="2971800" cy="91440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ENT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952880" y="2209680"/>
            <a:ext cx="3200400" cy="106704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STRU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38080" y="5105520"/>
            <a:ext cx="3200400" cy="83808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UTHEN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105520" y="5029200"/>
            <a:ext cx="3124080" cy="91440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OPERA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838080" y="1219320"/>
            <a:ext cx="274320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38080" y="335268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038480" y="5943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 flipV="1">
            <a:off x="8153280" y="3200400"/>
            <a:ext cx="7632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62720" y="1143000"/>
            <a:ext cx="259056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36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60948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581280" y="1143000"/>
            <a:ext cx="1981440" cy="91440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838080" y="2362320"/>
            <a:ext cx="2971800" cy="91440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ENT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952880" y="2209680"/>
            <a:ext cx="3200400" cy="106704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STRU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38080" y="5105520"/>
            <a:ext cx="3200400" cy="83808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UTHEN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05520" y="5029200"/>
            <a:ext cx="3124080" cy="91440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OPERA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838080" y="1219320"/>
            <a:ext cx="274320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838080" y="335268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038480" y="5943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 flipV="1">
            <a:off x="8153280" y="3200400"/>
            <a:ext cx="7632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62720" y="1143000"/>
            <a:ext cx="259056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438280" y="3886200"/>
            <a:ext cx="441972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Disciplinary Content and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aningful Learning i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A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ents experiment, observe results, modify or manipulate their enviro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GTEP –try new technologies &amp; teaching strategies &amp; see what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6172200" y="2666880"/>
            <a:ext cx="189720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eaningful learning i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onstru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s construct meaning by reflecting on their experience, and developing new schema to accommodate discrepant information; organizing information; considering alternatives; developing hypothe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GTEP  Backwards Curriculum Design; Enduring Understanding, Essential Questions   ?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eaningful learning i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Intent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s are actively engaged in intentional decision making:  goal; strategies;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s reflect on their lea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GTEP: choose the topic &amp; curriculum standards for your mini unit; design lessons &amp; assessment strate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eaningful Learning i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Authent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ach knowledge &amp; skills through real world tasks, problem based learning in con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ex, messy probl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GTEP unit/lesson design are at heart of what teachers 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371600" y="1981080"/>
            <a:ext cx="2314440" cy="23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aningful Learning i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Cooperative/Conversation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ents work collaboratively in groups, develop multiple perspectives &amp; solutions; audience beyond the classroom or school; substantive oral, written commun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GTEP: working in teams to develop miniun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5380200" y="2556000"/>
            <a:ext cx="2574720" cy="26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Disciplinary Content &amp; Proce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nt: subject mat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terary genres, cause &amp; effect, number theory, properties of matter, chronology, historical evidence, scientific data, public issues, visual &amp; performing 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: ski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yzing 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ive or expository wr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u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view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pre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yz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quenc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29T03:04:40Z</dcterms:created>
  <dc:creator>thiemag</dc:creator>
  <dc:description/>
  <dc:language>en-US</dc:language>
  <cp:lastModifiedBy>Gayle Y. Thieman</cp:lastModifiedBy>
  <dcterms:modified xsi:type="dcterms:W3CDTF">2003-07-29T05:11:58Z</dcterms:modified>
  <cp:revision>5</cp:revision>
  <dc:subject/>
  <dc:title>Meaningful and Authentic Learning</dc:title>
</cp:coreProperties>
</file>