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B5A-409E-4018-ADF6-48217C7B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5CF-CA3A-41D9-AF9A-5AEADE21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295-2408-421A-B8F7-92531E81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848-6572-4C4D-AD5F-E2BA6772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69F-9DC4-4A88-80BE-07F6CDC4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F96-9F92-406F-98D5-08C8F98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0BF-0CC0-4838-AE71-E0D9B0E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A1B-E59B-48C6-9A4D-D51C26F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063-42A0-40E3-A262-D62E6D1A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978-56CB-4194-B232-26C72B04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7D-4C2B-490A-9006-1A3FD0E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7E0-8E29-4FEA-930B-A22915FD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9A0B-61AD-4067-81A0-2D785531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aningful and Authentic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arning to Solve Problems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513: Dr. Thi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581280" y="1143000"/>
            <a:ext cx="198144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2362320"/>
            <a:ext cx="297180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952880" y="2209680"/>
            <a:ext cx="320040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080" y="5105520"/>
            <a:ext cx="3200400" cy="8380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05520" y="5029200"/>
            <a:ext cx="3124080" cy="9144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838080" y="1219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83808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403848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 flipV="1">
            <a:off x="8153280" y="3200400"/>
            <a:ext cx="76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562720" y="1143000"/>
            <a:ext cx="25905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438280" y="3886200"/>
            <a:ext cx="4419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iplinary Content an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experiment, observe results, modify or manipulate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–try new technologies &amp; teaching strategies &amp; see wha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j0305257"/>
          <p:cNvPicPr/>
          <p:nvPr/>
        </p:nvPicPr>
        <p:blipFill>
          <a:blip r:embed="rId1"/>
          <a:stretch/>
        </p:blipFill>
        <p:spPr>
          <a:xfrm>
            <a:off x="6172200" y="2666880"/>
            <a:ext cx="1897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u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nstruct meaning by reflecting on their experience, and developing new schema to accommodate discrepant information; organizing information; considering alternatives; developing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  Backwards Curriculum Design; Enduring Understanding, Essential Questions  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ten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ctively engaged in intentional decision making:  goal; strategies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flect on thei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TEP: choose the topic &amp; curriculum standards for your lesson plan; design instruction &amp; assess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uthe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knowledge &amp; skills through real world tasks, problem based learning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, mess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 unit/lesson design are at heart of what teach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335112"/>
          <p:cNvPicPr/>
          <p:nvPr/>
        </p:nvPicPr>
        <p:blipFill>
          <a:blip r:embed="rId1"/>
          <a:stretch/>
        </p:blipFill>
        <p:spPr>
          <a:xfrm>
            <a:off x="1371600" y="1981080"/>
            <a:ext cx="23144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Learning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operative/Convers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ork collaboratively in groups, develop multiple perspectives &amp; solutions; audience beyond the classroom or school; substantive oral,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TEP: collaborate in teams to support less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0233018"/>
          <p:cNvPicPr/>
          <p:nvPr/>
        </p:nvPicPr>
        <p:blipFill>
          <a:blip r:embed="rId1"/>
          <a:stretch/>
        </p:blipFill>
        <p:spPr>
          <a:xfrm>
            <a:off x="538020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sciplinary Content &amp;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: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ry genres, cause &amp; effect, number theory, properties of matter, chronology, historical evidence, scientific data, public issues, visual &amp; performing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or expository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3:04:40Z</dcterms:created>
  <dc:creator>thiemag</dc:creator>
  <dc:description/>
  <dc:language>en-US</dc:language>
  <cp:lastModifiedBy>Gayle Thieman</cp:lastModifiedBy>
  <dcterms:modified xsi:type="dcterms:W3CDTF">2013-07-25T06:47:52Z</dcterms:modified>
  <cp:revision>6</cp:revision>
  <dc:subject/>
  <dc:title>Meaningful and Authentic Learning</dc:title>
</cp:coreProperties>
</file>