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730-7F2C-4121-B5C4-DE8465A6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CE72-8AFE-4727-AD6E-5F4AA500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22A-31AA-4EDF-8E7E-2C0B636E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540-87B0-46E3-B8FD-9A9CE341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C999-54D7-4763-94C6-E0F75AF1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B7E-A5B0-4922-93E6-D0EE47E9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4ED-5F27-46F9-AEE8-F4CDF057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3C10-338D-43A6-9426-BAFCC1CA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D28A-C2F9-4EC4-8187-FFFCA904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880-962E-4FEA-9BEA-45C8F6B2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562-1EC6-43E9-8181-101A0244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4C9-5E37-4E27-A125-3E557F8D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B08E-BE13-4F4E-A610-FD1A4ECF7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aningful and Authentic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arning to Solve Problems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513: Dr. Thi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3886200"/>
            <a:ext cx="4419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sciplinary Content an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experiment, observe results, modify or manipulate thei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–try new technologies &amp; teaching strategies &amp; see wha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72200" y="2666880"/>
            <a:ext cx="1897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stru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nstruct meaning by reflecting on their experience, and developing new schema to accommodate discrepant information; organizing information; considering alternatives; developing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  Backwards Curriculum Design; Enduring Understanding, Essential Questions  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en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actively engaged in intentional decision making:  goal; strategies;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reflect on thei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: choose the topic &amp; curriculum standards for your mini unit; design lessons &amp; assess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uthe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knowledge &amp; skills through real world tasks, problem based learning in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, mess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unit/lesson design are at heart of what teacher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2314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operative/Convers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ork collaboratively in groups, develop multiple perspectives &amp; solutions; audience beyond the classroom or school; substantive oral, written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: working in teams to develop mini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80200" y="2556000"/>
            <a:ext cx="25747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isciplinary Content &amp;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: subject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ry genres, cause &amp; effect, number theory, properties of matter, chronology, historical evidence, scientific data, public issues, visual &amp; performing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: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or expository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3:04:40Z</dcterms:created>
  <dc:creator>thiemag</dc:creator>
  <dc:description/>
  <dc:language>en-US</dc:language>
  <cp:lastModifiedBy>Gayle Y. Thieman</cp:lastModifiedBy>
  <dcterms:modified xsi:type="dcterms:W3CDTF">2003-07-29T05:11:58Z</dcterms:modified>
  <cp:revision>5</cp:revision>
  <dc:subject/>
  <dc:title>Meaningful and Authentic Learning</dc:title>
</cp:coreProperties>
</file>