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17DF-B106-48C3-AF1C-8A6EE6EAD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BE38-97B1-4802-A96A-2B4F6BAB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90E1-00F7-4730-B780-D11A0FA0D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2806-6201-48D1-B4C0-E9D24D74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19CC-98F1-47D5-BE9C-0DB38ADE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4C4B-70E1-4273-8632-A454A532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5907-26F0-403C-A9D6-0E2CAECB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5AFC-C6BC-48FC-93D8-C3400F4A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A880-A38E-42DD-A9C1-F54C6203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5900-7F25-4ADB-B9F8-C5C5F074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9821-894C-4716-87A4-3DA9E0B6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AB25-1D82-47FB-82DB-6C7311A9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965E-F6EF-49DD-835F-4CACF7BA7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aningful and Authentic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earning to Solve Problems with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513: Dr. Thie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143000"/>
            <a:ext cx="198144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362320"/>
            <a:ext cx="297180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N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952880" y="2209680"/>
            <a:ext cx="3200400" cy="106704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5105520"/>
            <a:ext cx="3200400" cy="83808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5029200"/>
            <a:ext cx="312408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838080" y="121932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352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5943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8153280" y="3200400"/>
            <a:ext cx="763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1143000"/>
            <a:ext cx="25905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143000"/>
            <a:ext cx="198144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362320"/>
            <a:ext cx="297180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N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2209680"/>
            <a:ext cx="3200400" cy="106704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5105520"/>
            <a:ext cx="3200400" cy="83808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05520" y="5029200"/>
            <a:ext cx="312408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838080" y="121932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3352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5943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8153280" y="3200400"/>
            <a:ext cx="763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62720" y="1143000"/>
            <a:ext cx="25905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3886200"/>
            <a:ext cx="44197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isciplinary Content and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experiment, observe results, modify or manipulate their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TEP –try new technologies &amp; teaching strategies &amp; see what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172200" y="2666880"/>
            <a:ext cx="1897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nstru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onstruct meaning by reflecting on their experience, and developing new schema to accommodate discrepant information; organizing information; considering alternatives; developing hypoth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TEP  Backwards Curriculum Design; Enduring Understanding, Essential Questions   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nten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are actively engaged in intentional decision making:  goal; strategies;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reflect on their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TEP: choose the topic &amp; curriculum standards for your mini unit; design lessons &amp; assessment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uthen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 knowledge &amp; skills through real world tasks, problem based learning in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, messy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TEP unit/lesson design are at heart of what teacher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231444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ooperative/Convers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ork collaboratively in groups, develop multiple perspectives &amp; solutions; audience beyond the classroom or school; substantive oral, written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TEP: working in teams to develop mini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80200" y="2556000"/>
            <a:ext cx="257472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isciplinary Content &amp;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: subject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ry genres, cause &amp; effect, number theory, properties of matter, chronology, historical evidence, scientific data, public issues, visual &amp; performing 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: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ing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ve or expository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ie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9T03:04:40Z</dcterms:created>
  <dc:creator>thiemag</dc:creator>
  <dc:description/>
  <dc:language>en-US</dc:language>
  <cp:lastModifiedBy>Gayle Y. Thieman</cp:lastModifiedBy>
  <dcterms:modified xsi:type="dcterms:W3CDTF">2003-07-29T05:11:58Z</dcterms:modified>
  <cp:revision>5</cp:revision>
  <dc:subject/>
  <dc:title>Meaningful and Authentic Learning</dc:title>
</cp:coreProperties>
</file>