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418-1874-4791-8F13-AB6430F5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06F-D6CF-49F3-B1D4-482BB4B8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885-AEFD-4C72-AC21-34DD767B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D3A-5315-4DE4-A247-53CFBB0D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F6285-A42E-4414-B69D-037C3DCF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A3DAA-4251-46B8-9593-D5DE92FD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0585D-9CAA-4A96-867C-6E5CD0A2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D7F6C-8A00-4010-AB52-9EC9C5D2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EC7CC-F80A-4709-85C6-79DF1C8D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52E1-7E7F-4830-966E-1F458160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1A8A-EAF4-4FE3-A9BA-EFBC3977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A6D-F00F-4B07-A437-10747D61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07F75-FE7F-4FF8-A186-3AF7362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6AC7E-D7D0-488C-9521-D3BA6F1B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ECA5A-389C-42A0-90BA-08B0E5E3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95E9E-B1F6-427E-9651-8BB40A48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74E7F-C1D2-44DB-9A2E-D665849E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BD5-5F51-40E8-A19B-7852EEE9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3D4-6D39-4401-833D-6A987E52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E05-B8DF-4714-BDF5-5DB670AE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2B0-BB8C-4C73-BB0A-CEC07D23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279-31FF-49BF-8EA4-06ECDA3E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2E8-D223-4C73-BF4A-4F3D3E1A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F7B-0289-4322-BDD8-41ED416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34C6-6C33-485D-B7C7-F89F04E875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1980-D83C-4494-A1C5-6870B0010A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comic"/>
              </a:rPr>
              <a:t>Durabrand </a:t>
            </a:r>
            <a:br>
              <a:rPr sz="4800"/>
            </a:br>
            <a:r>
              <a:rPr b="0" lang="en-US" sz="4800" spc="-1" strike="noStrike">
                <a:solidFill>
                  <a:srgbClr val="cc6600"/>
                </a:solidFill>
                <a:latin typeface="comic"/>
              </a:rPr>
              <a:t>the Mountain Ma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388584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and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r. Sh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e’s our probl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hat are the distances between the mountai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 know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33720" y="2514240"/>
            <a:ext cx="12952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581280"/>
            <a:ext cx="380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2120" y="3581280"/>
            <a:ext cx="1371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514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0" b="23411"/>
          <a:stretch/>
        </p:blipFill>
        <p:spPr>
          <a:xfrm>
            <a:off x="3048120" y="205740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16667" r="0" b="23346"/>
          <a:stretch/>
        </p:blipFill>
        <p:spPr>
          <a:xfrm>
            <a:off x="1905120" y="44956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3880" t="3880" r="45633" b="57292"/>
          <a:stretch/>
        </p:blipFill>
        <p:spPr>
          <a:xfrm>
            <a:off x="152280" y="31240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876240" cy="590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6248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laimer: Not drawn to 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fter Durabrand’s hike we know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O=7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nce F is in the middle, it bisects ∠BRO.  Therefore ∠BRF = 35° and ∠FRO = 3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so, FR = 13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5800" y="2209680"/>
            <a:ext cx="3124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23720" y="2209680"/>
            <a:ext cx="68580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505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724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58128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5120" y="350496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62320" y="312408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ree pieces of inf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wo angles and one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ngle sum theorem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B=1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w of S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 = 38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 = 28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76360" y="2286000"/>
            <a:ext cx="6858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914400" y="3505320"/>
            <a:ext cx="2362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914400" y="2285640"/>
            <a:ext cx="30481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0574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5053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gruent Triangl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= 13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O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RB = 35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F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R = 13 = 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∆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R is congruent to ∆OFR by 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R = 38.5 = 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F = 28.8 = 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09680" y="266688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" y="2666520"/>
            <a:ext cx="24382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57200" y="3733560"/>
            <a:ext cx="17524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3733920"/>
            <a:ext cx="5335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43200" y="2666880"/>
            <a:ext cx="152280" cy="24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02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286000" y="48765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88620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st Triangle - Isoce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BF and 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’re the same, so ISOCELES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nce a circle has 36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∠F = 1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Triangle sum theorem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B = 4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° =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w of Sines             BO = 44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440" y="2666880"/>
            <a:ext cx="2133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2666880"/>
            <a:ext cx="38088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24080"/>
            <a:ext cx="251460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133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-l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" y="2133360"/>
            <a:ext cx="16765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00400" y="2666520"/>
            <a:ext cx="2286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2437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lution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tance from Mt. B to Mt. R is 38.5, the same as from Mt. R to Mt. 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Mt. O to Mt. B it’s 44.1 m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a perimeter of 121.1 m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23411"/>
          <a:stretch/>
        </p:blipFill>
        <p:spPr>
          <a:xfrm>
            <a:off x="3048120" y="2057400"/>
            <a:ext cx="89532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rcRect l="3880" t="3880" r="45633" b="57292"/>
          <a:stretch/>
        </p:blipFill>
        <p:spPr>
          <a:xfrm>
            <a:off x="152280" y="31240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0" t="16667" r="0" b="23346"/>
          <a:stretch/>
        </p:blipFill>
        <p:spPr>
          <a:xfrm>
            <a:off x="1905120" y="44956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7180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1981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2120" y="2438280"/>
            <a:ext cx="25905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429000"/>
            <a:ext cx="17524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438280" y="2362320"/>
            <a:ext cx="106704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hikers really do things like this when they’re bored and alone on the tr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se distances accurate for a hik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you have to use Law of Sines on the last triangle since it was isoce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is an effective presen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3:37:43Z</dcterms:created>
  <dc:creator>LCT-Generic</dc:creator>
  <dc:description/>
  <dc:language>en-US</dc:language>
  <cp:lastModifiedBy>Portland State University</cp:lastModifiedBy>
  <dcterms:modified xsi:type="dcterms:W3CDTF">2009-03-09T17:28:39Z</dcterms:modified>
  <cp:revision>6</cp:revision>
  <dc:subject/>
  <dc:title>Durabrand  the Mountain Man</dc:title>
</cp:coreProperties>
</file>