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53E-8529-458C-B10B-453B344F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2A8-82B1-4965-A79A-A4EEE4F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0E0-5311-41E2-A6E0-BDA46CB9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CD1-CB89-4823-9CAE-5616441B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C46DE-7DA0-4064-81FC-2A95F430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15D9C-20A1-458A-8BA0-5FADCA0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528F-5379-423B-890D-B7EAF5AA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2447D-CCBE-46F3-BA47-EDD7296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68289-28DF-4CD4-871E-C9F6A3E3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53643-209B-41BD-8E3F-BCD6CB2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23E8A-4F12-4880-9D0E-E7984A12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786-31F6-4646-9235-6EBF5E5A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6E950-BB75-44BD-AC9D-A707555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BCC3D-B2E5-46F1-87E8-CFB86104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63601-73A5-4B40-8FED-BFF30F20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8E5E-81D8-47CB-8BD0-C5348A57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CC573-A9F1-4BF8-91B6-638DE1D2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0C9-0041-40DF-A752-4062F473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836-FEF3-48AD-9FC3-4CB14A56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B14-2BEE-4563-A1B0-4383E706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58D-F885-42EB-81A2-F2E6E57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D52-CDAB-47F9-B66B-5A26684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321-1DAB-4F55-9E94-22B8C944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CF6-45D5-4E79-A031-ADBE0C4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B5AD-8DB4-451F-BE33-BA0302B950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80DE-3A02-452E-A634-8C9D34FB0D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Durabrand 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the Mountain Ma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and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Sh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e’s our probl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re the distances between the mountai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know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33720" y="2514240"/>
            <a:ext cx="1295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581280"/>
            <a:ext cx="380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120" y="35812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514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876240" cy="5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laimer: Not drawn to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fter Durabrand’s hike we know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=7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F is in the middle, it bisects ∠BRO.  Therefore ∠BRF = 35° and ∠FRO = 3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, FR = 13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5800" y="2209680"/>
            <a:ext cx="3124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2209680"/>
            <a:ext cx="6858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05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8128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5120" y="350496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1240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ree pieces of inf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wo angles and one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=1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76360" y="228600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14400" y="3505320"/>
            <a:ext cx="2362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14400" y="2285640"/>
            <a:ext cx="30481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0574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053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gruent Triang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1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B = 35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F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 = 13 = 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is congruent to ∆OFR by 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 = 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 =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09680" y="26668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" y="2666520"/>
            <a:ext cx="24382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" y="3733560"/>
            <a:ext cx="17524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733920"/>
            <a:ext cx="5335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43200" y="2666880"/>
            <a:ext cx="15228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286000" y="4876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8862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st Triangle - Isoce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BF and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’re the same, so ISOCELES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a circle has 36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∠F = 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 =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             BO = 44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2666880"/>
            <a:ext cx="2133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2666880"/>
            <a:ext cx="3808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25146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" y="2133360"/>
            <a:ext cx="16765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00400" y="26665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2437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lution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 from Mt. B to Mt. R is 38.5, the same as from Mt. R to Mt.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t. O to Mt. B it’s 44.1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a perimeter of 121.1 m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120" y="2438280"/>
            <a:ext cx="25905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38280" y="2362320"/>
            <a:ext cx="106704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hikers really do things like this when they’re bored and alone on the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se distances accurate for a hik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have to use Law of Sines on the last triangle since it was isoce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is an effective presen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3:37:43Z</dcterms:created>
  <dc:creator>LCT-Generic</dc:creator>
  <dc:description/>
  <dc:language>en-US</dc:language>
  <cp:lastModifiedBy>Portland State University</cp:lastModifiedBy>
  <dcterms:modified xsi:type="dcterms:W3CDTF">2009-03-09T17:28:39Z</dcterms:modified>
  <cp:revision>6</cp:revision>
  <dc:subject/>
  <dc:title>Durabrand  the Mountain Man</dc:title>
</cp:coreProperties>
</file>