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152-C35D-4C02-A090-44680137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766-B50B-4DD8-A863-7A567C3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79C-30BF-4C01-B0C4-798283C8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DB8-27BC-4AEB-86A2-5C0C6A61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F1F89-486A-4711-8EFE-633A2F7E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FCEB0-36F0-4D8D-AD78-9F2130E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AD21B-D37F-4B0D-8EDF-6164FB7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61C56-4547-487A-B09E-EAF9187B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9F36-AACC-4FE7-9C66-BAD499CE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1E01-52E4-45FA-986E-805245F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2333D-EEEA-46A4-9F0C-9A195AB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C9B-4CE4-43BE-A257-65DD5F7D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3F26-23A1-4289-8795-E93487B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5C3E-A579-4086-B172-163EF4D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2B8AB-0DB0-478A-84CC-AE562874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1D0C-D20F-4976-8481-A2D8EFAC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A0A6D-A12B-4111-804A-C16566F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D50-7D74-471C-82A8-A2801E3C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DD7-56E6-4B9F-AE32-D61E6D9C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40B-BB4D-4ABA-99EB-B579084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78E-879D-4D43-A7E7-E9D2B86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95A-567A-4381-8AA3-41F17C1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307-061E-4329-A6CC-A223041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3E5-48C3-410B-A176-80E421D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A91-2BC4-4508-AC3D-1AB955CD3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215E-9C32-4AD1-BEE5-5ACBDB8DB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Durabrand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the Mountain Ma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nd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Sh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e’s our probl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re the distances between the mountai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know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2514240"/>
            <a:ext cx="1295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581280"/>
            <a:ext cx="380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120" y="35812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514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876240" cy="5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laimer: Not drawn to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fter Durabrand’s hike we know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=7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F is in the middle, it bisects ∠BRO.  Therefore ∠BRF = 35° and ∠FRO = 3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, FR = 13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5800" y="2209680"/>
            <a:ext cx="3124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2209680"/>
            <a:ext cx="685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8128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5120" y="350496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1240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pieces of inf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wo angles and one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=1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76360" y="228600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3505320"/>
            <a:ext cx="2362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14400" y="2285640"/>
            <a:ext cx="3048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0574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053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gruent Triang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1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B = 3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F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 = 13 = 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is congruent to ∆OFR by 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 = 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 =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9680" y="26668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" y="266652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" y="3733560"/>
            <a:ext cx="17524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733920"/>
            <a:ext cx="5335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43200" y="2666880"/>
            <a:ext cx="15228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86000" y="4876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8862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t Triangle - Isoce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BF and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’re the same, so ISOCELES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a circle has 36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∠F = 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 =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             BO = 44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2666880"/>
            <a:ext cx="2133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666880"/>
            <a:ext cx="3808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25146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" y="2133360"/>
            <a:ext cx="16765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00400" y="26665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lution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from Mt. B to Mt. R is 38.5, the same as from Mt. R to Mt.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t. O to Mt. B it’s 44.1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a perimeter of 121.1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120" y="2438280"/>
            <a:ext cx="25905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38280" y="2362320"/>
            <a:ext cx="106704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hikers really do things like this when they’re bored and alone on the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se distances accurate for a hik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to use Law of Sines on the last triangle since it was isoce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is an effective pres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3:37:43Z</dcterms:created>
  <dc:creator>LCT-Generic</dc:creator>
  <dc:description/>
  <dc:language>en-US</dc:language>
  <cp:lastModifiedBy>Portland State University</cp:lastModifiedBy>
  <dcterms:modified xsi:type="dcterms:W3CDTF">2009-03-09T17:28:39Z</dcterms:modified>
  <cp:revision>6</cp:revision>
  <dc:subject/>
  <dc:title>Durabrand  the Mountain Man</dc:title>
</cp:coreProperties>
</file>