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E92C-C798-4443-BABC-3BDA9634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D82-5BF7-456F-8807-2262E17D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BCB8-D55A-4F70-9776-39895FA3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A659-D236-44CD-B636-B93B5F34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6DDCD-05EC-4A65-91D5-72C14D91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D8278-CD22-4A00-A477-2530DA4A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2B4E8-04E2-4533-AB3C-C4D0F5A5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D3036-5187-4401-948B-96888181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A0659-4640-43FB-AC5B-E1333874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8D659-5FC3-4F55-B1CC-1DD93B39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22AC1-55EB-4E92-93E4-1058FB7E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2ECA-CDD9-4570-9FFF-1BF1D0D7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0E5A1-42E3-46B3-8A55-7A44131A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01FC0-2DA7-4C98-A2A8-86BF8E10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93BA7-57F4-4148-8972-2FA1366D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2EC2E-F8E6-4163-9F8D-9839C844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0AAA8-8B0B-4950-BD8B-695CF4C5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DF32-38BF-4570-8565-FF20431F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CF7F-B53D-4A61-A8C9-DCD15864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F14B-34AA-41C6-840F-8726712A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2D91-7765-4C38-93E5-B0B18DE9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431-270A-4FCD-AE0D-E1ACE48F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2FA-02B9-4E79-9A79-2C58927D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7DFD-6479-4B01-9C5C-4D3B969F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741C-EAF4-4A22-A52A-0870CB22AD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04A9-A5A4-44D4-82C1-B02693E4A8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comic"/>
              </a:rPr>
              <a:t>Durabrand </a:t>
            </a:r>
            <a:br>
              <a:rPr sz="4800"/>
            </a:br>
            <a:r>
              <a:rPr b="0" lang="en-US" sz="4800" spc="-1" strike="noStrike">
                <a:solidFill>
                  <a:srgbClr val="cc6600"/>
                </a:solidFill>
                <a:latin typeface="comic"/>
              </a:rPr>
              <a:t>the Mountain Man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33160" y="388584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 and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Mr. Shel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2819520"/>
            <a:ext cx="26290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re’s our probl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hat are the distances between the mountai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e know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FR 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0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R 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0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133720" y="2514240"/>
            <a:ext cx="129528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581280"/>
            <a:ext cx="38088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62120" y="3581280"/>
            <a:ext cx="13716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1981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2514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0" r="0" b="23411"/>
          <a:stretch/>
        </p:blipFill>
        <p:spPr>
          <a:xfrm>
            <a:off x="3048120" y="2057400"/>
            <a:ext cx="89532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rcRect l="0" t="16667" r="0" b="23346"/>
          <a:stretch/>
        </p:blipFill>
        <p:spPr>
          <a:xfrm>
            <a:off x="1905120" y="449568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rcRect l="3880" t="3880" r="45633" b="57292"/>
          <a:stretch/>
        </p:blipFill>
        <p:spPr>
          <a:xfrm>
            <a:off x="152280" y="31240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371600" y="2895480"/>
            <a:ext cx="876240" cy="590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04920" y="62485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laimer: Not drawn to sc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fter Durabrand’s hike we know…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RO=70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ince F is in the middle, it bisects ∠BRO.  Therefore ∠BRF = 35° and ∠FRO = 35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so, FR = 13 m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85800" y="2209680"/>
            <a:ext cx="31240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123720" y="2209680"/>
            <a:ext cx="68580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1676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3505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4724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35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-l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358128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1905120" y="350496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362320" y="3124080"/>
            <a:ext cx="5331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ree pieces of inf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know two angles and one 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angle sum theorem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B=15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w of S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R = 38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F = 28.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76360" y="2286000"/>
            <a:ext cx="68580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914400" y="3505320"/>
            <a:ext cx="2362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914400" y="2285640"/>
            <a:ext cx="304812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962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1752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5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2057400"/>
            <a:ext cx="10666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0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35053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gruent Triangle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FR = 13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° =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OF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RB = 35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° =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F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R = 13 = F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∆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FR is congruent to ∆OFR by 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ref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R = 38.5 = 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F = 28.8 = 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209680" y="2666880"/>
            <a:ext cx="68580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" y="2666520"/>
            <a:ext cx="243828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57200" y="3733560"/>
            <a:ext cx="17524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3733920"/>
            <a:ext cx="53352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743200" y="2666880"/>
            <a:ext cx="152280" cy="24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2209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5029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286000" y="487656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3886200"/>
            <a:ext cx="3808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st Triangle - Isoce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know BF and 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’re the same, so ISOCELES!!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ince a circle has 36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°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, ∠F = 1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Triangle sum theorem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B = 4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° =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w of Sines             BO = 44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85440" y="2666880"/>
            <a:ext cx="21337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2666880"/>
            <a:ext cx="38088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124080"/>
            <a:ext cx="251460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2133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-l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2514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85800" y="2133360"/>
            <a:ext cx="16765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200400" y="2666520"/>
            <a:ext cx="22860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819520" y="24379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lution!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stance from Mt. B to Mt. R is 38.5, the same as from Mt. R to Mt. 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Mt. O to Mt. B it’s 44.1 m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’s a perimeter of 121.1 m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0" t="0" r="0" b="23411"/>
          <a:stretch/>
        </p:blipFill>
        <p:spPr>
          <a:xfrm>
            <a:off x="3048120" y="2057400"/>
            <a:ext cx="895320" cy="685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rcRect l="3880" t="3880" r="45633" b="57292"/>
          <a:stretch/>
        </p:blipFill>
        <p:spPr>
          <a:xfrm>
            <a:off x="152280" y="31240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rcRect l="0" t="16667" r="0" b="23346"/>
          <a:stretch/>
        </p:blipFill>
        <p:spPr>
          <a:xfrm>
            <a:off x="1905120" y="4495680"/>
            <a:ext cx="114300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97180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1981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62120" y="2438280"/>
            <a:ext cx="25905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3429000"/>
            <a:ext cx="17524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438280" y="2362320"/>
            <a:ext cx="106704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hikers really do things like this when they’re bored and alone on the trai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se distances accurate for a hik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have to use Law of Sines on the last triangle since it was isocel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this an effective presen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23:37:43Z</dcterms:created>
  <dc:creator>LCT-Generic</dc:creator>
  <dc:description/>
  <dc:language>en-US</dc:language>
  <cp:lastModifiedBy>Portland State University</cp:lastModifiedBy>
  <dcterms:modified xsi:type="dcterms:W3CDTF">2009-03-09T17:28:39Z</dcterms:modified>
  <cp:revision>6</cp:revision>
  <dc:subject/>
  <dc:title>Durabrand  the Mountain Man</dc:title>
</cp:coreProperties>
</file>