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F87DC-AE8F-4BB5-8002-DD31DD2B0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AD566-7420-4715-B36C-A5EA8C638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C5451-DADC-4B1D-9445-7BA04E477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7BD7A-E3A8-47FF-8E93-EBCDE3355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F9B25-507C-4B79-B06B-45C048491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26F31-C054-4700-9B3E-C7D2A079F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DCD7F-723D-487A-8C9E-82E2E2AFF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FB056-1899-4BDD-8318-1E28C3230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29BB0-23BE-4E89-B573-2CEE27B8B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C6468-A633-436D-9A6C-DCBF38435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47E9E-FC90-4C96-AA5C-767EF641E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74BEC-4298-47A8-9E24-828F741A48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344B4-3D9B-4107-A45F-4E0FE662F5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ng an Authentic Assessment</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Lewis and Clark Storyl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scribe the Task</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will participate in a Storyline based on the Lewis and Clark expedition.  They will use their imagination, creativity, and skills in research, decision making, writing, artistic composition as well as geographic, historical and scientific knowledge to solve problems in six episod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  What does  it mean to be an explorer on an unmapped journe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Knowledge and Higher Order Thinking Skills Students Will Use</a:t>
            </a:r>
            <a:endParaRPr b="0" lang="en-US" sz="3200" spc="-1" strike="noStrike">
              <a:solidFill>
                <a:srgbClr val="000000"/>
              </a:solidFill>
              <a:latin typeface="Times New Roman"/>
            </a:endParaRPr>
          </a:p>
        </p:txBody>
      </p:sp>
      <p:sp>
        <p:nvSpPr>
          <p:cNvPr id="4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rt EALRs</a:t>
            </a:r>
            <a:endParaRPr b="0" lang="en-US" sz="28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amp; apply arts concepts &amp; vocabulary to communicate idea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ze art elements into artistic compositions (frieze)</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nd develop arts skills to solve problems/express ideas</a:t>
            </a:r>
            <a:endParaRPr b="0" lang="en-US" sz="2400" spc="-1" strike="noStrike">
              <a:solidFill>
                <a:srgbClr val="000000"/>
              </a:solidFill>
              <a:latin typeface="Times New Roman"/>
            </a:endParaRPr>
          </a:p>
        </p:txBody>
      </p:sp>
      <p:sp>
        <p:nvSpPr>
          <p:cNvPr id="4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kill of craftsmanshi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present artworks using visual arts, music,drama, da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te &amp; analyze solutions to problems using creativity &amp; imagina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gnize the influence of the arts in shaping &amp; reflecting cultu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ocial Studies</a:t>
            </a:r>
            <a:r>
              <a:rPr b="1" lang="en-US" sz="4400" spc="-1" strike="noStrike">
                <a:solidFill>
                  <a:srgbClr val="000000"/>
                </a:solidFill>
                <a:latin typeface="Times New Roman"/>
              </a:rPr>
              <a:t> </a:t>
            </a:r>
            <a:r>
              <a:rPr b="1" lang="en-US" sz="3600" spc="-1" strike="noStrike">
                <a:solidFill>
                  <a:srgbClr val="000000"/>
                </a:solidFill>
                <a:latin typeface="Times New Roman"/>
              </a:rPr>
              <a:t>EALRs</a:t>
            </a:r>
            <a:endParaRPr b="0" lang="en-US" sz="3600" spc="-1" strike="noStrike">
              <a:solidFill>
                <a:srgbClr val="000000"/>
              </a:solidFill>
              <a:latin typeface="Times New Roman"/>
            </a:endParaRPr>
          </a:p>
        </p:txBody>
      </p:sp>
      <p:sp>
        <p:nvSpPr>
          <p:cNvPr id="49" name="PlaceHolder 2"/>
          <p:cNvSpPr>
            <a:spLocks noGrp="1"/>
          </p:cNvSpPr>
          <p:nvPr>
            <p:ph/>
          </p:nvPr>
        </p:nvSpPr>
        <p:spPr>
          <a:xfrm>
            <a:off x="761760" y="1523880"/>
            <a:ext cx="380988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ONOMIC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that when trade occurs, people benefit &amp; have a broader range of choi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supply &amp; demand &amp; interaction between the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GRAPH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data &amp; variety of symbols, colors, to create thematic maps &amp; graphs depicting geographic information</a:t>
            </a:r>
            <a:endParaRPr b="0" lang="en-US" sz="2400" spc="-1" strike="noStrike">
              <a:solidFill>
                <a:srgbClr val="000000"/>
              </a:solidFill>
              <a:latin typeface="Times New Roman"/>
            </a:endParaRPr>
          </a:p>
        </p:txBody>
      </p:sp>
      <p:sp>
        <p:nvSpPr>
          <p:cNvPr id="50" name="PlaceHolder 3"/>
          <p:cNvSpPr>
            <a:spLocks noGrp="1"/>
          </p:cNvSpPr>
          <p:nvPr>
            <p:ph/>
          </p:nvPr>
        </p:nvSpPr>
        <p:spPr>
          <a:xfrm>
            <a:off x="4571640" y="1295280"/>
            <a:ext cx="380988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te physical &amp; human features &amp; events on map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bservation, maps, &amp; other tools to identify, compare, contrast, the physical characteristics of places &amp; regions &amp; the patterns humans mak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the ways people use the environment; identify consequences of use &amp; consider possible alternativ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09480" y="1219320"/>
            <a:ext cx="381024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 how differing environments provide opportunities &amp; set limits &amp; how people adapt to their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how cultural traditions are expressed through artistic creations &amp; use of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gnize the positive &amp; negative outcomes that can result when people of different cultural backgrounds</a:t>
            </a:r>
            <a:endParaRPr b="0" lang="en-US" sz="2400" spc="-1" strike="noStrike">
              <a:solidFill>
                <a:srgbClr val="000000"/>
              </a:solidFill>
              <a:latin typeface="Times New Roman"/>
            </a:endParaRPr>
          </a:p>
        </p:txBody>
      </p:sp>
      <p:sp>
        <p:nvSpPr>
          <p:cNvPr id="53" name="PlaceHolder 3"/>
          <p:cNvSpPr>
            <a:spLocks noGrp="1"/>
          </p:cNvSpPr>
          <p:nvPr>
            <p:ph/>
          </p:nvPr>
        </p:nvSpPr>
        <p:spPr>
          <a:xfrm>
            <a:off x="4647960" y="1219320"/>
            <a:ext cx="3809880" cy="48765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 and understand how an awareness of cultural traditions can help in cross cultural communicatio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events &amp; individuals by broadly defined historical eras &amp; develop related timelin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evidence to support, identify, analyze causal factors contributing to historical ev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quiry &amp; Research Skills</a:t>
            </a:r>
            <a:endParaRPr b="0" lang="en-US" sz="3600" spc="-1" strike="noStrike">
              <a:solidFill>
                <a:srgbClr val="000000"/>
              </a:solidFill>
              <a:latin typeface="Times New Roman"/>
            </a:endParaRPr>
          </a:p>
        </p:txBody>
      </p:sp>
      <p:sp>
        <p:nvSpPr>
          <p:cNvPr id="55" name="PlaceHolder 2"/>
          <p:cNvSpPr>
            <a:spLocks noGrp="1"/>
          </p:cNvSpPr>
          <p:nvPr>
            <p:ph/>
          </p:nvPr>
        </p:nvSpPr>
        <p:spPr>
          <a:xfrm>
            <a:off x="685440" y="1219320"/>
            <a:ext cx="3809880" cy="48765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key words, develop search strategies, locate sources, distinguish between primary &amp; secondary source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gnize relevant facts &amp; ideas; evaluate bias of sources; classify info as fact/opinion</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notes, paraphrase, summarize, enter data</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product that uses content to support findings, present product to audience</a:t>
            </a:r>
            <a:endParaRPr b="0" lang="en-US" sz="2400" spc="-1" strike="noStrike">
              <a:solidFill>
                <a:srgbClr val="000000"/>
              </a:solidFill>
              <a:latin typeface="Times New Roman"/>
            </a:endParaRPr>
          </a:p>
        </p:txBody>
      </p:sp>
      <p:sp>
        <p:nvSpPr>
          <p:cNvPr id="56" name="PlaceHolder 3"/>
          <p:cNvSpPr>
            <a:spLocks noGrp="1"/>
          </p:cNvSpPr>
          <p:nvPr>
            <p:ph/>
          </p:nvPr>
        </p:nvSpPr>
        <p:spPr>
          <a:xfrm>
            <a:off x="4647960" y="1294920"/>
            <a:ext cx="3809880" cy="48006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e in delegating duties, establishing rules, planning, making decisions, taking action in group settings</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dentify appropriate people to gain needed information, ask questions</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advantages &amp; disadvantages, suggest alternative solutions, predict probable consequences</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nstruct &amp; express others’ points of view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Student Products or  Performances in Detail; Develop Prompt</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have just arrived at the site and each member of the group has been assigned to do reconnaissance.  </a:t>
            </a:r>
            <a:endParaRPr b="0" lang="en-US" sz="2800" spc="-1" strike="noStrike">
              <a:solidFill>
                <a:srgbClr val="000000"/>
              </a:solidFill>
              <a:latin typeface="Times New Roman"/>
            </a:endParaRPr>
          </a:p>
          <a:p>
            <a:pPr marL="318960" indent="-3189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geographic features do you note?  </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topography? </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do you think the site is located? How do you know?</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weather like?  Is it changing? </a:t>
            </a:r>
            <a:endParaRPr b="0" lang="en-US" sz="2000" spc="-1" strike="noStrike">
              <a:solidFill>
                <a:srgbClr val="000000"/>
              </a:solidFill>
              <a:latin typeface="Times New Roman"/>
            </a:endParaRPr>
          </a:p>
          <a:p>
            <a:pPr marL="318960" indent="-31896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challenges do you think the environment will cause for your group?</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a record of the environment in your journal</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the frieze create a site map showing key elements of the topography</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dict what challenges the environment is causing or will cause for your group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eate a Scoring Rubric</a:t>
            </a:r>
            <a:endParaRPr b="0" lang="en-US" sz="3600" spc="-1" strike="noStrike">
              <a:solidFill>
                <a:srgbClr val="000000"/>
              </a:solidFill>
              <a:latin typeface="Times New Roman"/>
            </a:endParaRPr>
          </a:p>
        </p:txBody>
      </p:sp>
      <p:graphicFrame>
        <p:nvGraphicFramePr>
          <p:cNvPr id="60" name=""/>
          <p:cNvGraphicFramePr/>
          <p:nvPr/>
        </p:nvGraphicFramePr>
        <p:xfrm>
          <a:off x="685800" y="1295280"/>
          <a:ext cx="7772400" cy="16482960"/>
        </p:xfrm>
        <a:graphic>
          <a:graphicData uri="http://schemas.openxmlformats.org/drawingml/2006/table">
            <a:tbl>
              <a:tblPr/>
              <a:tblGrid>
                <a:gridCol w="1676520"/>
                <a:gridCol w="1523880"/>
                <a:gridCol w="1463760"/>
                <a:gridCol w="1554120"/>
                <a:gridCol w="1554120"/>
              </a:tblGrid>
              <a:tr h="960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s of Friez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mplary</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icien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a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ganize art elements into artistic compositions: value, space, color, texture, perspective, line, shading, shadow, shap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sive use &amp; representation of many elements; shows personal investment, variety of techniques, artwork includes all criteria, info is neat, organize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amp; representation of some elements of art; project is complete &amp; organized; exemplifies knowledge of basic design of elements of ar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least 1 element of art represented; work is complete but lacks detailed representation of info;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or minimal use of elements of art; work is unorganized and untidy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t work is incomplet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1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creativity, originality  and imagin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s wide variety of art elements. &amp; frieze accurately represents the to topi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s various art elements &amp;product is mostly accurate in representing topi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s some art elements &amp; product is partially accurat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s few art elements &amp; product is not accurat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14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data &amp; symbols to create map</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critical elements are present plus one more: location, accuracy, reflect season, dat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 is correctly proportioned; depicts all major land features; 4 of 5 geographic themes are presen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sing one of the critical element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ortions are nearly correct; depicts ore than half of the major land forms; 3 of 5 geographic themes are presen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sing two critical element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cks proficiency in one of three areas: proportion, landforms, them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e of the critical elements are present</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ck proficiency in two or more areas: proportion, landforms, them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3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ate physical &amp; human features on map</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features are easily recognizable key &amp; compass used accurate topography 3 physical &amp; 3 human trait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of multicultural perspectiv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features are recognizable; key or compass used; use of topography; some physical &amp; human traits; some use of multicultural perspectiv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features are represented; inaccurate use of key or compass; topographic elements are apparent; minimal use of physical or human traits; minimal use of multicultural perspectiv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features are not recognizable; no key or compass; little effort in topography; no physical or human traits; no use of multicultural perspectiv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6T13:33:49Z</dcterms:created>
  <dc:creator>Gayle Y. Thieman</dc:creator>
  <dc:description/>
  <dc:language>en-US</dc:language>
  <cp:lastModifiedBy>Gayle Thieman</cp:lastModifiedBy>
  <dcterms:modified xsi:type="dcterms:W3CDTF">2008-02-20T16:27:12Z</dcterms:modified>
  <cp:revision>14</cp:revision>
  <dc:subject/>
  <dc:title>Constructing an Authentic Assessment</dc:title>
</cp:coreProperties>
</file>