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DC6BB-F42A-4D79-BBDF-8C01E156A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B1E3F-34B5-4AF1-BD75-A3967AFE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9BD5-2327-45C1-88A7-D0E221547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AC590-194D-472D-B4DA-D4135F0F5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D852-873D-4BCC-932A-FD9189E8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11727-F7EE-419E-8D35-17FB461A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9ABB8-57DE-4692-BDAF-4A80B9B17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FF699-4EA5-4D62-9672-98E9B6441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107CE-D4BB-4449-90EE-45F83AF9D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7DD1-10C0-47E7-A1D5-120EA89E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0046-B95B-4E4E-9871-B1B6131A6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1768-789F-47C1-B62F-9D695D82E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9E99-2062-4412-9603-2F7D73D1F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an Authentic Assess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wis and Clark Story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e the Task</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ll participate in a Storyline based on the Lewis and Clark expedition.  They will use their imagination, creativity, and skills in research, decision making, writing, artistic composition as well as geographic, historical and scientific knowledge to solve problems in six episo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  What does  it mean to be an explorer on an unmapped journ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Knowledge and Higher Order Thinking Skills Students Will Use</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EALR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mp; apply arts concepts &amp; vocabulary to communicate idea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 art elements into artistic compositions (friez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d develop arts skills to solve problems/express ideas</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kill of craftsmansh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present artworks using visual arts, music,drama, d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amp; analyze solutions to problems using creativity &amp; imagin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influence of the arts in shaping &amp; reflecting cul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cial Studies</a:t>
            </a:r>
            <a:r>
              <a:rPr b="1" lang="en-US" sz="4400" spc="-1" strike="noStrike">
                <a:solidFill>
                  <a:srgbClr val="000000"/>
                </a:solidFill>
                <a:latin typeface="Times New Roman"/>
              </a:rPr>
              <a:t> </a:t>
            </a:r>
            <a:r>
              <a:rPr b="1" lang="en-US" sz="3600" spc="-1" strike="noStrike">
                <a:solidFill>
                  <a:srgbClr val="000000"/>
                </a:solidFill>
                <a:latin typeface="Times New Roman"/>
              </a:rPr>
              <a:t>EALRs</a:t>
            </a:r>
            <a:endParaRPr b="0" lang="en-US" sz="3600" spc="-1" strike="noStrike">
              <a:solidFill>
                <a:srgbClr val="000000"/>
              </a:solidFill>
              <a:latin typeface="Times New Roman"/>
            </a:endParaRPr>
          </a:p>
        </p:txBody>
      </p:sp>
      <p:sp>
        <p:nvSpPr>
          <p:cNvPr id="49" name="PlaceHolder 2"/>
          <p:cNvSpPr>
            <a:spLocks noGrp="1"/>
          </p:cNvSpPr>
          <p:nvPr>
            <p:ph/>
          </p:nvPr>
        </p:nvSpPr>
        <p:spPr>
          <a:xfrm>
            <a:off x="761760" y="15238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at when trade occurs, people benefit &amp; have a broader range of cho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supply &amp; demand &amp; interaction between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GRAP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ata &amp; variety of symbols, colors, to create thematic maps &amp; graphs depicting geographic information</a:t>
            </a:r>
            <a:endParaRPr b="0" lang="en-US" sz="2400" spc="-1" strike="noStrike">
              <a:solidFill>
                <a:srgbClr val="000000"/>
              </a:solidFill>
              <a:latin typeface="Times New Roman"/>
            </a:endParaRPr>
          </a:p>
        </p:txBody>
      </p:sp>
      <p:sp>
        <p:nvSpPr>
          <p:cNvPr id="50" name="PlaceHolder 3"/>
          <p:cNvSpPr>
            <a:spLocks noGrp="1"/>
          </p:cNvSpPr>
          <p:nvPr>
            <p:ph/>
          </p:nvPr>
        </p:nvSpPr>
        <p:spPr>
          <a:xfrm>
            <a:off x="4571640" y="12952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 physical &amp; human features &amp; events on map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bservation, maps, &amp; other tools to identify, compare, contrast, the physical characteristics of places &amp; regions &amp; the patterns humans mak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ways people use the environment; identify consequences of use &amp; consider possible alternativ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09480" y="1219320"/>
            <a:ext cx="38102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how differing environments provide opportunities &amp; set limits &amp; how people adapt to their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cultural traditions are expressed through artistic creations &amp; use of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positive &amp; negative outcomes that can result when people of different cultural backgrounds</a:t>
            </a:r>
            <a:endParaRPr b="0" lang="en-US" sz="2400" spc="-1" strike="noStrike">
              <a:solidFill>
                <a:srgbClr val="000000"/>
              </a:solidFill>
              <a:latin typeface="Times New Roman"/>
            </a:endParaRPr>
          </a:p>
        </p:txBody>
      </p:sp>
      <p:sp>
        <p:nvSpPr>
          <p:cNvPr id="53" name="PlaceHolder 3"/>
          <p:cNvSpPr>
            <a:spLocks noGrp="1"/>
          </p:cNvSpPr>
          <p:nvPr>
            <p:ph/>
          </p:nvPr>
        </p:nvSpPr>
        <p:spPr>
          <a:xfrm>
            <a:off x="4647960" y="1219320"/>
            <a:ext cx="3809880" cy="4876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 and understand how an awareness of cultural traditions can help in cross cultural communic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vents &amp; individuals by broadly defined historical eras &amp; develop related timelin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evidence to support, identify, analyze causal factors contributing to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quiry &amp; Research Skills</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key words, develop search strategies, locate sources, distinguish between primary &amp; secondary sourc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relevant facts &amp; ideas; evaluate bias of sources; classify info as fact/opin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notes, paraphrase, summarize, enter dat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product that uses content to support findings, present product to audience</a:t>
            </a:r>
            <a:endParaRPr b="0" lang="en-US" sz="2400" spc="-1" strike="noStrike">
              <a:solidFill>
                <a:srgbClr val="000000"/>
              </a:solidFill>
              <a:latin typeface="Times New Roman"/>
            </a:endParaRPr>
          </a:p>
        </p:txBody>
      </p:sp>
      <p:sp>
        <p:nvSpPr>
          <p:cNvPr id="56" name="PlaceHolder 3"/>
          <p:cNvSpPr>
            <a:spLocks noGrp="1"/>
          </p:cNvSpPr>
          <p:nvPr>
            <p:ph/>
          </p:nvPr>
        </p:nvSpPr>
        <p:spPr>
          <a:xfrm>
            <a:off x="4647960" y="1294920"/>
            <a:ext cx="380988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e in delegating duties, establishing rules, planning, making decisions, taking action in group setting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appropriate people to gain needed information, ask question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dvantages &amp; disadvantages, suggest alternative solutions, predict probable consequenc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struct &amp; express others’ points of vie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Student Products or  Performances in Detail; Develop Prompt</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just arrived at the site and each member of the group has been assigned to do reconnaissance.  </a:t>
            </a:r>
            <a:endParaRPr b="0" lang="en-US" sz="28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geographic features do you note?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topography?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do you think the site is located? How do you know?</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weather like?  Is it changing? </a:t>
            </a:r>
            <a:endParaRPr b="0" lang="en-US" sz="20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hallenges do you think the environment will cause for your grou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 record of the environment in your journal</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frieze create a site map showing key elements of the topography</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 what challenges the environment is causing or will cause for your gro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Scoring Rubric</a:t>
            </a:r>
            <a:endParaRPr b="0" lang="en-US" sz="3600" spc="-1" strike="noStrike">
              <a:solidFill>
                <a:srgbClr val="000000"/>
              </a:solidFill>
              <a:latin typeface="Times New Roman"/>
            </a:endParaRPr>
          </a:p>
        </p:txBody>
      </p:sp>
      <p:graphicFrame>
        <p:nvGraphicFramePr>
          <p:cNvPr id="60" name=""/>
          <p:cNvGraphicFramePr/>
          <p:nvPr/>
        </p:nvGraphicFramePr>
        <p:xfrm>
          <a:off x="685800" y="1295280"/>
          <a:ext cx="7772400" cy="16482960"/>
        </p:xfrm>
        <a:graphic>
          <a:graphicData uri="http://schemas.openxmlformats.org/drawingml/2006/table">
            <a:tbl>
              <a:tblPr/>
              <a:tblGrid>
                <a:gridCol w="1676520"/>
                <a:gridCol w="1523880"/>
                <a:gridCol w="1463760"/>
                <a:gridCol w="1554120"/>
                <a:gridCol w="1554120"/>
              </a:tblGrid>
              <a:tr h="96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Friez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ar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art elements into artistic compositions: value, space, color, texture, perspective, line, shading, shadow, sha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ve use &amp; representation of many elements; shows personal investment, variety of techniques, artwork includes all criteria, info is neat, organiz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mp; representation of some elements of art; project is complete &amp; organized; exemplifies knowledge of basic design of elements of 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least 1 element of art represented; work is complete but lacks detailed representation of info;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r minimal use of elements of art; work is unorganized and untidy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t work is incomple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reativity, originality  and imagin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wide variety of art elements. &amp; frieze accurately represents the to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various art elements &amp;product is mostly accurate in representing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some art elements &amp; product is partially accur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few art elements &amp; product is not accur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data &amp; symbols to create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ritical elements are present plus one more: location, accuracy, reflect season, da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is correctly proportioned; depicts all major land features; 4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one of the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rtions are nearly correct; depicts ore than half of the major land forms; 3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two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s proficiency in one of thre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critical elements are pres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 proficiency in two or mor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 physical &amp; human features on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easily recognizable key &amp; compass used accurate topography 3 physical &amp; 3 human trai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multicultural perspectiv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cognizable; key or compass used; use of topography; some physical &amp; human traits; some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presented; inaccurate use of key or compass; topographic elements are apparent; minimal use of physical or human traits; minimal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not recognizable; no key or compass; little effort in topography; no physical or human traits; no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13:33:49Z</dcterms:created>
  <dc:creator>Gayle Y. Thieman</dc:creator>
  <dc:description/>
  <dc:language>en-US</dc:language>
  <cp:lastModifiedBy>Gayle Thieman</cp:lastModifiedBy>
  <dcterms:modified xsi:type="dcterms:W3CDTF">2008-02-20T16:27:12Z</dcterms:modified>
  <cp:revision>14</cp:revision>
  <dc:subject/>
  <dc:title>Constructing an Authentic Assessment</dc:title>
</cp:coreProperties>
</file>