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3EF-F343-4725-A01A-FC9B1202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C47-76F3-4680-992D-D4C33819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E5A-0E38-43E5-B789-61D3DEBE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907-04A5-4F21-B28E-FF99C54D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A32-3FA6-4538-892A-4D0F2F1B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424-8A58-4205-A44C-2AB4587F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1B91-64A2-4125-86DE-41EDB15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9E5-51F7-40A0-9908-36101D1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848-91C5-47EA-BD2E-547B5403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DB28-9363-4D76-B037-478EF248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DCDE-1828-4512-ABAD-6A8BC1D5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A5A-CB43-4D69-B6BE-7DC08E3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2218-A9F1-4C2B-9D5C-1FE1AA6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EB9-C73A-4F37-AF41-A4BF741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17ED-628E-41E7-9BF2-DC067055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28FA-A98C-49AF-B749-EAB54F7C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F326-564C-41A3-A9ED-DBF5854A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A6EE-FDE4-42B2-9A06-2A1AD738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6444-E431-4B8B-AE2A-D6978A58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39E2-9E8A-48DA-A30D-464550A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7C60-01CD-479A-A883-EAB8C4F4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290F-2716-419D-B687-A66CE67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F9D-EE2F-4866-9F14-4A109A2A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DD6B-443B-4510-8886-22A9DF62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C38F9-D7C7-4686-9581-7D226CD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88D9-C3B1-4CF8-89F2-F7BF890C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CDFDB-F37E-47BE-AAF4-BD92A7D8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1122-895D-47F1-9A0A-1E2ADE5A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D388-5C28-47AD-B178-DF68703B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FE6F-52CF-40ED-9CFA-A05251D0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A4E5-2322-416A-8EA2-83504F6D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6CE1-0FEE-43DD-A91B-A93E793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A6C8-1864-4EAF-BAFE-D2E08BB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537-9224-4A36-900E-7E7C38D0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ADB7E-10D1-4518-BB3E-6C6D95B0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EFEC9-2CE0-4B0E-8948-DB40214F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9B28-E0BF-4DBE-A645-F139FDC2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13D4-D2FC-43A8-8BC0-0A2929A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AA90-1B22-4D14-895F-77FB1A2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B55D-48E3-424C-8886-A75BF69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DEEB-2707-4758-BD9A-6743AC9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CFF1-2446-4D72-87EC-CFA4E689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C1BEA-9D91-4F9E-A99C-FAE9467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9DB-6FF9-4D84-8D37-1D37DF69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B67-D5FC-4D83-BA18-82C81132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F41-0F55-4DF5-BF19-75326FC3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8A9-B21E-4866-A219-28D6EB7C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F03-1DD6-417A-8917-21CD2E1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DF07-277C-42C2-AAC7-4E005057E9F1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FFA0-E87D-4CD2-A5C4-123CEAC960A5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ED9E-75D2-49BE-AE37-D0CB62CE6E97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8984-1044-4CFD-8A90-3D54996C20BA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AAEE-772C-4AF4-87A5-334436ADC1C5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DA1-5EE4-4AA6-A651-0F5BD69CEAD7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C278-9583-4D90-9EE8-483DCF47A2C7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509-E536-4AC5-B864-9D7252AA7906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4-01-30T19:10:17Z</cp:lastPrinted>
  <dcterms:modified xsi:type="dcterms:W3CDTF">2014-01-30T19:12:58Z</dcterms:modified>
  <cp:revision>73</cp:revision>
  <dc:subject/>
  <dc:title>What Work Samples Reveal  about Preservice Teachers’  Use of Literacy Strategies</dc:title>
</cp:coreProperties>
</file>