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D36-A8C5-49A3-A833-00185680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FFC-5C2F-4503-A58B-E338451D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8C8-D123-4868-83B3-2AD62E8C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A40-DB73-4F4D-ACC5-4241D5D1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BECB-0996-45C2-8253-95C2516B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C8C4-2C3C-4D79-8353-4AAEDB3B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F3C9-9A55-4BE5-A341-669C116B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12A8-1738-4E46-8080-93DE3DEB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474B-8464-4078-B621-416DAC59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5D7A-F99A-4989-89D5-B840D9D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2CBC-82D1-4DFF-A131-151F9A0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A2A-8DCD-4F21-9A51-27EA4D26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E39C-588B-4A36-A2E0-EC1F066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3606-898E-4199-9737-D2E8CEFD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7E1C-8703-42F4-8EFA-F158CF53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2252-7D24-4FDD-9163-A2A86A92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4277-FBA3-4297-BCC8-F250602D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6C58-87E8-43DB-BF4C-7F463365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EE0F-478E-4759-97E5-F7790078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61D3-ED3F-463F-AF5A-80B218C0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A05B-CB42-4D44-BC67-56C33782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4E21-5929-4799-86AD-B00D801B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F6D-8599-4800-A3EF-F4CD889B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FE92-8602-4F75-9F36-8D854CF9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36F0-D4D7-4AA3-9CA8-DDC4255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B76B-EE14-4991-9725-272C6C7F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61A3-6645-401A-88A6-65EDABF6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320D-18F3-4189-8D44-4ABEF298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2AE6-268C-4B11-9612-41115F0A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9390B-120F-4821-9A72-7245C6AB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2C52-651B-4CCF-9863-F299EDBC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2338-39FB-4B30-8DEC-DA956ADB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5A279-7692-443D-ADE1-F052743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14A-AE88-4DF1-80F7-F2584270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D5AA-1767-462A-B88E-51691D50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E3D03-3D6F-4E6E-8BF7-C650D1DA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D302-AF6D-4B97-AB57-4345BFEA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AD2F-ED6B-4CB8-A2E7-C301D0E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4D9D-6877-41E3-B9C2-AA76751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9812-6D2D-4BEB-B111-C365D09F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D822C-C730-4672-B999-C9C76B95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F20B-A668-4BCA-B20F-09393EDC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BA63-A073-45B8-9E51-B87022A2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23A-B655-45E3-BE9E-B33A1361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B68-0059-44C0-AA9D-251F0550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77E-8A6C-4083-83F1-296278C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6BA-CB85-4F86-967B-470E55AD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88F-3EEB-41B0-8EA6-CB00FACB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3380-4A22-4F60-BDD5-D59AD81757B2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507-E827-4E12-9059-13AA22AEC2B7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4DA3-56D4-4FB6-A5F4-C8287FACAD9B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CDEF-2502-452B-A1EB-261BCC33A560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EF3F-0649-401F-AC9A-15F5742701D6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38FC-9F51-4573-824E-5505E0D62998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F3A0-5316-4212-AD3C-CF64BF55F288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8776-3264-451E-A7DA-2F2662260E67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moted Higher Order/Historical Think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mary Source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political cartoons, paintings, maps, charts, graphs, images, songs, politic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ive asse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ry quilt, historical avatar, multimedia presentations, position statements, debates, essays, pos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ed to the unit essential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have people changed America to make it a better plac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can we ensure social justice for everyon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do governments balance pow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a nation be built inside another nation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ught backgrou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pictur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predictions &amp; develop hypotheses based on rea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er order thinking questions challenged students to think crit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evidence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and ci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524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-ch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.O.A.P.S.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1676160"/>
            <a:ext cx="4038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ta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on to the 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Increasingly complex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" y="1980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’s taught students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prior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er order thinking (HO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graphic organiz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summa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conn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, fil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, draw pi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, develop hypothe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, Venn, T-charts, SOAPS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ell notes , opin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emporary reforms/local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1-30T19:10:17Z</cp:lastPrinted>
  <dcterms:modified xsi:type="dcterms:W3CDTF">2014-01-30T19:12:58Z</dcterms:modified>
  <cp:revision>73</cp:revision>
  <dc:subject/>
  <dc:title>What Work Samples Reveal  about Preservice Teachers’  Use of Literacy Strategies</dc:title>
</cp:coreProperties>
</file>