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B5AE-43F2-413F-87B0-8AF801573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A13A-A8A1-4141-8CD3-BEB9C931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D49F-F1CA-4D5A-9B1F-DDF8AE84D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A66C-4F9F-4F0A-9843-AA885EB30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61C6-2FFE-4257-ABEF-57FE94D43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0808-FDDF-43D5-AC35-8C573629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CBBC-6246-45B7-9879-F01FEAF1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394E-5D0A-491A-ADBF-66F5F364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79BF-8D45-4220-84E4-87D5E2D8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4326-E1FF-41FC-B246-801673D4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1167-987C-4CCB-9CBA-4AAB3C8B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330A-7337-41F9-B3E6-F1B4CB84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C282-51A0-454C-8353-80BD2503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51F1-E7AF-4CE7-9AB6-DD3F151F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7402-1027-4594-AB3C-55F6D57C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58B9D-9672-4616-8A5A-071FFDFB2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CAD6-DFAF-4DC2-BA7A-120768F2B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2CD87-5A7A-4749-8A3B-00979DAE0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1FAC5-3EA0-49AF-A9E1-A0EF2209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B235D-A8A7-4AE7-A0B8-14963769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7660F-EEAE-4C41-80F0-F075E462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66B77-0A7E-4F19-8041-2A0E795C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5695-4636-4426-9B65-16EAA4DB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8912A-876C-4A4A-96C4-5591BDD9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3E512-378F-4762-B363-2418344C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52AAA-0C9D-4C34-A38B-DBA4727C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730EA-54F6-4967-AABE-FBA54889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53802-793C-40CE-938B-78FABE9A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24665-3305-4115-B2F8-8F7A61246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8369C-5332-4D37-A9CB-D6A9788E2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6AC75-EF04-4CAB-9E5A-57FBFAEE0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A2EB0-8850-4B3D-8D7F-2A6B1420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FF366-BDCB-473A-B082-42DF3DAF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36BA-BE7B-4264-A24F-1C80A46F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2DEB3-B003-4326-905B-E5A47861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D30C2-CE79-4F8F-B8B1-715FAF6F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D330E-C979-47AD-96B8-FF972415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DC18C-94D3-4EB0-93F7-6B5CFC6D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4FC52-B2CA-45A2-8DDB-EA304A1A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A36FE-37EF-4EC1-B6C2-5FCB677E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732DE-7D9F-4427-BD3C-D008615C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53DB0-29AE-4AC7-B084-243FBD764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21EDE-754E-4C45-AFFD-4A479B93D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E019-D88D-4317-87C6-C56CB597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F155-309B-462E-99D9-AB0FA58E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339F-AE5B-4F07-BE42-B2E481D6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FDBB-DEC3-42C0-AFBC-0510AE12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A97B-E303-4E14-BBFC-14C57383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6DA5-9EEA-496E-B4DC-3A4928614B3A}" type="datetime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58B0-393F-4FA2-AA54-591DE5CC418B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0510-4BD5-408D-9A11-5A669B663C27}" type="datetime"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51A9-BA7C-4D98-9400-1E390A2F092E}" type="slidenum"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4771-89E8-499C-A224-ADCC6AC91302}" type="datetime"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F4FE-3FD0-4BD4-BD36-49B3C4057A8D}" type="slidenum"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289A-E623-4664-9AE5-8F7969A43C91}" type="datetime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DD19-8EEC-48C3-B354-22A2363C511E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iteracy Strategies (Lee &amp; Spratley, 2010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tivate prior knowled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ild vocabula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knowledge of text structures and genres to predict main ide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se relevant ques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 claims across tex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aluate evid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iteracy in Social _x0013_Studies  (NCSS, 2010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8284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quence ev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fferentiate fact vs. opin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 similarities and differ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alyze cause and effe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plore complex patter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48320" y="1828440"/>
            <a:ext cx="39621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aluate sources for credibility and validit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variety of media to access, create, and present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rpret and analyze diverse historical and contemporary perspecti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ower DOK level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0512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 Rec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bel ma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fine vocabula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call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ke no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w represent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llustr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I Skill/Concep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y patter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mmarize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ke predi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ganize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are/contra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use/effe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erpret historical docu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ronolog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Higher DOK Level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II Strategic Think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alyze consequen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valuate policy propos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velop logical argu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w conclus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ite Evide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V Extended Think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ynthesize information from multiple sour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reate new understanding through analysis, synthesis, critique, application of concepts in novel way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Promoted Higher Order/Historical Thinking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mary Source 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erpret political cartoons, paintings, maps, charts, graphs, images, songs, political docu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reative assess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ory quilt, historical avatar, multimedia presentations, position statements, debates, essays, post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nked to the unit essential ques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ow have people changed America to make it a better place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ow can we ensure social justice for everyone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ow do governments balance power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Can a nation be built inside another nation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Used Literacy Strategies to Scaffold Instruc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ild prior knowled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ournal promp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ught background knowled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ole class discuss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ach vocabula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context cl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w pictur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ke predictions &amp; develop hypotheses based on read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igher order thinking questions challenged students to think critical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 evidence across tex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aluate and cite evid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Used Literacy Strategies to Scaffold Instruc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752480"/>
            <a:ext cx="4038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aphic organiz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ord web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enn diagra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-char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.O.A.P.S. protoc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imeli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arison ch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W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0" y="1676160"/>
            <a:ext cx="403848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mmarize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tetak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y patter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mpare/contras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ause/effec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 logical argu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nection to the pres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Used Increasingly complex literacy strategi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28600" y="198072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C’s taught students to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ccess prior knowled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crease vocabula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higher order thinking (HO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velop graphic organiz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rite summar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ke conne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ournal prompts, fil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context clues, draw pictu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ke predictions, develop hypothe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ord webs, Venn, T-charts, SOAPS protoc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rnell notes , opin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temporary reforms/local iss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2:58:48Z</dcterms:created>
  <dc:creator>sjlenski</dc:creator>
  <dc:description/>
  <dc:language>en-US</dc:language>
  <cp:lastModifiedBy>Gayle Thieman</cp:lastModifiedBy>
  <cp:lastPrinted>2014-01-30T19:10:17Z</cp:lastPrinted>
  <dcterms:modified xsi:type="dcterms:W3CDTF">2014-01-30T19:12:58Z</dcterms:modified>
  <cp:revision>73</cp:revision>
  <dc:subject/>
  <dc:title>What Work Samples Reveal  about Preservice Teachers’  Use of Literacy Strategies</dc:title>
</cp:coreProperties>
</file>