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FE6-D09C-4683-8057-99E2131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6CC-C9C5-4BBE-B55B-767A2401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BE5-136E-4AF3-B89A-B81E48D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5D0-436B-49EA-83DC-DFE96B5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2BE-84F5-4D18-A1BE-D644EE7B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0F3F-E195-4D5A-93AF-1228035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6B86-2838-4ACA-BBB1-32F26D9B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C848-2887-4C1B-85A6-E70664B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063B-D86E-43D5-90B7-87FB9931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F825-E7FC-4BF3-AAA1-A9FF6666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382-A4A9-4C74-ACFD-2F28C34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420-2F12-40B9-B021-054B407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3F9-7BB2-4E17-93EB-758DE74C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ACD-C98A-437F-9C3B-997DED9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FC9-5D5C-42F5-8722-58922431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E471-3FD2-4BCF-A9CC-BB8F4F0D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43E-646C-4CCC-B4E1-FF7DF053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8FD6-2623-4796-B1D7-D6D4C523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C21D-C16F-463B-AB14-6D4388E8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1D7B-5D11-49A2-95D6-A29CE2E4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D2B7-9571-4D72-8EA0-AAFF461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FB1A-F9FD-4BAF-8D92-AA862AEE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98F-DB0E-4DF0-B46C-B7A6B0EB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FA32-42E5-4C88-B9BC-CCA38F7F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8673-602B-44FC-A5A9-2D7BC31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B8DE-9FC9-4ED3-ADB6-C09525BD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9C6A-1BE4-4DA2-A026-E24119A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4E6B-EB0D-4617-BCC4-BA68176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B908-1306-4305-9354-A6919A17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D542-64FB-4598-8444-1AA09951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CC64-1F25-404E-B65D-9995E9D1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43C8-DCCF-4CCC-95E7-00037228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71F7-0509-40DB-BD12-FC75FAB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8CB-4933-4AF5-9D9D-D6CCF6E9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7B1E-7F08-4466-8040-2526C2C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3C1B-E06E-491A-A5D7-06436885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D96D-EEE4-447E-A60C-543EEB9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3DFB-260C-4974-82D8-7F913FA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B655-CC56-43B0-B714-4FA9103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5EF9-237B-43E8-A22A-2BB66D8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91C2-9D2A-4602-9A87-839F3AA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54D6-CEC2-4CF3-AC44-22711929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E881-D516-4949-B9E3-7DB2FB9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E6F-7BCC-4CDC-B346-FF51BD7E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F95-2E4B-4600-B4B1-02808C8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A86-922D-492A-8DE7-0A5E18B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507-7BF8-4344-9A85-BD104C5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D03-0869-4F6D-B176-00BED25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3F4-3354-4245-AD9F-0EEE8A70CFC5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BA8-038C-4C43-AC4E-216E022169FC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3541-1197-478C-888A-972EC712858D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B711-706F-4C91-8B4C-A894C147BE30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414-69B3-4466-B154-48F4DC256F5C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EED-B85F-45BC-9A67-667A8568934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D132-10C3-4334-AE6B-B1CF06006731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4BF-91D9-4E83-BC88-6FF73B8F7B29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1-30T19:10:17Z</cp:lastPrinted>
  <dcterms:modified xsi:type="dcterms:W3CDTF">2014-01-30T19:12:58Z</dcterms:modified>
  <cp:revision>73</cp:revision>
  <dc:subject/>
  <dc:title>What Work Samples Reveal  about Preservice Teachers’  Use of Literacy Strategies</dc:title>
</cp:coreProperties>
</file>