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5C5-00D0-4F95-97DE-13E1F3B5F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16D-DCA2-4794-98DB-17195CC927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53E-EE96-49C4-80AF-D72BEF948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A99F-0F0B-4477-A4DA-60AB4DCD4E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E0AE-1CF2-4757-8F43-B6ED28F75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E12E-C2D6-488A-8DAF-DFE3B7A42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D2A-C8B8-498F-8B10-3E97319665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B37E-A149-4D34-BD31-D7649A933D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284F-6737-495F-9764-3458E115A4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CBA-4F25-43A8-9C2A-76CF1AFCAD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BBD-5DA1-46CB-B195-D140B05FC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2A2-0D68-434A-BA28-784EE78D7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BFB0-CCB4-4EC0-B4AC-E6717A44D6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AD7-695A-499A-BE43-DF5BEC050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A576-21BB-4556-839D-B8A6426C4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CF4-E006-498C-982C-244D8A3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CE0-7905-4140-8310-0E225FA4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2EA-80F3-42B4-9DA2-74EFBA18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184-DBDB-469A-AA17-44E7E567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F1F-D574-475B-AE0E-BC26775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CF7-B30C-490A-B65D-A553EC4B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1B3-763E-4BA4-BC0D-75CEC01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CF4-DEA7-4586-89FE-6E013E0B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0D2-34C6-49DA-B242-E44F8D76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A8C-EE21-46DD-BDA2-09ADAD3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DDC-27CA-4A7E-8804-89E2E590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B27-71DF-483D-8A20-99A1F0D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3ADD-F7F3-4B00-8860-8538A2D2E7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Intermediate Elementary Grades (3-5)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elyn Maclea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mber Schwaig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ncy Ya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sa Godar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ra Tret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ly Kisamov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hare and Celebrate Knowledg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give students options of how to express new learning (e.g., create a puppet show, write a letter, or develop a mural with labels)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use rubrics that match and extend students' varied skills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allow students to work alone or in small groups on their produc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encouraging students to create their own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roduct assignments as long as the assignments contain required element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inese Elementary Educatio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omparis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lementary educ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1492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rt at 6yrs o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6yrs compulsory 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ee in tui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udents pay textbooks and other necessary fe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centage who enter: 98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jority are public sch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lnSpc>
                <a:spcPct val="12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uled by district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4" descr="images"/>
          <p:cNvPicPr/>
          <p:nvPr/>
        </p:nvPicPr>
        <p:blipFill>
          <a:blip r:embed="rId2"/>
          <a:stretch/>
        </p:blipFill>
        <p:spPr>
          <a:xfrm>
            <a:off x="5029200" y="2190600"/>
            <a:ext cx="2971800" cy="171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Picture 5" descr="i1mages"/>
          <p:cNvPicPr/>
          <p:nvPr/>
        </p:nvPicPr>
        <p:blipFill>
          <a:blip r:embed="rId3"/>
          <a:stretch/>
        </p:blipFill>
        <p:spPr>
          <a:xfrm>
            <a:off x="5029200" y="3962520"/>
            <a:ext cx="3048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ject and Schedu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W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s &amp; Craf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unch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a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Mus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hine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Social scienc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Hand Wr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Engli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KaiTi_GB2312"/>
                        </a:rPr>
                        <a:t>Comput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4400" y="1066680"/>
          <a:ext cx="4952880" cy="5851800"/>
        </p:xfrm>
        <a:graphic>
          <a:graphicData uri="http://schemas.openxmlformats.org/drawingml/2006/table">
            <a:tbl>
              <a:tblPr/>
              <a:tblGrid>
                <a:gridCol w="717480"/>
                <a:gridCol w="2009880"/>
                <a:gridCol w="2225520"/>
              </a:tblGrid>
              <a:tr h="39888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r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00 — 8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 Exerci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:20 — 9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10 — 9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:50 —10:1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ye exerc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:10 —10: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:05 — 11: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unch Break 11:40 a.m. --- 1:00 p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00 — 1: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en broadca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:30 — 2: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:20 — 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:10 — 3: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ter school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: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54" descr="xin_4920206062145109260353"/>
          <p:cNvPicPr/>
          <p:nvPr/>
        </p:nvPicPr>
        <p:blipFill>
          <a:blip r:embed="rId2"/>
          <a:stretch/>
        </p:blipFill>
        <p:spPr>
          <a:xfrm>
            <a:off x="5943600" y="685800"/>
            <a:ext cx="289548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5" descr="ij67i8mages"/>
          <p:cNvPicPr/>
          <p:nvPr/>
        </p:nvPicPr>
        <p:blipFill>
          <a:blip r:embed="rId3"/>
          <a:stretch/>
        </p:blipFill>
        <p:spPr>
          <a:xfrm>
            <a:off x="5943600" y="2629080"/>
            <a:ext cx="2895480" cy="217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msdages"/>
          <p:cNvPicPr/>
          <p:nvPr/>
        </p:nvPicPr>
        <p:blipFill>
          <a:blip r:embed="rId4"/>
          <a:stretch/>
        </p:blipFill>
        <p:spPr>
          <a:xfrm>
            <a:off x="5943600" y="4788000"/>
            <a:ext cx="29718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mental Hallma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demonstrate independenc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ink and work alone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Plan ahea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nderstand consequenc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onger attention span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Need to express selve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airness is important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iou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est limit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nse of community and larger world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Want to cooperate; need to be shown how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rect Instruc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y out all steps and goals ahead of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p-by-step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acher models, then steps in to correc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s with high level of dependence on teacher, moves to greater independ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ve Elements of Cooperative Learni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sitive Interdependenc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ink or swim together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ace-to-Face Interactio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promote each other's succes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dividual &amp; Group Accountabili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no hitchhiking! no social loafing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personal &amp; Small-Group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social skills must be taught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roup Process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earch has shown that cooperative learning techniqu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learning and academic achievemen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velop students' social skil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mote student self-esteem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 student reten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ependent Lear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3911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ing strong routi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supportive learning environm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e clear expectations and practice routines until embedd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fferentiated input for content and process based on interest and ab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 for cho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in often to support stud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are and celebrate finding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viding a Supportiv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ust that your students have the skills and desire to make good choices during independent work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eate routines and procedures that foster independent learning behaviors that become habits- describe desired behavior, model it, practice it, debrief it, practice untill ingrain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el establishing personal goals and self-monito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 stamina slowly over ti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ablishing Routin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make sure there are places in the room to work quietly and without distraction, as well as places that invite student collaboration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set clear guidelines for independent work that matches individual need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ing routines that allow students to get help when teachers are busy with other student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help students understand that some learners need to move around to learn, while others do better sitting quiet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iated Instru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ent Input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reading materials at varying ability level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esent ideas via various modalities (auditory/visual); (3) use reading buddies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meet with small groups to re-teach struggling learners, or to extend the thinking or skills of advanced learner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: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1) use tiered activitie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2) provide interest centers that allow choice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3) develop personal agendas based on needs and interests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4) offer a variety of supports for students who need them;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95240" indent="-3974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5) vary the length of time a student may take to complete a task based on need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32:52Z</dcterms:created>
  <dc:creator>NYCDOE</dc:creator>
  <dc:description/>
  <dc:language>en-US</dc:language>
  <cp:lastModifiedBy>Gayle Thieman</cp:lastModifiedBy>
  <dcterms:modified xsi:type="dcterms:W3CDTF">2009-06-09T03:49:47Z</dcterms:modified>
  <cp:revision>16</cp:revision>
  <dc:subject/>
  <dc:title> The Intermediate Elementary Grades (3-5)</dc:title>
</cp:coreProperties>
</file>