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0CBB-6CF2-4A4B-BD7E-D23F538B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2A92-7F35-4B80-995E-5A6BE32A1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D347-86B9-4B89-B8A1-599B62F878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57B-6359-42F3-B1EF-6C2F3F907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635D-9EFE-4854-8F83-0A86A29EB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F7AD-C678-4591-B750-2D67AE43D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C04-11CA-411A-9FA6-28C8F0C1D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1EBC-B43C-47ED-914A-655549FBF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98C5-3366-483A-B0B3-EBCC27C82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C83-E9AA-4644-AF49-891BBCF40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101-ABF7-4D45-A962-79B4F9D741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3C8A-0D55-4FBA-971C-448710B0C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087D-DE6F-4D95-89C2-F19997E490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6181-E548-4BF8-8364-5D294E8185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C981-4D30-4D00-9394-C67DE3E5D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5DB-9BD1-413F-85A4-3799169B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1DD-B357-40B7-BA25-48E16358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B4C-5EED-4E6E-8002-66EE72A8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432-FE06-4036-9D02-C5A9A4CE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1AB-6CBE-4CDD-8896-04826F5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ACE-C279-4707-93C9-9A6A08E6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F2C-1054-4676-9D8C-7A581A05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214-594F-4B1B-ADAD-F05B0D7C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361-9B9B-485F-B2BE-F669D0ED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DAF-C01E-469E-9900-344FD74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65D-ABC4-4ABD-9459-1E7920E1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11B-C97F-4F87-9E7E-A5E0F45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5EE9-77C3-41CC-8932-3689848DE8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Intermediate Elementary Grades (3-5)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lyn Maclea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mber Schwaig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ncy Ya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a Godar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ra Tret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ly Kisamov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are and Celebrate Knowledg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give students options of how to express new learning (e.g., create a puppet show, write a letter, or develop a mural with labels)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use rubrics that match and extend students' varied skills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allow students to work alone or in small groups on their produc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encouraging students to create their own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roduct assignments as long as the assignments contain required element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inese Elementary Educa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ompa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lementary educ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149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rt at 6yrs o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yrs compulsory 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e in tui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udents pay textbooks and other necessary fe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centage who enter: 98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jority are public scho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uled by district are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4" descr="images"/>
          <p:cNvPicPr/>
          <p:nvPr/>
        </p:nvPicPr>
        <p:blipFill>
          <a:blip r:embed="rId2"/>
          <a:stretch/>
        </p:blipFill>
        <p:spPr>
          <a:xfrm>
            <a:off x="5029200" y="2190600"/>
            <a:ext cx="2971800" cy="171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5" descr="i1mages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ject and Schedu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nch Br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Hand Wr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4400" y="1066680"/>
          <a:ext cx="4952880" cy="5851800"/>
        </p:xfrm>
        <a:graphic>
          <a:graphicData uri="http://schemas.openxmlformats.org/drawingml/2006/table">
            <a:tbl>
              <a:tblPr/>
              <a:tblGrid>
                <a:gridCol w="717480"/>
                <a:gridCol w="2009880"/>
                <a:gridCol w="2225520"/>
              </a:tblGrid>
              <a:tr h="3988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r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 — 8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 Exerci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20 — 9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10 — 9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50 —10:1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 exerc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:10 —10: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05 — 11: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nch Break 11:40 a.m. --- 1:00 p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00 — 1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en broadc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30 — 2: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:20 — 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:10 — 3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chool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: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54" descr="xin_4920206062145109260353"/>
          <p:cNvPicPr/>
          <p:nvPr/>
        </p:nvPicPr>
        <p:blipFill>
          <a:blip r:embed="rId2"/>
          <a:stretch/>
        </p:blipFill>
        <p:spPr>
          <a:xfrm>
            <a:off x="5943600" y="685800"/>
            <a:ext cx="289548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5" descr="ij67i8mages"/>
          <p:cNvPicPr/>
          <p:nvPr/>
        </p:nvPicPr>
        <p:blipFill>
          <a:blip r:embed="rId3"/>
          <a:stretch/>
        </p:blipFill>
        <p:spPr>
          <a:xfrm>
            <a:off x="5943600" y="2629080"/>
            <a:ext cx="2895480" cy="217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imsdages"/>
          <p:cNvPicPr/>
          <p:nvPr/>
        </p:nvPicPr>
        <p:blipFill>
          <a:blip r:embed="rId4"/>
          <a:stretch/>
        </p:blipFill>
        <p:spPr>
          <a:xfrm>
            <a:off x="5943600" y="4788000"/>
            <a:ext cx="2971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al Hallma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demonstrate independenc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ink and work alon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lan ahea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nderstand consequenc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onger attention span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eed to express selv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airness is important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iou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est limit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nse of community and larger worl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cooperate; need to be shown how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irect Instruc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y out all steps and goals ahead of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p-by-step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acher models, then steps in to correc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s with high level of dependence on teacher, moves to greater independ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67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ve Elements of Cooperative Learni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sitive Interdependenc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ink or swim together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ace-to-Face Interacti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promote each other's succes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dividual &amp; Group Accountabili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no hitchhiking! no social loafin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personal &amp; Small-Group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ocial skills must be taugh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roup Process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 has shown that cooperative learning techniqu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learning and academic achievemen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velop students' social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self-estee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rease student reten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ependent Learn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3911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blishing strong routi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a supportive learning 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e clear expectations and practice routines until embedd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fferentiated input for content and process based on interest and abilit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 for cho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in often to support stu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re and celebrate findin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viding a Supportive Enviro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ust that your students have the skills and desire to make good choices during independent work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eate routines and procedures that foster independent learning behaviors that become habits- describe desired behavior, model it, practice it, debrief it, practice untill ingrain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el establishing personal goals and self-monito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ild stamina slowly over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ablishing Routi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make sure there are places in the room to work quietly and without distraction, as well as places that invite student collaboration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set clear guidelines for independent work that matches individual need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ing routines that allow students to get help when teachers are busy with other studen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help students understand that some learners need to move around to learn, while others do better sitting quiet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iated Instru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ent Input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reading materials at varying ability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esent ideas via various modalities (auditory/visual); (3) use reading buddie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meet with small groups to re-teach struggling learners, or to extend the thinking or skills of advanced learner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tiered activitie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ovide interest centers that allow choice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 personal agendas based on needs and interest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offer a variety of supports for students who need them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5) vary the length of time a student may take to complete a task based on need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32:52Z</dcterms:created>
  <dc:creator>NYCDOE</dc:creator>
  <dc:description/>
  <dc:language>en-US</dc:language>
  <cp:lastModifiedBy>Gayle Thieman</cp:lastModifiedBy>
  <dcterms:modified xsi:type="dcterms:W3CDTF">2009-06-09T03:49:47Z</dcterms:modified>
  <cp:revision>16</cp:revision>
  <dc:subject/>
  <dc:title> The Intermediate Elementary Grades (3-5)</dc:title>
</cp:coreProperties>
</file>