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DCE3-7F0C-4C3A-968E-3F13284F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4A9C-6536-4842-9E56-B1E8FC1EC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0AE2-B85F-4ACF-B35F-6448FE751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91C8-959D-4AD2-86B7-EEF2859DC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8DEB-6B28-4F91-9798-85F33AC842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9BD4-C87E-4345-A073-6C0E629E10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7C51-6728-4B98-A0CD-4F2D7C5914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84B4-EE11-4140-A1DF-6874E8C56E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4B0F-BB07-4FFF-8E4A-844DB42435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3470-BB04-4295-807C-7B875954BD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D6B-A6CB-47F0-ACDB-C083E104CC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6C5-3FD4-477E-B7E2-CDBD2DFBB2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C6FC-F4B3-441B-AE83-BC830DBB33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E5F0-69FA-44AD-9C57-B19EE544F1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A6D0-1AAF-4CB5-9EF9-6C4F0BC722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E3F-F983-4DF3-B1DF-8230E0C0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FF6-67A8-47BF-BDBF-F74AA3F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572-18D4-4D9C-B602-1DF93B4F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99B-ED46-4848-B097-6E32E794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9EF-0645-433D-B3A7-DA34F48E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903-98A1-4578-8019-4392CF8C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1D2-9A55-4890-8711-31751393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0D2-3D69-4638-AD9D-59C79F31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50A-7ACF-4AD4-B3BF-67B06DFE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9B5-7835-4216-B00C-FFBC971F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D9C-8948-45A9-A7C7-0F6D38C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80A-178E-4FCB-85CF-C54985F7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FEEE-33B4-4FC7-8837-5967EF021D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Intermediate Elementary Grades (3-5)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elyn Maclea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mber Schwaig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ancy Ya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sa Godar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ra Tret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ly Kisamov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hare and Celebrate Knowledg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give students options of how to express new learning (e.g., create a puppet show, write a letter, or develop a mural with labels)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use rubrics that match and extend students' varied skills level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allow students to work alone or in small groups on their product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encouraging students to create their own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roduct assignments as long as the assignments contain required element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inese Elementary Educa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compa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lementary educ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1492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rt at 6yrs ol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yrs compulsory 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ee in tui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udents pay textbooks and other necessary fe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centage who enter: 98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jority are public scho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uled by district are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4" descr="images"/>
          <p:cNvPicPr/>
          <p:nvPr/>
        </p:nvPicPr>
        <p:blipFill>
          <a:blip r:embed="rId2"/>
          <a:stretch/>
        </p:blipFill>
        <p:spPr>
          <a:xfrm>
            <a:off x="5029200" y="2190600"/>
            <a:ext cx="2971800" cy="171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Picture 5" descr="i1mages"/>
          <p:cNvPicPr/>
          <p:nvPr/>
        </p:nvPicPr>
        <p:blipFill>
          <a:blip r:embed="rId3"/>
          <a:stretch/>
        </p:blipFill>
        <p:spPr>
          <a:xfrm>
            <a:off x="5029200" y="3962520"/>
            <a:ext cx="30481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ject and Schedu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1600200"/>
          <a:ext cx="8229600" cy="4651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Arts &amp; Craf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rts &amp; Craf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unch Br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us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us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Social scie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Social scie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Hand Wr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omput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omput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4400" y="1066680"/>
          <a:ext cx="4952880" cy="5851800"/>
        </p:xfrm>
        <a:graphic>
          <a:graphicData uri="http://schemas.openxmlformats.org/drawingml/2006/table">
            <a:tbl>
              <a:tblPr/>
              <a:tblGrid>
                <a:gridCol w="717480"/>
                <a:gridCol w="2009880"/>
                <a:gridCol w="2225520"/>
              </a:tblGrid>
              <a:tr h="3988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r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00 — 8: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 Exerci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20 — 9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10 — 9: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50 —10:1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 exerc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:10 —10: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:05 — 11: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nch Break 11:40 a.m. --- 1:00 p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00 — 1: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en broadc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30 — 2: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:20 — 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:10 — 3: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school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: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54" descr="xin_4920206062145109260353"/>
          <p:cNvPicPr/>
          <p:nvPr/>
        </p:nvPicPr>
        <p:blipFill>
          <a:blip r:embed="rId2"/>
          <a:stretch/>
        </p:blipFill>
        <p:spPr>
          <a:xfrm>
            <a:off x="5943600" y="685800"/>
            <a:ext cx="2895480" cy="19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5" descr="ij67i8mages"/>
          <p:cNvPicPr/>
          <p:nvPr/>
        </p:nvPicPr>
        <p:blipFill>
          <a:blip r:embed="rId3"/>
          <a:stretch/>
        </p:blipFill>
        <p:spPr>
          <a:xfrm>
            <a:off x="5943600" y="2629080"/>
            <a:ext cx="2895480" cy="217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6" descr="imsdages"/>
          <p:cNvPicPr/>
          <p:nvPr/>
        </p:nvPicPr>
        <p:blipFill>
          <a:blip r:embed="rId4"/>
          <a:stretch/>
        </p:blipFill>
        <p:spPr>
          <a:xfrm>
            <a:off x="5943600" y="4788000"/>
            <a:ext cx="2971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mental Hallmark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ant to demonstrate independence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ink and work alone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lan ahead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nderstand consequence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onger attention span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eed to express selve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airness is important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iou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est limit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ense of community and larger world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ant to cooperate; need to be shown how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irect Instruc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y out all steps and goals ahead of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p-by-step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acher models, then steps in to correc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s with high level of dependence on teacher, moves to greater independ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677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ve Elements of Cooperative Learni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sitive Interdependence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sink or swim together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ace-to-Face Interactio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promote each other's succes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dividual &amp; Group Accountabilit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no hitchhiking! no social loafin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personal &amp; Small-Group Skil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social skills must be taugh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roup Process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earch has shown that cooperative learning techniqu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 student learning and academic achievemen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velop students' social skil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 student self-esteem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rease student reten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dependent Learn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39116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ablishing strong routi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ide a supportive learning 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e clear expectations and practice routines until embedd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fferentiated input for content and process based on interest and abilit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 for choi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 in often to support stud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are and celebrate finding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viding a Supportive Environ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3000"/>
          </a:bodyPr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ust that your students have the skills and desire to make good choices during independent work ti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reate routines and procedures that foster independent learning behaviors that become habits- describe desired behavior, model it, practice it, debrief it, practice untill ingrain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del establishing personal goals and self-monitor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ild stamina slowly over ti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tablishing Routin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make sure there are places in the room to work quietly and without distraction, as well as places that invite student collaboration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set clear guidelines for independent work that matches individual need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developing routines that allow students to get help when teachers are busy with other student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help students understand that some learners need to move around to learn, while others do better sitting quietl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fferentiated Instru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lvl="1" marL="795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ent Input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use reading materials at varying ability level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present ideas via various modalities (auditory/visual); (3) use reading buddie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meet with small groups to re-teach struggling learners, or to extend the thinking or skills of advanced learner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use tiered activitie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provide interest centers that allow choice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develop personal agendas based on needs and interest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offer a variety of supports for students who need them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5) vary the length of time a student may take to complete a task based on need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32:52Z</dcterms:created>
  <dc:creator>NYCDOE</dc:creator>
  <dc:description/>
  <dc:language>en-US</dc:language>
  <cp:lastModifiedBy>Gayle Thieman</cp:lastModifiedBy>
  <dcterms:modified xsi:type="dcterms:W3CDTF">2009-06-09T03:49:47Z</dcterms:modified>
  <cp:revision>16</cp:revision>
  <dc:subject/>
  <dc:title> The Intermediate Elementary Grades (3-5)</dc:title>
</cp:coreProperties>
</file>