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F0E4-BFC3-4EA0-B356-7D395BFCA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0AE6-1C17-4635-AA5A-0C53ABA6F7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D838-0FBD-4D17-8ADE-FCA512CBD7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208B-4FE6-48F7-975E-574FD54836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D203-2D50-49E7-AB60-B3279B3EC1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5ED2-8E39-45EE-8707-7EA3998C70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902B-64C1-498F-9587-DE60F91EA2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C03C-5273-4EA6-8D65-EF69131222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6C57-F548-46F8-A2E5-AF2FC3A47D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1608-D606-4692-A293-E613CED418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D551-A8D0-44DF-B73B-A91EF3DEF6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1745-470C-451E-8D85-D7E38E08E8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3ACF-1411-4FFA-AE50-CE6E9A13F6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4775-5C1E-495C-88D5-970705AD77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7CD7-C948-4A2E-9A6A-E7414FE4C6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422-8FA7-424F-9AF9-FFE6A0F7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227-3802-4C61-82D6-2F3EE705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95F-AE26-4060-928A-9E03C85C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E1F-160A-4B21-B17D-2EE445EE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C05-0BD2-4CC3-AF4E-D25339D4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FBA8-C77D-445E-8F3B-3C33BB5C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E06-E5C6-436D-AF9A-7A343BDF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B51-0397-4798-9310-E7139FB4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8F4-FB25-4A2E-80DE-E9681D73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478-7FFD-4CFD-8645-D4BFB550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E88-14ED-4F5D-A017-41C272DE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6B7-7BF2-456D-AAA3-CD5AD36E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4320" indent="-19872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392120" indent="-19872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789920" indent="-19872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16E1-8166-4139-AD4E-C9AB7330C17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Intermediate Elementary Grades (3-5)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velyn Maclea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mber Schwaig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ancy Ya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sa Godar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ara Trett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ly Kisamov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hare and Celebrate Knowledg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1) give students options of how to express new learning (e.g., create a puppet show, write a letter, or develop a mural with labels)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2) use rubrics that match and extend students' varied skills level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3) allow students to work alone or in small groups on their products;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 encouraging students to create their own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independen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product assignments as long as the assignments contain required element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hinese Elementary Educa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comparis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lementary educa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1492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rt at 6yrs ol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yrs compulsory 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ee in tuitio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udents pay textbooks and other necessary fe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ercentage who enter: 98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jority are public scho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uled by district are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1" name="Picture 4" descr="images"/>
          <p:cNvPicPr/>
          <p:nvPr/>
        </p:nvPicPr>
        <p:blipFill>
          <a:blip r:embed="rId2"/>
          <a:stretch/>
        </p:blipFill>
        <p:spPr>
          <a:xfrm>
            <a:off x="5029200" y="2190600"/>
            <a:ext cx="2971800" cy="1710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" name="Picture 5" descr="i1mages"/>
          <p:cNvPicPr/>
          <p:nvPr/>
        </p:nvPicPr>
        <p:blipFill>
          <a:blip r:embed="rId3"/>
          <a:stretch/>
        </p:blipFill>
        <p:spPr>
          <a:xfrm>
            <a:off x="5029200" y="3962520"/>
            <a:ext cx="30481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ject and Schedul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1600200"/>
          <a:ext cx="8229600" cy="46512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Arts &amp; Craf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rts &amp; Craf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unch Bre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usi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usi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Social scienc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Social scienc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Hand Wr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omput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omput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4400" y="1066680"/>
          <a:ext cx="4952880" cy="5851800"/>
        </p:xfrm>
        <a:graphic>
          <a:graphicData uri="http://schemas.openxmlformats.org/drawingml/2006/table">
            <a:tbl>
              <a:tblPr/>
              <a:tblGrid>
                <a:gridCol w="717480"/>
                <a:gridCol w="2009880"/>
                <a:gridCol w="2225520"/>
              </a:tblGrid>
              <a:tr h="39888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.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r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:00 — 8: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 Exerci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:20 — 9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:10 — 9: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:50 —10:1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ye exerci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:10 —10: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:05 — 11: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nch Break 11:40 a.m. --- 1:00 p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.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:00 — 1: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en broadca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:30 — 2: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:20 — 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:10 — 3: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fter school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: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54" descr="xin_4920206062145109260353"/>
          <p:cNvPicPr/>
          <p:nvPr/>
        </p:nvPicPr>
        <p:blipFill>
          <a:blip r:embed="rId2"/>
          <a:stretch/>
        </p:blipFill>
        <p:spPr>
          <a:xfrm>
            <a:off x="5943600" y="685800"/>
            <a:ext cx="2895480" cy="1928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5" descr="ij67i8mages"/>
          <p:cNvPicPr/>
          <p:nvPr/>
        </p:nvPicPr>
        <p:blipFill>
          <a:blip r:embed="rId3"/>
          <a:stretch/>
        </p:blipFill>
        <p:spPr>
          <a:xfrm>
            <a:off x="5943600" y="2629080"/>
            <a:ext cx="2895480" cy="2176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6" descr="imsdages"/>
          <p:cNvPicPr/>
          <p:nvPr/>
        </p:nvPicPr>
        <p:blipFill>
          <a:blip r:embed="rId4"/>
          <a:stretch/>
        </p:blipFill>
        <p:spPr>
          <a:xfrm>
            <a:off x="5943600" y="4788000"/>
            <a:ext cx="29718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velopmental Hallmark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Want to demonstrate independence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ink and work alone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Plan ahead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Understand consequence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Longer attention span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eed to express selve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Fairness is important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uriou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est limit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ense of community and larger world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Want to cooperate; need to be shown how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irect Instruc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y out all steps and goals ahead of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p-by-step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acher models, then steps in to correc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rts with high level of dependence on teacher, moves to greater independ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677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ve Elements of Cooperative Learning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sitive Interdependence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sink or swim together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ace-to-Face Interactio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promote each other's succes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dividual &amp; Group Accountabilit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no hitchhiking! no social loafing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terpersonal &amp; Small-Group Skill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social skills must be taught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Group Process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earch has shown that cooperative learning technique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mote student learning and academic achievement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velop students' social skill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mote student self-esteem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crease student retentio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ndependent Learn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39116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stablishing strong routi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ide a supportive learning environ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e clear expectations and practice routines until embedd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fferentiated input for content and process based on interest and abilit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ow for choi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ck in often to support stud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are and celebrate finding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viding a Supportive Environ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3000"/>
          </a:bodyPr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ust that your students have the skills and desire to make good choices during independent work tim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reate routines and procedures that foster independent learning behaviors that become habits- describe desired behavior, model it, practice it, debrief it, practice untill ingrain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del establishing personal goals and self-monitor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ild stamina slowly over tim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tablishing Routin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1) make sure there are places in the room to work quietly and without distraction, as well as places that invite student collaboration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2) set clear guidelines for independent work that matches individual need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3) developing routines that allow students to get help when teachers are busy with other students;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 help students understand that some learners need to move around to learn, while others do better sitting quietl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fferentiated Instruc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lvl="1" marL="795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tent Input: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1) use reading materials at varying ability level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2) present ideas via various modalities (auditory/visual); (3) use reading buddies;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 meet with small groups to re-teach struggling learners, or to extend the thinking or skills of advanced learner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cess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1) use tiered activitie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2) provide interest centers that allow choice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3) develop personal agendas based on needs and interest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 offer a variety of supports for students who need them;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5) vary the length of time a student may take to complete a task based on need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0:32:52Z</dcterms:created>
  <dc:creator>NYCDOE</dc:creator>
  <dc:description/>
  <dc:language>en-US</dc:language>
  <cp:lastModifiedBy>Gayle Thieman</cp:lastModifiedBy>
  <dcterms:modified xsi:type="dcterms:W3CDTF">2009-06-09T03:49:47Z</dcterms:modified>
  <cp:revision>16</cp:revision>
  <dc:subject/>
  <dc:title> The Intermediate Elementary Grades (3-5)</dc:title>
</cp:coreProperties>
</file>