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C21-4146-45F1-A94A-44E2C645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35B-7100-4435-A8F5-2D847DF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817-BD47-45B5-B300-84ECB6E2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241-3BCB-49B6-A699-A29292D7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FB6-A655-4AC8-9AA4-01E8106A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D96-6A6F-4166-965E-455C721B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434-37AC-40D8-81F7-CB614AAE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267-705D-4431-BAEC-3A1F8CC4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E1B-9C30-4746-A336-A8FA0B9F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F4A-1270-431B-8862-38A8BFB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D3F-F63F-482C-84F0-4C59AB2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613-C741-4F9F-86AA-1CE8DF5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ED0-154C-4D9D-9914-B4E2194E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33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27432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286000"/>
            <a:ext cx="129564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952880"/>
            <a:ext cx="685800" cy="381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1447560"/>
            <a:ext cx="0" cy="990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1980720"/>
            <a:ext cx="91440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191120"/>
            <a:ext cx="106668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486400"/>
            <a:ext cx="24382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d by length of continuous engagement without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1911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not rewarded with tangible re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28195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s Autonomous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114300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 from forces inside individuals not from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on Process not Produ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72000" cy="25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2362320"/>
            <a:ext cx="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160" y="3657600"/>
            <a:ext cx="6858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191120"/>
            <a:ext cx="106668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4080" y="4267080"/>
            <a:ext cx="5335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62720" y="3428640"/>
            <a:ext cx="761760" cy="228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05520"/>
            <a:ext cx="32004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ffffff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gain content knowledge as well as how to create and find their own information    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952880"/>
            <a:ext cx="2514600" cy="173988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work together so everyone benefits – Collaboration for the common good 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743200"/>
            <a:ext cx="259092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abits of thought characterized by inquiry and reflection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19520"/>
            <a:ext cx="27432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ow to participate in a community, between individuals and between communities TOLERANCE, RESPECT,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81280" y="2638440"/>
            <a:ext cx="1981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60960" y="0"/>
            <a:ext cx="39830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3048120" y="1143000"/>
            <a:ext cx="761760" cy="380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981080"/>
            <a:ext cx="762120" cy="152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2666880"/>
            <a:ext cx="457200" cy="304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572000"/>
            <a:ext cx="7596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352320" y="4495680"/>
            <a:ext cx="68580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52280"/>
            <a:ext cx="289548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rough the strengths of stud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3048120" cy="18828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value learning that is communal, reciprocal and inter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34290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encompasses curriculum, content, learning context, classroom climate, student/teacher relationships, instructional techniques and performance assessm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DIM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962520"/>
            <a:ext cx="31240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with authentic knowledge about different ethnic group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AN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410080"/>
            <a:ext cx="27432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hat they can succeed and boosting their mor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MPO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392800"/>
            <a:ext cx="41148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develop knowledge and skills to become social critics who can make reflective decisions and implement them effectivel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505320"/>
            <a:ext cx="68580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8400" y="357120"/>
            <a:ext cx="48672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7000" y="1109520"/>
            <a:ext cx="4410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3400" y="1195560"/>
            <a:ext cx="747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88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6248520" y="1066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124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1424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668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71840" y="3428640"/>
            <a:ext cx="76212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8380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Inter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808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personal and Small Group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5812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iv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1337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276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2500200"/>
            <a:ext cx="4038480" cy="435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2362320" y="29718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67080" y="76176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514240" y="990720"/>
            <a:ext cx="68580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914400"/>
            <a:ext cx="9907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419720"/>
            <a:ext cx="7621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410080" y="1904760"/>
            <a:ext cx="129564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2952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 &amp; Produc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86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Student’s Re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049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7432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going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0552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  &amp; Content aligns to Educational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3886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is free of confus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819520"/>
            <a:ext cx="121932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657600"/>
            <a:ext cx="16765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2514600" y="2666520"/>
            <a:ext cx="76212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14:24Z</dcterms:created>
  <dc:creator>Cristi Mattias</dc:creator>
  <dc:description/>
  <dc:language>en-US</dc:language>
  <cp:lastModifiedBy>Cristi Mattias</cp:lastModifiedBy>
  <dcterms:modified xsi:type="dcterms:W3CDTF">2002-06-07T22:37:16Z</dcterms:modified>
  <cp:revision>3</cp:revision>
  <dc:subject/>
  <dc:title>Slide 1</dc:title>
</cp:coreProperties>
</file>