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5A1-618C-4838-AE60-DF840542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00E-F7DB-4185-8178-D426C1AB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653-9C50-42EE-907A-0ECDFFA7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BAB-20FA-4798-981F-FDDB7D46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6EA-9FEE-4115-B65D-70E780F1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E41-E31E-44E2-8310-4B2DD4E6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D33-9886-44D8-9855-6052EEE3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391-3D53-4FCC-BC66-18FBA51D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CCA-1B3E-4A57-8D4E-2C7A69BA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5E7-907D-48FB-B91E-775605E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356-FA0B-48DE-B74D-DEF63E6A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B55-169A-40BA-8AEA-B30E8E12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887B-1D9B-4530-92B4-42B6268FE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43360" cy="525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95480" y="274320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286000"/>
            <a:ext cx="1295640" cy="7621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4952880"/>
            <a:ext cx="685800" cy="3812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648320" y="1447560"/>
            <a:ext cx="0" cy="9903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1980720"/>
            <a:ext cx="91440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4191120"/>
            <a:ext cx="106668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5486400"/>
            <a:ext cx="243828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d by length of continuous engagement without r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419112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not rewarded with tangible re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281952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es Autonomous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1143000"/>
            <a:ext cx="20574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 from forces inside individuals not from wi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572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es on Process not Produ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572000" cy="2576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95680" y="2362320"/>
            <a:ext cx="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819160" y="3657600"/>
            <a:ext cx="6858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4191120"/>
            <a:ext cx="106668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24080" y="4267080"/>
            <a:ext cx="53352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562720" y="3428640"/>
            <a:ext cx="761760" cy="2286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05520"/>
            <a:ext cx="320040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ffffff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o gain content knowledge as well as how to create and find their own information     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952880"/>
            <a:ext cx="2514600" cy="173988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o work together so everyone benefits – Collaboration for the common good  JU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743200"/>
            <a:ext cx="259092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habits of thought characterized by inquiry and reflection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819520"/>
            <a:ext cx="2743200" cy="20142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how to participate in a community, between individuals and between communities TOLERANCE, RESPECT,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581280" y="2638440"/>
            <a:ext cx="19814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60960" y="0"/>
            <a:ext cx="398304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 flipV="1">
            <a:off x="3048120" y="1143000"/>
            <a:ext cx="761760" cy="3808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123720" y="1981080"/>
            <a:ext cx="762120" cy="1526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05320" y="2666880"/>
            <a:ext cx="457200" cy="3049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4572000"/>
            <a:ext cx="7596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352320" y="4495680"/>
            <a:ext cx="685800" cy="11430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52280"/>
            <a:ext cx="289548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rough the strengths of student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ID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3048120" cy="18828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helps students value learning that is communal, reciprocal and inter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24080"/>
            <a:ext cx="3429000" cy="20142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encompasses curriculum, content, learning context, classroom climate, student/teacher relationships, instructional techniques and performance assessment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LTIDIMEN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962520"/>
            <a:ext cx="312408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with authentic knowledge about different ethnic group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MANCIP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410080"/>
            <a:ext cx="27432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students that they can succeed and boosting their mora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EMPOW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392800"/>
            <a:ext cx="4114800" cy="146556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ing that helps students develop knowledge and skills to become social critics who can make reflective decisions and implement them effectively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NS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505320"/>
            <a:ext cx="68580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9880" y="1066680"/>
            <a:ext cx="2057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8400" y="357120"/>
            <a:ext cx="48672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7000" y="1109520"/>
            <a:ext cx="4410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3400" y="1195560"/>
            <a:ext cx="74772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0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886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6248520" y="10663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124080" y="1447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2428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1424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666880" y="34290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171840" y="3428640"/>
            <a:ext cx="762120" cy="7621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83808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 Inter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8088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personal and Small Group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58128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iv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1337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vidual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22860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276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05520" y="2500200"/>
            <a:ext cx="4038480" cy="4357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971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2362320" y="29718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267080" y="761760"/>
            <a:ext cx="0" cy="5331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514240" y="990720"/>
            <a:ext cx="68580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410080" y="914400"/>
            <a:ext cx="990720" cy="4572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4419720"/>
            <a:ext cx="76212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410080" y="1904760"/>
            <a:ext cx="129564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129528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ance &amp; Product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286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luate Student’s Real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049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ear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3352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entic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743200"/>
            <a:ext cx="2057400" cy="64260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going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5105520"/>
            <a:ext cx="2057400" cy="119124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ment tool   &amp; Content aligns to Educational E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3886200"/>
            <a:ext cx="2057400" cy="916920"/>
          </a:xfrm>
          <a:prstGeom prst="rect">
            <a:avLst/>
          </a:prstGeom>
          <a:gradFill rotWithShape="0">
            <a:gsLst>
              <a:gs pos="0">
                <a:srgbClr val="e4a0de"/>
              </a:gs>
              <a:gs pos="50000">
                <a:srgbClr val="000000"/>
              </a:gs>
              <a:gs pos="100000">
                <a:srgbClr val="e4a0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ment tool is free of confusing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2819520"/>
            <a:ext cx="1219320" cy="3045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3657600"/>
            <a:ext cx="1676520" cy="6858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172040" cy="4724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2514600" y="2666520"/>
            <a:ext cx="762120" cy="11430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14:24Z</dcterms:created>
  <dc:creator>Cristi Mattias</dc:creator>
  <dc:description/>
  <dc:language>en-US</dc:language>
  <cp:lastModifiedBy>Cristi Mattias</cp:lastModifiedBy>
  <dcterms:modified xsi:type="dcterms:W3CDTF">2002-06-07T22:37:16Z</dcterms:modified>
  <cp:revision>3</cp:revision>
  <dc:subject/>
  <dc:title>Slide 1</dc:title>
</cp:coreProperties>
</file>