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BCD-CFC2-412A-B461-4601A92A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B874-BA38-4371-982E-6CB9F3CB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DAE9-E6D2-4FF3-ABD5-442F4FE8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36F-945D-4AD4-A4B9-62655CFA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924-871F-417F-BB96-F0A8280E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C8BB-C699-48ED-8AD4-C3DE3FA3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EBC-E9F9-4B5F-BBE4-CAC7BD15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E178-C272-4C47-A44B-87B3142C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DB4-3893-45C5-A499-1B7E90E5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7AB1-91D8-4C80-A528-5817C169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7D5-C981-4439-A6F5-76FF82E2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B87-5332-4064-8CF7-9444AA04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10C9-258E-4C6F-98C0-6DA431F8D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43360" cy="5257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95480" y="2743200"/>
            <a:ext cx="1295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2286000"/>
            <a:ext cx="1295640" cy="7621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4952880"/>
            <a:ext cx="685800" cy="38124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648320" y="1447560"/>
            <a:ext cx="0" cy="9903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57800" y="1980720"/>
            <a:ext cx="914400" cy="6858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3352680"/>
            <a:ext cx="91440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4191120"/>
            <a:ext cx="1066680" cy="3045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5486400"/>
            <a:ext cx="2438280" cy="119124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ed by length of continuous engagement without re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419112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not rewarded with tangible re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0" y="281952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motes Autonomous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1143000"/>
            <a:ext cx="2057400" cy="119124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 from forces inside individuals not from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5720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cuses on Process not Produc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2057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572000" cy="2576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95680" y="2362320"/>
            <a:ext cx="0" cy="4572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819160" y="3657600"/>
            <a:ext cx="68580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4191120"/>
            <a:ext cx="1066680" cy="6858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124080" y="4267080"/>
            <a:ext cx="533520" cy="4572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562720" y="3428640"/>
            <a:ext cx="761760" cy="2286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05520"/>
            <a:ext cx="3200400" cy="146556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ffffff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to gain content knowledge as well as how to create and find their own information     FAIR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952880"/>
            <a:ext cx="2514600" cy="173988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to work together so everyone benefits – Collaboration for the common good  JU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2743200"/>
            <a:ext cx="2590920" cy="146556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habits of thought characterized by inquiry and reflection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819520"/>
            <a:ext cx="2743200" cy="20142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how to participate in a community, between individuals and between communities TOLERANCE, RESPECT,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581280" y="2638440"/>
            <a:ext cx="19814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60960" y="0"/>
            <a:ext cx="3983040" cy="3962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 flipV="1">
            <a:off x="3048120" y="1143000"/>
            <a:ext cx="761760" cy="38088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123720" y="1981080"/>
            <a:ext cx="762120" cy="15264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505320" y="2666880"/>
            <a:ext cx="457200" cy="3049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4572000"/>
            <a:ext cx="75960" cy="6858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352320" y="4495680"/>
            <a:ext cx="685800" cy="11430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152280"/>
            <a:ext cx="289548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through the strengths of student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ID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219320"/>
            <a:ext cx="3048120" cy="18828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that helps students value learning that is communal, reciprocal and inter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PREH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124080"/>
            <a:ext cx="3429000" cy="20142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that encompasses curriculum, content, learning context, classroom climate, student/teacher relationships, instructional techniques and performance assessment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ULTIDIMEN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3962520"/>
            <a:ext cx="3124080" cy="119124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with authentic knowledge about different ethnic group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MANCIP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5410080"/>
            <a:ext cx="2743200" cy="119124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that they can succeed and boosting their moral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EMPOW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392800"/>
            <a:ext cx="4114800" cy="146556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that helps students develop knowledge and skills to become social critics who can make reflective decisions and implement them effectively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NSFORM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3505320"/>
            <a:ext cx="685800" cy="4572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809880" y="1066680"/>
            <a:ext cx="2057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8400" y="357120"/>
            <a:ext cx="48672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7000" y="1109520"/>
            <a:ext cx="44100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16256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3400" y="1195560"/>
            <a:ext cx="74772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03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78868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flipV="1">
            <a:off x="6248520" y="106632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3124080" y="1447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724280" y="914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51424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666880" y="34290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6171840" y="3428640"/>
            <a:ext cx="762120" cy="7621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83808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itive Inter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38088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personal and Small Group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358128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motive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13372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22860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up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2767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105520" y="2500200"/>
            <a:ext cx="4038480" cy="4357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429000" y="1219320"/>
            <a:ext cx="2971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2362320" y="297180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267080" y="761760"/>
            <a:ext cx="0" cy="5331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514240" y="990720"/>
            <a:ext cx="685800" cy="3045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410080" y="914400"/>
            <a:ext cx="990720" cy="4572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4419720"/>
            <a:ext cx="762120" cy="6858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410080" y="1904760"/>
            <a:ext cx="1295640" cy="759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129528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formance &amp; Product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22860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luate Student’s Real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30492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ear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3352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hentic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274320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going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5105520"/>
            <a:ext cx="2057400" cy="119124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ssment tool   &amp; Content aligns to Educational Emph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34320" y="388620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ssment tool is free of confusing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2819520"/>
            <a:ext cx="1219320" cy="3045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3657600"/>
            <a:ext cx="1676520" cy="6858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172040" cy="4724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76720" y="1371600"/>
            <a:ext cx="2057400" cy="3124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>
            <a:off x="2514600" y="2666520"/>
            <a:ext cx="762120" cy="11430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14:24Z</dcterms:created>
  <dc:creator>Cristi Mattias</dc:creator>
  <dc:description/>
  <dc:language>en-US</dc:language>
  <cp:lastModifiedBy>Cristi Mattias</cp:lastModifiedBy>
  <dcterms:modified xsi:type="dcterms:W3CDTF">2002-06-07T22:37:16Z</dcterms:modified>
  <cp:revision>3</cp:revision>
  <dc:subject/>
  <dc:title>Slide 1</dc:title>
</cp:coreProperties>
</file>