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1DCD-2C12-4A6E-A04B-9F6D9E2A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FDCD-8AFB-4A98-A3EA-F9C5DC6B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CD7-777F-4C08-BA8F-BEC7C825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828-7DF5-4182-8B82-76CA925E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A62-DEB1-41E0-B867-9160816A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631-7BF1-4C55-A2AB-94E434FE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A42-6246-4EE2-90F7-774E4467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7D55-BBD2-4E94-9E4F-506A352D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7725-B52D-46AB-AD48-7F78F71A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025-217E-4078-B425-A7190BEA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C8E-C4E5-467B-9632-D13E3756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765-5936-471A-9E9D-C31CFF53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9477-8C1E-4289-95E3-0E8C25106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American Public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, economic, political, and social forces and their impact on schools 1600 to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colonial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with Europeans was minimal and focused mainly on trading.  Tribes were autonomous.  Hunter-gather economy based on the natural resources of  the are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children played games to develop knowledge and skills needed for success as ad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tialist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3809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0:55:03Z</dcterms:created>
  <dc:creator>Portland State University</dc:creator>
  <dc:description/>
  <dc:language>en-US</dc:language>
  <cp:lastModifiedBy>Portland State University</cp:lastModifiedBy>
  <dcterms:modified xsi:type="dcterms:W3CDTF">2008-04-25T01:07:55Z</dcterms:modified>
  <cp:revision>1</cp:revision>
  <dc:subject/>
  <dc:title>History of American Public Education</dc:title>
</cp:coreProperties>
</file>