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D98-1DEE-48D7-94B3-E6FAF8BB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800-C712-4023-A372-DA58A8B0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512-D689-4639-A937-C26F832E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253-F393-42A9-8C99-C2A922E0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39F-6424-4FC0-92CF-EBB1017F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464-2990-4FB2-A30A-0975A22D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634-2B1F-425F-B2E0-B7590038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8D8-05AD-4D72-9018-EFF2C845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E47-8BC7-479A-8824-F90FD9C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563-7EF5-481A-ACC9-B282E28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BF4-6289-4C30-BE3F-0805865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0EE-9710-40ED-B37A-4320D69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568-9AA0-4585-AE1C-DAEA5593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American Public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, economic, political, and social forces and their impact on schools 1600 to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onial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Europeans was minimal and focused mainly on trading.  Tribes were autonomous.  Hunter-gather economy based on the natural resources of  the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children played games to develop knowledge and skills needed for success as ad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tialis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0:55:03Z</dcterms:created>
  <dc:creator>Portland State University</dc:creator>
  <dc:description/>
  <dc:language>en-US</dc:language>
  <cp:lastModifiedBy>Portland State University</cp:lastModifiedBy>
  <dcterms:modified xsi:type="dcterms:W3CDTF">2008-04-25T01:07:55Z</dcterms:modified>
  <cp:revision>1</cp:revision>
  <dc:subject/>
  <dc:title>History of American Public Education</dc:title>
</cp:coreProperties>
</file>