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F35-B838-47BB-A863-80EDBA3D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E3A-2283-47D4-94A3-95EEF61E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E20-E36B-4BCF-AEC3-0B67A0A2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B61-C6E1-41A0-A2A0-CC9E9284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3A7-44B2-44D9-855E-19F35DE0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A4B-5B0E-456E-A1E4-27BBC340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B0D-1211-41A6-99A0-8EF7BDA2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D9F-1BC1-4F73-998D-9584FD13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6F6-7E10-4796-8F82-EA159AD9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A8D-8BD3-43CE-A107-90DF5A9C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F86-679F-4CAF-ABDA-B623FA28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DDA-CFC9-4CED-ABA7-E803BDE1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CF4A-87F7-4B74-BC4E-6C6D1536E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American Public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, economic, political, and social forces and their impact on schools 1600 to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onial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with Europeans was minimal and focused mainly on trading.  Tribes were autonomous.  Hunter-gather economy based on the natural resources of  the ar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children played games to develop knowledge and skills needed for success as ad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tialist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0:55:03Z</dcterms:created>
  <dc:creator>Portland State University</dc:creator>
  <dc:description/>
  <dc:language>en-US</dc:language>
  <cp:lastModifiedBy>Portland State University</cp:lastModifiedBy>
  <dcterms:modified xsi:type="dcterms:W3CDTF">2008-04-25T01:07:55Z</dcterms:modified>
  <cp:revision>1</cp:revision>
  <dc:subject/>
  <dc:title>History of American Public Education</dc:title>
</cp:coreProperties>
</file>