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C30-C8AA-4788-9F2D-B75A3668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6F7-ECBB-47B4-9E9F-A6A6E9EE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852-886D-4D7C-AD75-AC6E8C3D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71D-44A6-43AD-94CF-998AC776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D00-E874-4BA6-865C-78770B15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A12-D941-4A88-94E1-5AEBAAF9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CEF-D09F-4671-A2E9-6A248826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C51-C644-47E0-97FB-468B3927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530-149F-4BAB-8B7E-E229215F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A62-5B49-4FCA-8E2E-CA0EFA88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162-6E52-4E00-907F-628ED7FB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EDC-4DDF-411F-B221-530DF625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6630-5F20-4E19-87CC-E83ADF27A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American Public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, economic, political, and social forces and their impact on schools 1600 to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onial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with Europeans was minimal and focused mainly on trading.  Tribes were autonomous.  Hunter-gather economy based on the natural resources of  the ar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children played games to develop knowledge and skills needed for success as ad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tialist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0:55:03Z</dcterms:created>
  <dc:creator>Portland State University</dc:creator>
  <dc:description/>
  <dc:language>en-US</dc:language>
  <cp:lastModifiedBy>Portland State University</cp:lastModifiedBy>
  <dcterms:modified xsi:type="dcterms:W3CDTF">2008-04-25T01:07:55Z</dcterms:modified>
  <cp:revision>1</cp:revision>
  <dc:subject/>
  <dc:title>History of American Public Education</dc:title>
</cp:coreProperties>
</file>