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4.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35.jpeg" ContentType="image/jpeg"/>
  <Override PartName="/ppt/media/image30.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13.png" ContentType="image/png"/>
  <Override PartName="/ppt/media/image3.jpeg" ContentType="image/jpeg"/>
  <Override PartName="/ppt/media/image37.jpeg" ContentType="image/jpeg"/>
  <Override PartName="/ppt/media/image8.jpeg" ContentType="image/jpeg"/>
  <Override PartName="/ppt/media/image5.pct" ContentType="image/x-pict"/>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93F9-917C-46ED-AA87-BD1A57A3F3E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5F69-A762-4277-AFE7-7B13C692E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CCF7-89CD-4301-9CAD-7D8DE59B9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F18C-51BD-415A-B327-3D8DE9E17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4A06-8D8E-41D2-A8E2-B3E5F2649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7BAB-7EFF-41C3-870B-9ED07B8D8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0E76-6A37-4E30-89DD-1BC5F6582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1D11-916B-4A92-B353-1262DDC4D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9E6B-4C83-4109-B27D-E3B35487D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2540-AC40-4A71-95D6-E0F30B35E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FE2B-BAD1-49F6-81BA-684F2AEA7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162D-C770-4F63-BE6B-656967763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CCA8-3010-446B-B5C8-407A98797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0DD24-1182-4637-B136-50D259F29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1E070-E84C-493B-A55F-99F6EFD09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4263D-90E0-4266-8F88-C556AE24B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27F32-10AA-4E8F-BAD7-E863D720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D4FF4-783F-4A90-AA09-FA6EE42B4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295E1-A298-4864-92D2-F6C0C846B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944A6-1618-4288-AE65-6F35D0A35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A2F7B-3587-4027-A80D-686736D0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761EE-4E66-46AA-810D-DCA460F0F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2CA99-1C65-4CEC-97F1-792834C26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5B700-C9AC-4283-969A-5ADFB8A02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6B40-63F4-48FB-9336-53E0743E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8F28D-AE4E-421D-910D-69335BAE7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E3B83-E647-4853-93C9-0DDEA165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ACD35-08BA-414F-80C3-CB8A01060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65304-509D-41CB-9B82-79C770F78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9FAE9-A7E9-45CC-9273-4FC4FD3F1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432CA-BD6E-47A6-AA19-FED2BFFA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3F406-777E-4088-9583-AA0C4D1C7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569A-A3B3-457C-AEF0-86D973EFE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67AE5-09AA-4C85-AD89-B27174688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EA76-97F9-4BB2-BA28-EE12B3484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996A-C08A-4DFA-BE09-F1BE9F87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FCCE-4260-4559-AAFA-75C633E1B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2F95-A57A-424B-BCFD-6B8351CCA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3550-D8CC-4999-9C71-B8C3ADEBB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87000"/>
          </a:bodyPr>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moral ground” as the country was expanding.</a:t>
            </a:r>
            <a:endParaRPr b="0" lang="en-US" sz="14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the laboring and the learned”.</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Religion, mortality, and knowledge, being necessary to good environment and the happiness of mankind, schools and the means of education shall forever be encouraged.”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en-US" sz="1800" spc="-1" strike="noStrike">
                <a:solidFill>
                  <a:srgbClr val="020202"/>
                </a:solidFill>
                <a:latin typeface="Arial"/>
              </a:rPr>
              <a:t>“The father of Ed.”</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Common Schools.”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 functions are to prepare the “Elite Students”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27200" y="1447920"/>
            <a:ext cx="75441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01000" y="3809880"/>
            <a:ext cx="75643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769680" y="2819520"/>
            <a:ext cx="841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common experi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00640" y="4724280"/>
            <a:ext cx="79711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6480" y="1292400"/>
            <a:ext cx="5803920" cy="557208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s Sputnik puts emphasis on science, mathematics, and languages</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t until the cold war and the successful launching of Sputnik in 1957 by the Soviet Union that concern peaked with alarm that the United States’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War o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educationally deprived”(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de-regulate”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countercultur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74000"/>
          </a:bodyPr>
          <a:p>
            <a:pPr marL="253800" indent="-25380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en-US" sz="1800" spc="-1" strike="noStrike">
                <a:solidFill>
                  <a:srgbClr val="000000"/>
                </a:solidFill>
                <a:latin typeface="Arial"/>
              </a:rPr>
              <a:t>’s cover article “Why Johnny Can’t Writ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s Mastery Teaching Model used widely in the 1980’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proper”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Just Say No”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Sputnik momen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r”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ame schools”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Dame”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09-05-05T05:15:08Z</dcterms:modified>
  <cp:revision>53</cp:revision>
  <dc:subject/>
  <dc:title>History of American Public Education</dc:title>
</cp:coreProperties>
</file>